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6675-993A-4703-85C2-8D77C441FF7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2C84-5D4A-4E00-A4E0-2887FF1D26B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613C-794D-4EBD-B058-3D8BAEE7E07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A33-3964-4F67-BA57-2F4E55B0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AF4-5D74-47E2-A9E8-FAE45AA9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B4B-3C81-4647-A356-FCA86757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DD1-3413-426C-B183-EE95823B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260-EABA-4746-B75A-5370FF1B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35D-8D2F-48A3-BBDC-615FB780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919-6FC9-4C42-84F4-0B63F802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8BC-52F6-4182-9860-67BF8806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FBE-6024-4A4E-B76E-B3F84BFC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154-579C-4794-A5C9-5255A3A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180-A2E6-4DB6-9A7A-24C68D07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70E-9F3A-45DE-B565-F93892EA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D1B8-5192-42DB-9B9A-7173A0F24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Мониторинг качества образования по русскому язы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в 2016 – 2017 уч.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-76320" y="1271520"/>
          <a:ext cx="9144000" cy="55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271520"/>
                    <a:ext cx="9144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5142960" y="5259240"/>
            <a:ext cx="38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5381640" y="2666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6174000" y="18288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7004520" y="514188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7164360" y="25336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8056800" y="21528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ёнка</cp:lastModifiedBy>
  <cp:lastPrinted>2019-12-12T14:25:51Z</cp:lastPrinted>
  <dcterms:modified xsi:type="dcterms:W3CDTF">2019-12-12T14:26:1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