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4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11E-46C0-466D-80C7-107AE2C9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63F3-1522-40A2-B2C5-2A816CAD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5B1-24D3-45A2-9B2D-FA46489F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E6D-D99B-4297-B152-161FC696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31E1-330D-433F-A5FF-D17C52FC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0FEE-327E-4392-83A4-788C26EB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C24D-0FE8-401A-8B8C-76CC31D6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3DE0-632E-4809-BDB9-5CBC8179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9E6A-35D1-403E-90BF-27478F8B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060A-5FA3-4AD7-9A3A-CB5A418F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48C8-2EAE-4F4B-87CD-5E187EA5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20F-9EAF-4902-A1F2-8183E836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68D8-DA23-47B6-8C2B-082FEA83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0605-6B71-464D-91D6-3366243D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7AB5-FE14-4071-B375-2FEF4107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FDCB-E3AD-465F-A90A-5459D01C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A407-BAF2-41C4-BEF5-3A12502B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EBB5-F4AE-43B2-91F9-37CA14A7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3B69-AD59-4C06-B859-1C9BF04D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9A46-5B67-4574-B85F-E0438376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7558-3A74-472F-AFC1-E54684E0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307-5D63-480B-8ED0-6D96A86F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3D2-27B6-446A-A759-120BB28A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E711-6A14-4D84-9CEA-D05ED0C8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D2E8-69A5-4386-A1EC-532F576B743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B833-A2EA-4E47-AF68-44D159CEB31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" Target="slide28.xml"/><Relationship Id="rId9" Type="http://schemas.openxmlformats.org/officeDocument/2006/relationships/slide" Target="slide28.xml"/><Relationship Id="rId10" Type="http://schemas.openxmlformats.org/officeDocument/2006/relationships/slide" Target="slide28.xml"/><Relationship Id="rId11" Type="http://schemas.openxmlformats.org/officeDocument/2006/relationships/slide" Target="slide28.xml"/><Relationship Id="rId12" Type="http://schemas.openxmlformats.org/officeDocument/2006/relationships/slide" Target="slide29.xml"/><Relationship Id="rId13" Type="http://schemas.openxmlformats.org/officeDocument/2006/relationships/slide" Target="slide29.xml"/><Relationship Id="rId14" Type="http://schemas.openxmlformats.org/officeDocument/2006/relationships/slide" Target="slide29.xml"/><Relationship Id="rId15" Type="http://schemas.openxmlformats.org/officeDocument/2006/relationships/slide" Target="slide29.xml"/><Relationship Id="rId1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324000" y="404640"/>
            <a:ext cx="8353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Ы ВЫБИРАЕМ ПРОФЕССИЮ - 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blipFill rotWithShape="0">
                <a:blip r:embed="rId2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blipFill rotWithShape="0">
                  <a:blip r:embed="rId3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ФЕССИЯ ВЫБИРАЕТ НАС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blipFill rotWithShape="0">
                <a:blip r:embed="rId4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blipFill rotWithShape="0">
                  <a:blip r:embed="rId5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blipFill rotWithShape="0">
                <a:blip r:embed="rId6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6" name="Picture 6" descr="j0240719"/>
          <p:cNvPicPr/>
          <p:nvPr/>
        </p:nvPicPr>
        <p:blipFill>
          <a:blip r:embed="rId7"/>
          <a:stretch/>
        </p:blipFill>
        <p:spPr>
          <a:xfrm>
            <a:off x="3203640" y="2924280"/>
            <a:ext cx="1163520" cy="1827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j0240695"/>
          <p:cNvPicPr/>
          <p:nvPr/>
        </p:nvPicPr>
        <p:blipFill>
          <a:blip r:embed="rId8"/>
          <a:stretch/>
        </p:blipFill>
        <p:spPr>
          <a:xfrm>
            <a:off x="324000" y="3141720"/>
            <a:ext cx="1825560" cy="146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j0291984"/>
          <p:cNvPicPr/>
          <p:nvPr/>
        </p:nvPicPr>
        <p:blipFill>
          <a:blip r:embed="rId9"/>
          <a:stretch/>
        </p:blipFill>
        <p:spPr>
          <a:xfrm>
            <a:off x="5796000" y="4869000"/>
            <a:ext cx="1633680" cy="1728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j0292020"/>
          <p:cNvPicPr/>
          <p:nvPr/>
        </p:nvPicPr>
        <p:blipFill>
          <a:blip r:embed="rId10"/>
          <a:stretch/>
        </p:blipFill>
        <p:spPr>
          <a:xfrm>
            <a:off x="1692360" y="4869000"/>
            <a:ext cx="1868400" cy="177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j0297551"/>
          <p:cNvPicPr/>
          <p:nvPr/>
        </p:nvPicPr>
        <p:blipFill>
          <a:blip r:embed="rId11"/>
          <a:stretch/>
        </p:blipFill>
        <p:spPr>
          <a:xfrm>
            <a:off x="5219640" y="2924280"/>
            <a:ext cx="1195560" cy="1823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j0301252"/>
          <p:cNvPicPr/>
          <p:nvPr/>
        </p:nvPicPr>
        <p:blipFill>
          <a:blip r:embed="rId12"/>
          <a:stretch/>
        </p:blipFill>
        <p:spPr>
          <a:xfrm>
            <a:off x="6948360" y="306864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569080" cy="58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делайте в листе бумаги небольшое отверстие и посмотрите сквозь него двумя глазами на какой-либо предмет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очередно закрывайте то один, то другой глаз. Предмет смещается, если вы закрываете правый глаз или левый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9" descr="b05b0b9f963b"/>
          <p:cNvPicPr/>
          <p:nvPr/>
        </p:nvPicPr>
        <p:blipFill>
          <a:blip r:embed="rId1"/>
          <a:stretch/>
        </p:blipFill>
        <p:spPr>
          <a:xfrm>
            <a:off x="2124000" y="3068640"/>
            <a:ext cx="45356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. Станьте в «позу Наполеона», скрестив руки на груди. Какая рука оказалась сверху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4176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4000" y="333000"/>
            <a:ext cx="78483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пробуйте изобразить бурные аплодисменты. Какая ладонь сверху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8" descr="default"/>
          <p:cNvPicPr/>
          <p:nvPr/>
        </p:nvPicPr>
        <p:blipFill>
          <a:blip r:embed="rId1"/>
          <a:stretch/>
        </p:blipFill>
        <p:spPr>
          <a:xfrm>
            <a:off x="2268360" y="1989000"/>
            <a:ext cx="410400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Теперь посмотрим, что у вас получилос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ППП - обладатель такой характеристики консервативен, предпочитает общепринятые формы поведе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ППЛ - темперамент слабый, преобладает нерешительност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ПЛП - характер сильный, энергичный, артистический. При общении с таким человеком не помешают решительность и чувство юмор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ПЛЛ - характер близок к предыдущему типу, но более мягок, контактен, медленнее привыкает к новой обстановке. Встречается довольно редко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ЛПП - аналитический склад ума, основная черта - мягкость, осторожность, Избегает конфликта, терпим и расчетлив, в отношениях предпочитает дистанци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ЛПЛ - слабый тип, встречается только среди женщин. Характерны подверженность различным влияниям, беззащитность, но вместе с тем способность идти на конфлик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ЛЛП - артистизм, некоторое непостоянство, склонность к новым впечатлениям. В общении смел, умеет избегать конф­ликтов и переключаться на новый тип поведения. Среди женщин встречается примерно вдвое чаще, чем среди мужчи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ЛЛЛ - этот тип, наоборот, более характерен для мужчин. Отличается независимостью, непостоянством и аналитическим складом ум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ЛППП - один из наиболее распространенных типов. Он эмоционален, легко контактирует практически со всеми. Од­нако недостаточно настойчив, подвержен чужому влияни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ЛППЛ - похож на предыдущий тип, но еще менее настой­чив, мягок и наивен. Требует особо бережного отношения к себ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ЛПЛП - это самый сильный тип характера. Настойчив, энергичен, трудно поддается убеждению. Несколько консерва­тивен из-за того, что нередко пренебрегает чужим мнение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ЛПЛЛ - характер сильный, но ненавязчивый. Внутренняя агрессивность прикрыта внешней мягкостью. Способен к быст­рому взаимодействию, но взаимопонимание при этом отстае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ЛЛПП - характерны дружелюбие, простота, некоторая разбросанность интерес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ЛЛПЛ - простодушие, мягкость, доверчивость - вот его основные черты. Очень редкий тип, у мужчин практически не встречает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ЛЛЛП - эмоциональность в сочетании с решительностью приводит к непродуманным поступкам. Энергиче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ЛЛЛЛ - обладает способностью по-новому взглянуть на вещи. Ярко выраженная эмоциональность сочетается с инди­видуализмом, упорством и некоторой замкнутость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971640" y="54936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ff"/>
                </a:solidFill>
                <a:latin typeface="Arial"/>
              </a:rPr>
              <a:t>Требования, предъявляемые к профессии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900000" y="2349360"/>
            <a:ext cx="82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рофессия должна быть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☻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рестижно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☻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хорошо оплачиваемо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☻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нтересно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☻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 хорошими условиями труд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☻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тобы ее легко было приобре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☻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оответствовать желанию родителе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☻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ожно было бы учиться и работать с друзьям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☻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остребована на рынке труд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79840" y="457560"/>
            <a:ext cx="7819200" cy="73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cc66ff"/>
                </a:solidFill>
                <a:latin typeface="Arial"/>
              </a:rPr>
              <a:t>Требования профессии к человеку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421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юбая профессия имеет свой специфический набор профессионально важных качест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олнение любой деятельности требует проявления способност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азличают общие и специальные способ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деляют два уровня развития способностей – репродуктивный и продуктивный (творческий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пособности нельзя рассматривать вне развития: в процессе деятельности человек может перейти с репродуктивного уровня на творческ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алант и гений являются самым высоким уровнем развития способност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громную роль играет и здоровье человека. При наличии определенных заболеваний существуют противопоказания к различным вида трудовой деятель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val 8"/>
          <p:cNvSpPr/>
          <p:nvPr/>
        </p:nvSpPr>
        <p:spPr>
          <a:xfrm>
            <a:off x="4572000" y="2565360"/>
            <a:ext cx="2664000" cy="27367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3276720" y="3860640"/>
            <a:ext cx="2663640" cy="27370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2195640" y="2492280"/>
            <a:ext cx="2663640" cy="27370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2843280" y="3357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хочу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250920" y="189000"/>
            <a:ext cx="88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ff"/>
                </a:solidFill>
                <a:latin typeface="Arial"/>
              </a:rPr>
              <a:t>Выбор профессии – это уравнени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cc66ff"/>
                </a:solidFill>
                <a:latin typeface="Arial"/>
              </a:rPr>
              <a:t>с несколькими неизвестным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AutoShape 20"/>
          <p:cNvSpPr/>
          <p:nvPr/>
        </p:nvSpPr>
        <p:spPr>
          <a:xfrm>
            <a:off x="539640" y="2565360"/>
            <a:ext cx="3492720" cy="2087640"/>
          </a:xfrm>
          <a:prstGeom prst="cloudCallout">
            <a:avLst>
              <a:gd name="adj1" fmla="val -39134"/>
              <a:gd name="adj2" fmla="val 28629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аши интересы, склонности, желания, мечт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4067280" y="5300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над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ubRRectCallout"/>
          <p:cNvSpPr/>
          <p:nvPr/>
        </p:nvSpPr>
        <p:spPr>
          <a:xfrm>
            <a:off x="3059280" y="4770360"/>
            <a:ext cx="2879640" cy="2087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требность в кадрах на рынке труда, востребованность вашей професс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44"/>
          <p:cNvSpPr/>
          <p:nvPr/>
        </p:nvSpPr>
        <p:spPr>
          <a:xfrm>
            <a:off x="5364000" y="3284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могу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ubOvalCallout"/>
          <p:cNvSpPr/>
          <p:nvPr/>
        </p:nvSpPr>
        <p:spPr>
          <a:xfrm>
            <a:off x="5148360" y="2349360"/>
            <a:ext cx="3456000" cy="27813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аши психофизические возможности, здоровье, способно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89308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Правильный выбор профессии предполагает совпадение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индивидуальных и личностных особенностей, физических возможностей, здоровья, интересов, склонностей, способностей человека и тех требований, которые профессия к нему предъявля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В этом случае можно говорить о профессиональной пригод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60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ff"/>
                </a:solidFill>
                <a:latin typeface="Arial"/>
              </a:rPr>
              <a:t>Подведем предварительный итог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15600" y="112320"/>
            <a:ext cx="8416080" cy="154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ff"/>
                </a:solidFill>
                <a:latin typeface="Arial"/>
              </a:rPr>
              <a:t>Профессиональная </a:t>
            </a:r>
            <a:br>
              <a:rPr sz="3600"/>
            </a:br>
            <a:r>
              <a:rPr b="1" i="1" lang="en-US" sz="3600" spc="-1" strike="noStrike">
                <a:solidFill>
                  <a:srgbClr val="cc66ff"/>
                </a:solidFill>
                <a:latin typeface="Arial"/>
              </a:rPr>
              <a:t>пригодность складывается из 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4000" y="2276280"/>
            <a:ext cx="867564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жданских качеств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ношения к выполняемой деятельнос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ееспособности (общих способностей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ничных (специальных способностей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выков и умен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WordArt 4"/>
          <p:cNvSpPr txBox="1"/>
          <p:nvPr/>
        </p:nvSpPr>
        <p:spPr>
          <a:xfrm rot="5400000">
            <a:off x="-1888200" y="4309200"/>
            <a:ext cx="4437000" cy="660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ГОД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604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Цели занятия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ориентировать учащихся на правильный выбор будущей профессии с учётом их способностей и психологических особенносте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пособствовать осознанию учащимися своих профессиональных намерений, интересов, склонносте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роанализировать типичные ошибки и затруднения при выборе професс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оздание условий для формирования ясных представлений учащихся о себе, о своих особенностях и качествах для включения в активную пробу своих сил и определения нравственной позиции при выборе професс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Задачи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формирование представлений о роли профессии в жизни человек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сширение представлений о личностных качествах,    необходимых для освоения желаемой професси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редставление современных профессий, их видо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806920" y="252720"/>
            <a:ext cx="6273360" cy="87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99"/>
                </a:solidFill>
                <a:latin typeface="Arial"/>
              </a:rPr>
              <a:t>НАИБОЛЕЕ ТИПИЧНЫЕ ОШИБКИ ВЫБОРА ПРОФЕССИИ: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116000" y="2276640"/>
            <a:ext cx="6769080" cy="42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ледование чужим советам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выбор за компанию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выбор близлежащего ВУЗа или внешне привлекательной, престижной професс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отсутствие существенной информации о профессии или специальнос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езнание своих личных особенност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Picture 4" descr="проф4"/>
          <p:cNvPicPr/>
          <p:nvPr/>
        </p:nvPicPr>
        <p:blipFill>
          <a:blip r:embed="rId1"/>
          <a:stretch/>
        </p:blipFill>
        <p:spPr>
          <a:xfrm>
            <a:off x="755640" y="189000"/>
            <a:ext cx="194472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86600" y="8578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ак получить желаемую профессию?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400" y="1428480"/>
            <a:ext cx="87152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ставить перед собой цель и стремить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остичь её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еобходимо получить хорошие зн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ступить и успешно закончить профессионально-техническое учебное заведение, колледж или ВУЗ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желательно предварительно попробовать себя в избранной професс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ужно любить профессию и постоянно совершенствоваться в не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8360" y="1052640"/>
          <a:ext cx="8229600" cy="569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2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лавная цель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ем буду заниматься, какой трудовой вклад внесу в общее дело, кем буду, каким буду, где буду, чего достигну, на кого буду равняться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лижайшие задачи и более отдаленные перспективы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ервая область деятельности, специальность, работа, трудовая проба сил, чему и где учиться, перспективы повышения мастерства, профессионального роста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2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ути и средства достижения цели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зучение справочной литературы, беседы со специалистами, самообразование, поступление в определенное учебное заведение (ПТУ, колледж, ВУЗ, курсы)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2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нешние сопротивления на пути достижения цели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рудности, возможные препятствия, возможные противодействия тех или иных людей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2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нутренние условия достижения цели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вои возможности: состояние здоровья, способности к обучению, настойчивость, терпение, склонности к практической и теоретической работе, другие личные качества, необходимые для учебы и работы по данной специальности, работа по самовоспитанию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 txBox="1"/>
          <p:nvPr/>
        </p:nvSpPr>
        <p:spPr>
          <a:xfrm>
            <a:off x="900000" y="333360"/>
            <a:ext cx="7134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ичный профессиональный пла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79280" y="260280"/>
          <a:ext cx="8785440" cy="631188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 Актуари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.Манимейке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.Профконсультан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Аудитор веб-сайтов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Маркшейде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.Саунддизайне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Байе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.Мерчендайзе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9.Сомель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 Лоббист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.Парфюме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.Стеклодув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 Логист (логистик)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.Пастиже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1.Стринге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.Имиджмейке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.Печник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2. Таксидермис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.Копирайте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.Пит-босс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.Смотритель гольф-поле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.Крупь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.Промоуте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.Чайный масте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AutoShape 53">
            <a:hlinkClick r:id="" action="ppaction://hlinkshowjump?jump=nextslide"/>
          </p:cNvPr>
          <p:cNvSpPr/>
          <p:nvPr/>
        </p:nvSpPr>
        <p:spPr>
          <a:xfrm>
            <a:off x="2627280" y="62064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3794"/>
                </a:moveTo>
                <a:lnTo>
                  <a:pt x="17850" y="10800"/>
                </a:lnTo>
                <a:lnTo>
                  <a:pt x="38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 flipV="1">
            <a:off x="2627280" y="1412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2627280" y="220500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3794"/>
                </a:moveTo>
                <a:lnTo>
                  <a:pt x="17850" y="10800"/>
                </a:lnTo>
                <a:lnTo>
                  <a:pt x="38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2627280" y="378936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2627280" y="537372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3794" y="3837"/>
                </a:moveTo>
                <a:lnTo>
                  <a:pt x="17806" y="10843"/>
                </a:lnTo>
                <a:lnTo>
                  <a:pt x="3794" y="1785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2627280" y="4581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>
            <a:hlinkClick r:id="rId4" action="ppaction://hlinksldjump"/>
          </p:cNvPr>
          <p:cNvSpPr/>
          <p:nvPr/>
        </p:nvSpPr>
        <p:spPr>
          <a:xfrm>
            <a:off x="262728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>
            <a:hlinkClick r:id="rId5" action="ppaction://hlinksldjump"/>
          </p:cNvPr>
          <p:cNvSpPr/>
          <p:nvPr/>
        </p:nvSpPr>
        <p:spPr>
          <a:xfrm>
            <a:off x="5508720" y="69228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>
            <a:hlinkClick r:id="rId6" action="ppaction://hlinksldjump"/>
          </p:cNvPr>
          <p:cNvSpPr/>
          <p:nvPr/>
        </p:nvSpPr>
        <p:spPr>
          <a:xfrm>
            <a:off x="5580000" y="227664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>
            <a:hlinkClick r:id="rId7" action="ppaction://hlinksldjump"/>
          </p:cNvPr>
          <p:cNvSpPr/>
          <p:nvPr/>
        </p:nvSpPr>
        <p:spPr>
          <a:xfrm>
            <a:off x="5580000" y="14130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>
            <a:hlinkClick r:id="rId8" action="ppaction://hlinksldjump"/>
          </p:cNvPr>
          <p:cNvSpPr/>
          <p:nvPr/>
        </p:nvSpPr>
        <p:spPr>
          <a:xfrm>
            <a:off x="5580000" y="2924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>
            <a:hlinkClick r:id="rId9" action="ppaction://hlinksldjump"/>
          </p:cNvPr>
          <p:cNvSpPr/>
          <p:nvPr/>
        </p:nvSpPr>
        <p:spPr>
          <a:xfrm>
            <a:off x="5580000" y="3789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>
            <a:hlinkClick r:id="rId10" action="ppaction://hlinksldjump"/>
          </p:cNvPr>
          <p:cNvSpPr/>
          <p:nvPr/>
        </p:nvSpPr>
        <p:spPr>
          <a:xfrm>
            <a:off x="5580000" y="4581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>
            <a:hlinkClick r:id="rId11" action="ppaction://hlinksldjump"/>
          </p:cNvPr>
          <p:cNvSpPr/>
          <p:nvPr/>
        </p:nvSpPr>
        <p:spPr>
          <a:xfrm>
            <a:off x="5580000" y="5300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>
            <a:hlinkClick r:id="rId12" action="ppaction://hlinksldjump"/>
          </p:cNvPr>
          <p:cNvSpPr/>
          <p:nvPr/>
        </p:nvSpPr>
        <p:spPr>
          <a:xfrm>
            <a:off x="5580000" y="616572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>
            <a:hlinkClick r:id="rId13" action="ppaction://hlinksldjump"/>
          </p:cNvPr>
          <p:cNvSpPr/>
          <p:nvPr/>
        </p:nvSpPr>
        <p:spPr>
          <a:xfrm>
            <a:off x="8459640" y="620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>
            <a:hlinkClick r:id="rId14" action="ppaction://hlinksldjump"/>
          </p:cNvPr>
          <p:cNvSpPr/>
          <p:nvPr/>
        </p:nvSpPr>
        <p:spPr>
          <a:xfrm>
            <a:off x="8459640" y="14130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>
            <a:hlinkClick r:id="rId15" action="ppaction://hlinksldjump"/>
          </p:cNvPr>
          <p:cNvSpPr/>
          <p:nvPr/>
        </p:nvSpPr>
        <p:spPr>
          <a:xfrm>
            <a:off x="8459640" y="220500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59640" y="270828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59640" y="3573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532720" y="458136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532720" y="544500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53272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299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Актуарий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специалист по страхованию, занимающийся разработкой научно обоснованных методов исчисления тарифных ставок по долгосрочному страхованию жизни. Профессия актуария весьма ответственна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95280" y="191628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Аудитор веб-сайтов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рофессия аудитора веб-сайтов очень молодая и перспективная. Это экспертиза сайтов с точки зрения их организации и соответствия заявленным целям, удобства навигации по сайту, общей привлекательности для посетител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95280" y="414972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Байер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В переводе с английского “байер” означает закупщик. Профессия байера творческая и требует знания модных тенденций, психологии и маркетинга. Специфика работы требует от байера знания языков и современных технолог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Лоббист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- посредник между финансовыми, политическими или профессиональными группами и госчиновниками, депутатами. Используя налаженные деловые контакты, он влияет на принятие решений в пользу интересов «своей» группы. Поле деятельности лоббиста велико - от Государственной Думы до органов местной власти, районной управы. В нашей стране этот вид деятельности находится на этапе становления. В США же, например, сегодня только в Конгрессе действуют 15 тысяч лоббистов, объединенных в специализированные конторы и агентства, устанавливающие свои правила игры с власть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Логист (логистик)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- специалист, занимающийся оптимизацией поставок и перевозок сырья, товара, средств производства. Задачи логиста - разработка схемы товародвижения, поставок, расчет наиболее экономичных путей, координация основных подразделений. Главное требование - аналитические способности, оперативность мышления, также приветствуются коммуникабельность, самостоятельность, мобильност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5"/>
          <p:cNvSpPr/>
          <p:nvPr/>
        </p:nvSpPr>
        <p:spPr>
          <a:xfrm>
            <a:off x="179280" y="333360"/>
            <a:ext cx="8642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Имиджмейкеры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Задача имиджмейкера – направить воображение человека в нужную сторону, т.е. предложить аудитории такую информацию об объекте, чтобы она сама сформировала представление об этом объекте в заданном имиджмейкером контуре. Чаще всего имиджмейкерами называют тех специалистов, которые работают на ниве презентации политических лидеров и шоу-звезд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79280" y="2492280"/>
            <a:ext cx="878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Копирайтер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Творчество коперайтера – это яркий, интересный, точный способ доставки информации в мозг или сердце потребителя. Само слово “копирайтер” приживалось долго, и представители этой профессии называли себя сценаристами, криэйторами и даже концептмейкер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79280" y="4221000"/>
            <a:ext cx="878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Крупье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Для крупье важны физические параметры: рост (не ниже 160 см и не выше 190 см), приятная внешность, отсутствие дефектов речи, чистые руки (без нарушений кожного покрова), вес. Способность к устному счету - одно из непременных требований, предъявляемых к кандидата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96360" y="595008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15463" y="3837"/>
                </a:moveTo>
                <a:lnTo>
                  <a:pt x="18039" y="6448"/>
                </a:lnTo>
                <a:lnTo>
                  <a:pt x="18039" y="4707"/>
                </a:lnTo>
                <a:lnTo>
                  <a:pt x="19815" y="4707"/>
                </a:lnTo>
                <a:lnTo>
                  <a:pt x="19815" y="8224"/>
                </a:lnTo>
                <a:lnTo>
                  <a:pt x="22426" y="10800"/>
                </a:lnTo>
                <a:lnTo>
                  <a:pt x="20772" y="10800"/>
                </a:lnTo>
                <a:lnTo>
                  <a:pt x="20772" y="17989"/>
                </a:lnTo>
                <a:lnTo>
                  <a:pt x="10153" y="17989"/>
                </a:lnTo>
                <a:lnTo>
                  <a:pt x="10153" y="10800"/>
                </a:lnTo>
                <a:lnTo>
                  <a:pt x="8500" y="10800"/>
                </a:lnTo>
                <a:close/>
              </a:path>
              <a:path fill="darkenLess" w="30926" h="21600">
                <a:moveTo>
                  <a:pt x="18039" y="6448"/>
                </a:moveTo>
                <a:lnTo>
                  <a:pt x="18039" y="4707"/>
                </a:lnTo>
                <a:lnTo>
                  <a:pt x="19815" y="4707"/>
                </a:lnTo>
                <a:lnTo>
                  <a:pt x="19815" y="8224"/>
                </a:lnTo>
                <a:close/>
              </a:path>
              <a:path fill="darkenLess" w="30926" h="21600">
                <a:moveTo>
                  <a:pt x="14540" y="14299"/>
                </a:moveTo>
                <a:lnTo>
                  <a:pt x="16385" y="14299"/>
                </a:lnTo>
                <a:lnTo>
                  <a:pt x="16385" y="17989"/>
                </a:lnTo>
                <a:lnTo>
                  <a:pt x="20772" y="17989"/>
                </a:lnTo>
                <a:lnTo>
                  <a:pt x="20772" y="10800"/>
                </a:lnTo>
                <a:lnTo>
                  <a:pt x="10153" y="10800"/>
                </a:lnTo>
                <a:lnTo>
                  <a:pt x="10153" y="17989"/>
                </a:lnTo>
                <a:lnTo>
                  <a:pt x="14540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324000" y="260280"/>
            <a:ext cx="842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Манимейкер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Желание делать деньги “из воздуха” присуще всем представителям рода человеческого. Мечты о доходе, получаемом без затрат трудовых и денежных ресурсов, посещают каждого, особенно в детском и юношеском возрасте. Мечты о халяве по мере взросления уходят. Но отдельные личности остаются верными своим детским идеям. Они и формируют сословие манимейкер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395280" y="249228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Маркшейдер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Для практической деятельности человека необходимо ориентироваться на поверхности и в недрах земли, на воде и в воздухе. Маркшейдерия – это наука, которая дает возможность точно находить свое местонахождение в подземных условия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24000" y="443700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Мерчендайзер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Мерчендайзер ( с англ. – купец). Это искусство продвижения и продажи товаров на рынке. Задача мерчендайзера, во-первых, оповестить потребителя о новом товаре и приложить все возможные усилия для его продажи и, во-вторых, поддерживать ее на достаточно высоком уров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28000" y="595008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15463" y="3837"/>
                </a:moveTo>
                <a:lnTo>
                  <a:pt x="18039" y="6448"/>
                </a:lnTo>
                <a:lnTo>
                  <a:pt x="18039" y="4707"/>
                </a:lnTo>
                <a:lnTo>
                  <a:pt x="19815" y="4707"/>
                </a:lnTo>
                <a:lnTo>
                  <a:pt x="19815" y="8224"/>
                </a:lnTo>
                <a:lnTo>
                  <a:pt x="22426" y="10800"/>
                </a:lnTo>
                <a:lnTo>
                  <a:pt x="20772" y="10800"/>
                </a:lnTo>
                <a:lnTo>
                  <a:pt x="20772" y="17989"/>
                </a:lnTo>
                <a:lnTo>
                  <a:pt x="10153" y="17989"/>
                </a:lnTo>
                <a:lnTo>
                  <a:pt x="10153" y="10800"/>
                </a:lnTo>
                <a:lnTo>
                  <a:pt x="8500" y="10800"/>
                </a:lnTo>
                <a:close/>
              </a:path>
              <a:path fill="darkenLess" w="30926" h="21600">
                <a:moveTo>
                  <a:pt x="18039" y="6448"/>
                </a:moveTo>
                <a:lnTo>
                  <a:pt x="18039" y="4707"/>
                </a:lnTo>
                <a:lnTo>
                  <a:pt x="19815" y="4707"/>
                </a:lnTo>
                <a:lnTo>
                  <a:pt x="19815" y="8224"/>
                </a:lnTo>
                <a:close/>
              </a:path>
              <a:path fill="darkenLess" w="30926" h="21600">
                <a:moveTo>
                  <a:pt x="14540" y="14299"/>
                </a:moveTo>
                <a:lnTo>
                  <a:pt x="16385" y="14299"/>
                </a:lnTo>
                <a:lnTo>
                  <a:pt x="16385" y="17989"/>
                </a:lnTo>
                <a:lnTo>
                  <a:pt x="20772" y="17989"/>
                </a:lnTo>
                <a:lnTo>
                  <a:pt x="20772" y="10800"/>
                </a:lnTo>
                <a:lnTo>
                  <a:pt x="10153" y="10800"/>
                </a:lnTo>
                <a:lnTo>
                  <a:pt x="10153" y="17989"/>
                </a:lnTo>
                <a:lnTo>
                  <a:pt x="14540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250920" y="404640"/>
            <a:ext cx="785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24000" y="476280"/>
            <a:ext cx="813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Парфюмер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Во всем мире около 400 парфюмеров. Хороший парфюмер должен уметь разбираться в ароматах, строить из них композиции, иметь память на запахи. Нужно долго тренироваться, чтобы выучить всю парфюмерную палитр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95280" y="184464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Пастижер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Пастижер – специалист по изготовлению из натуральных волос и искусственных волокон, париков, усов, бород и бакенбар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95280" y="2997360"/>
            <a:ext cx="849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Печник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Современному  печнику недостаточно уметь обращаться с кирпичем и готовить раствор. Хороший печник должен иметь представление о правилах аэродинамики и термодинамики. В подавляющем большинстве это потомственная професс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324000" y="494172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Пит-босс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Пит-босс – руководитель среднего звена в казино. Обязанности самые широкие и прежде всего контроль за всем, что происходит в игровом зал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28000" y="595008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15463" y="3837"/>
                </a:moveTo>
                <a:lnTo>
                  <a:pt x="18039" y="6448"/>
                </a:lnTo>
                <a:lnTo>
                  <a:pt x="18039" y="4707"/>
                </a:lnTo>
                <a:lnTo>
                  <a:pt x="19815" y="4707"/>
                </a:lnTo>
                <a:lnTo>
                  <a:pt x="19815" y="8224"/>
                </a:lnTo>
                <a:lnTo>
                  <a:pt x="22426" y="10800"/>
                </a:lnTo>
                <a:lnTo>
                  <a:pt x="20772" y="10800"/>
                </a:lnTo>
                <a:lnTo>
                  <a:pt x="20772" y="17989"/>
                </a:lnTo>
                <a:lnTo>
                  <a:pt x="10153" y="17989"/>
                </a:lnTo>
                <a:lnTo>
                  <a:pt x="10153" y="10800"/>
                </a:lnTo>
                <a:lnTo>
                  <a:pt x="8500" y="10800"/>
                </a:lnTo>
                <a:close/>
              </a:path>
              <a:path fill="darkenLess" w="30926" h="21600">
                <a:moveTo>
                  <a:pt x="18039" y="6448"/>
                </a:moveTo>
                <a:lnTo>
                  <a:pt x="18039" y="4707"/>
                </a:lnTo>
                <a:lnTo>
                  <a:pt x="19815" y="4707"/>
                </a:lnTo>
                <a:lnTo>
                  <a:pt x="19815" y="8224"/>
                </a:lnTo>
                <a:close/>
              </a:path>
              <a:path fill="darkenLess" w="30926" h="21600">
                <a:moveTo>
                  <a:pt x="14540" y="14299"/>
                </a:moveTo>
                <a:lnTo>
                  <a:pt x="16385" y="14299"/>
                </a:lnTo>
                <a:lnTo>
                  <a:pt x="16385" y="17989"/>
                </a:lnTo>
                <a:lnTo>
                  <a:pt x="20772" y="17989"/>
                </a:lnTo>
                <a:lnTo>
                  <a:pt x="20772" y="10800"/>
                </a:lnTo>
                <a:lnTo>
                  <a:pt x="10153" y="10800"/>
                </a:lnTo>
                <a:lnTo>
                  <a:pt x="10153" y="17989"/>
                </a:lnTo>
                <a:lnTo>
                  <a:pt x="14540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0" y="1890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Промоутер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Человек в костюме тигра, раздающий рекламные листовки магазина детских товаров, длинноногая девица, которая уговаривает вас приобрести две банки кофе, чтобы получить еще одну в подарок – это промоутеры, люди, которые при маркетинге товаров или услуг, делают их популярны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0" y="1916280"/>
            <a:ext cx="89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Профконсультант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Пока профконсультанты используются главным образом в центрах занятости. Однако по мере осознания значимости этой профессии границы ее востребованности существенно расширятся: для осуществления профподбора кадров на предприятиях и организациях, для работы со школьниками, студентами и т.д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0" y="371628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Саунддизайнеры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Это дизайнеры, которые создают звуковые образ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443700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Сомелье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Сомелье называют продавцом красивой жизни. Он знает все о винах и церемонии винопития: как правильно открыть бутылку, налить, подать к нужному блюду и что сказать при эт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0" y="573408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Стеклодув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Стекольных дел мастер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595008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15463" y="3837"/>
                </a:moveTo>
                <a:lnTo>
                  <a:pt x="18039" y="6448"/>
                </a:lnTo>
                <a:lnTo>
                  <a:pt x="18039" y="4707"/>
                </a:lnTo>
                <a:lnTo>
                  <a:pt x="19815" y="4707"/>
                </a:lnTo>
                <a:lnTo>
                  <a:pt x="19815" y="8224"/>
                </a:lnTo>
                <a:lnTo>
                  <a:pt x="22426" y="10800"/>
                </a:lnTo>
                <a:lnTo>
                  <a:pt x="20772" y="10800"/>
                </a:lnTo>
                <a:lnTo>
                  <a:pt x="20772" y="17989"/>
                </a:lnTo>
                <a:lnTo>
                  <a:pt x="10153" y="17989"/>
                </a:lnTo>
                <a:lnTo>
                  <a:pt x="10153" y="10800"/>
                </a:lnTo>
                <a:lnTo>
                  <a:pt x="8500" y="10800"/>
                </a:lnTo>
                <a:close/>
              </a:path>
              <a:path fill="darkenLess" w="30926" h="21600">
                <a:moveTo>
                  <a:pt x="18039" y="6448"/>
                </a:moveTo>
                <a:lnTo>
                  <a:pt x="18039" y="4707"/>
                </a:lnTo>
                <a:lnTo>
                  <a:pt x="19815" y="4707"/>
                </a:lnTo>
                <a:lnTo>
                  <a:pt x="19815" y="8224"/>
                </a:lnTo>
                <a:close/>
              </a:path>
              <a:path fill="darkenLess" w="30926" h="21600">
                <a:moveTo>
                  <a:pt x="14540" y="14299"/>
                </a:moveTo>
                <a:lnTo>
                  <a:pt x="16385" y="14299"/>
                </a:lnTo>
                <a:lnTo>
                  <a:pt x="16385" y="17989"/>
                </a:lnTo>
                <a:lnTo>
                  <a:pt x="20772" y="17989"/>
                </a:lnTo>
                <a:lnTo>
                  <a:pt x="20772" y="10800"/>
                </a:lnTo>
                <a:lnTo>
                  <a:pt x="10153" y="10800"/>
                </a:lnTo>
                <a:lnTo>
                  <a:pt x="10153" y="17989"/>
                </a:lnTo>
                <a:lnTo>
                  <a:pt x="14540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29840" y="23320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В настоящее время насчитывается более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40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тысяч профессий, при этом примерно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00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из них ежегодно исчезают и почти столько же появляется новы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Экономисты подсчитали, что среднее время существования большого числа профессий приближается к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8-10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года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049760" y="907920"/>
            <a:ext cx="709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ff"/>
                </a:solidFill>
                <a:latin typeface="Arial"/>
              </a:rPr>
              <a:t>Какую профессию выбрать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179280" y="260280"/>
            <a:ext cx="871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Стрингер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Иногда в разряд редких профессии попадают потому, что слишком опасны, и мало находится людей, готовых зарабатывать деньги с риском для жизни. Именно такой является новая для нас профессия стрингера – внештатного корреспондента, который работает, как правило, в экстремальных условиях: это и зоны военных действий, и стихийных бедствий, и массовых беспорядк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250920" y="227664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250920" y="227664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Таксидермист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чучельник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179280" y="299736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Титестер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Титестер - дегустатор чая, оценивает по 50-60 образцов в день. Оценки идут по внешнему виду, вкусу, цвету листьев, аромату заварк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79280" y="4365720"/>
            <a:ext cx="871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Чайный мастер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Чайный мастер – в официальном реестре профессий такой нет, все работают стихийным образом. Чайный мастер - человек, который воздействует на состояние пространства, среды, т.е. это администратор пространства. Чайный мастер должен уметь заваривать ча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028000" y="602136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15463" y="3837"/>
                </a:moveTo>
                <a:lnTo>
                  <a:pt x="18039" y="6448"/>
                </a:lnTo>
                <a:lnTo>
                  <a:pt x="18039" y="4707"/>
                </a:lnTo>
                <a:lnTo>
                  <a:pt x="19815" y="4707"/>
                </a:lnTo>
                <a:lnTo>
                  <a:pt x="19815" y="8224"/>
                </a:lnTo>
                <a:lnTo>
                  <a:pt x="22426" y="10800"/>
                </a:lnTo>
                <a:lnTo>
                  <a:pt x="20772" y="10800"/>
                </a:lnTo>
                <a:lnTo>
                  <a:pt x="20772" y="17989"/>
                </a:lnTo>
                <a:lnTo>
                  <a:pt x="10153" y="17989"/>
                </a:lnTo>
                <a:lnTo>
                  <a:pt x="10153" y="10800"/>
                </a:lnTo>
                <a:lnTo>
                  <a:pt x="8500" y="10800"/>
                </a:lnTo>
                <a:close/>
              </a:path>
              <a:path fill="darkenLess" w="30926" h="21600">
                <a:moveTo>
                  <a:pt x="18039" y="6448"/>
                </a:moveTo>
                <a:lnTo>
                  <a:pt x="18039" y="4707"/>
                </a:lnTo>
                <a:lnTo>
                  <a:pt x="19815" y="4707"/>
                </a:lnTo>
                <a:lnTo>
                  <a:pt x="19815" y="8224"/>
                </a:lnTo>
                <a:close/>
              </a:path>
              <a:path fill="darkenLess" w="30926" h="21600">
                <a:moveTo>
                  <a:pt x="14540" y="14299"/>
                </a:moveTo>
                <a:lnTo>
                  <a:pt x="16385" y="14299"/>
                </a:lnTo>
                <a:lnTo>
                  <a:pt x="16385" y="17989"/>
                </a:lnTo>
                <a:lnTo>
                  <a:pt x="20772" y="17989"/>
                </a:lnTo>
                <a:lnTo>
                  <a:pt x="20772" y="10800"/>
                </a:lnTo>
                <a:lnTo>
                  <a:pt x="10153" y="10800"/>
                </a:lnTo>
                <a:lnTo>
                  <a:pt x="10153" y="17989"/>
                </a:lnTo>
                <a:lnTo>
                  <a:pt x="14540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31280" y="72000"/>
            <a:ext cx="367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ff"/>
                </a:solidFill>
                <a:latin typeface="Arial"/>
              </a:rPr>
              <a:t>Кем стать?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иходит время, и на этот вопрос надо находить ответ. Ведь это не просто удачно или неудачно принятое в юности решение, а зачастую сложившаяся или разбитая судьба, успешная жизнь или равнодушное существова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юди давно ищут формулу счастья. Одна из таких формул звучит так: счастлив тот, кто утром с удовольствием идет на работу, а вечером с радостью возвращается домой. Вот почему так важно правильно выбрать професси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280" y="549360"/>
            <a:ext cx="8425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уществует притча о работниках, которые везли тачки с камнями. Их было трое. И на вопрос, чем они занимаются, были получены такие ответы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езу проклятую тачку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арабатываю себе на хлеб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трою прекрасный храм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 чем это? Да, об отношении к труду, о мотивации, которая может перерасти в профессионализм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620000" y="405360"/>
            <a:ext cx="64087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ути выбора професс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етод проб и ошибо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зучения себя, своих интересов, склонностей, мышления, памяти и внима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ыбор профессии своих родителей, дедов и прадед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429200" y="72000"/>
            <a:ext cx="7353000" cy="998280"/>
          </a:xfrm>
          <a:prstGeom prst="rect">
            <a:avLst/>
          </a:prstGeom>
          <a:solidFill>
            <a:srgbClr val="e6d09e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22223"/>
                </a:solidFill>
                <a:latin typeface="Arial"/>
              </a:rPr>
              <a:t>Исследования «Познаю себя»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434960" y="1071360"/>
            <a:ext cx="7499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оя самооцен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ои склонности и способ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ой тип      лич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ой темперамен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ое внимани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оя памя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ое мышле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ординация движ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оя тревож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оя коммуникабель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оя свобода выбор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3" descr="C:\Documents and Settings\Макс\Рабочий стол\исследователь.gif"/>
          <p:cNvPicPr/>
          <p:nvPr/>
        </p:nvPicPr>
        <p:blipFill>
          <a:blip r:embed="rId1"/>
          <a:stretch/>
        </p:blipFill>
        <p:spPr>
          <a:xfrm rot="21176400">
            <a:off x="6300360" y="321264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Прямоугольник 11" descr=""/>
          <p:cNvPicPr/>
          <p:nvPr/>
        </p:nvPicPr>
        <p:blipFill>
          <a:blip r:embed="rId1"/>
          <a:stretch/>
        </p:blipFill>
        <p:spPr>
          <a:xfrm>
            <a:off x="539640" y="0"/>
            <a:ext cx="8394840" cy="2017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285840" y="2362320"/>
            <a:ext cx="86788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Мозг человека состоит из двух полушарий, каждое из которых отвечает за свои функции организма и психики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правое полушарие – «образное», предопределяет художественный тип личност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левое – логическое, предопределяет мыслительный тип личност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ереплетите пальцы рук. Сверху оказался большой палец левой руки (Л) или правой (П)? Запишите результа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340000" y="2421000"/>
            <a:ext cx="388764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22:42:21Z</dcterms:created>
  <dc:creator>Славон</dc:creator>
  <dc:description/>
  <dc:language>en-US</dc:language>
  <cp:lastModifiedBy>Root</cp:lastModifiedBy>
  <dcterms:modified xsi:type="dcterms:W3CDTF">2019-12-15T17:29:50Z</dcterms:modified>
  <cp:revision>36</cp:revision>
  <dc:subject/>
  <dc:title>Слайд 1</dc:title>
</cp:coreProperties>
</file>