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56-44CD-40C3-811A-6F083E5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020-80D1-4C01-8F1D-8BF5EBA1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261-F5F0-437C-8B90-0FDEF79C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909-507D-43CF-A46A-0D5CAD4D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707-81B5-40A3-B984-7D001A96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002-6CDB-437B-AEEC-104C5E3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C97-DF1D-4B03-A293-1F203D0B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E30-1C0F-4494-BC5A-6D99D85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A45-20AE-469C-A54D-481F483B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61C-1E48-4A9F-BD00-3F27459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986-A58A-4A79-A961-D21B251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858-3916-438C-B034-E175A86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DB6B-A43D-4ED2-8180-C1864E8471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4249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ХРАНА ТРУД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ЭЛЕКТРОГАЗОСВАРЩ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3933720"/>
            <a:ext cx="540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: студен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равлёв Станислав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ПОУ СО «Саратовский строительный лиц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ессия: «Сварщик»(электросварочные и газосварочные рабо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svarshhik-kmus2"/>
          <p:cNvPicPr/>
          <p:nvPr/>
        </p:nvPicPr>
        <p:blipFill>
          <a:blip r:embed="rId1"/>
          <a:stretch/>
        </p:blipFill>
        <p:spPr>
          <a:xfrm>
            <a:off x="0" y="0"/>
            <a:ext cx="3995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НСТРУМЕНТ   БЫТЬ   ДОЛЖЕН  ПРОЧНЫМ, И ОТЛАЖЕННЫМ, И ТОЧНЫМ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Е  ГОТОВ  ТВОЙ  ИНСТРУМЕНТ –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МОЖЕШЬ  ПОСТРАДАТЬ  В  МОМЕНТ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331720"/>
            <a:ext cx="40388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9280" y="227628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kak-nauchitsya-varit-elektrosvarkoj-2-800x593"/>
          <p:cNvPicPr/>
          <p:nvPr/>
        </p:nvPicPr>
        <p:blipFill>
          <a:blip r:embed="rId1"/>
          <a:stretch/>
        </p:blipFill>
        <p:spPr>
          <a:xfrm>
            <a:off x="155520" y="2208240"/>
            <a:ext cx="4416480" cy="410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original_picture"/>
          <p:cNvPicPr/>
          <p:nvPr/>
        </p:nvPicPr>
        <p:blipFill>
          <a:blip r:embed="rId2"/>
          <a:stretch/>
        </p:blipFill>
        <p:spPr>
          <a:xfrm>
            <a:off x="4859280" y="2205000"/>
            <a:ext cx="4033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проверил заземленье –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Сделал смерти предложень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1528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1340635379_2a"/>
          <p:cNvPicPr/>
          <p:nvPr/>
        </p:nvPicPr>
        <p:blipFill>
          <a:blip r:embed="rId2"/>
          <a:stretch/>
        </p:blipFill>
        <p:spPr>
          <a:xfrm>
            <a:off x="457200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40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ЕСЛИ ВИДИШЬ ЗАДЫМЛЕНЬЕ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ДЕЙСТВУЙ ТЫ БЕЗ ПРОМЕДЛЕНЬЯ.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ТУТ ЗАКОН ДЛЯ ВСЕХ ЕДИН – НАБИРАЙТ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01!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Е СПЕШИ СПАСАТЬСЯ БЕГСТВОМ, БОЙ ВЕДИ ПОДРУЧНЫМ СРЕДСТВОМ.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ЕСЛИ БОЙ ОРГАНИЗОВАН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ТО ОЧАГ ЛОКАЛИЗОВАН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e1806e_4b34a0e6be1f498e85fba7d67ab6da7d"/>
          <p:cNvPicPr/>
          <p:nvPr/>
        </p:nvPicPr>
        <p:blipFill>
          <a:blip r:embed="rId1"/>
          <a:stretch/>
        </p:blipFill>
        <p:spPr>
          <a:xfrm>
            <a:off x="485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АМ, ГДЕ ГАЗА ЕСТЬ СКОПЛЕНЬЕ,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НЕИЗБЕЖНО ОТРАВЛЕНЬЕ!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ОБЕСПЕЧЬ ТЫ ВЫХОД ГАЗУ,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А НЕ ТО ПОГИБНЕШЬ СРАЗУ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3640" y="764640"/>
            <a:ext cx="3610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tf_dmn_tflex_em_3"/>
          <p:cNvPicPr/>
          <p:nvPr/>
        </p:nvPicPr>
        <p:blipFill>
          <a:blip r:embed="rId1"/>
          <a:stretch/>
        </p:blipFill>
        <p:spPr>
          <a:xfrm>
            <a:off x="3995640" y="69228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ЗАПОМНИ ТВЕРДО НАПЕРЕД: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«МАСЛООПАСЕН КИСЛОРОД!»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Rejd_Belokudrja_0001"/>
          <p:cNvPicPr/>
          <p:nvPr/>
        </p:nvPicPr>
        <p:blipFill>
          <a:blip r:embed="rId1"/>
          <a:stretch/>
        </p:blipFill>
        <p:spPr>
          <a:xfrm>
            <a:off x="539640" y="177336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image023_14"/>
          <p:cNvPicPr/>
          <p:nvPr/>
        </p:nvPicPr>
        <p:blipFill>
          <a:blip r:embed="rId2"/>
          <a:stretch/>
        </p:blipFill>
        <p:spPr>
          <a:xfrm>
            <a:off x="4932360" y="1773360"/>
            <a:ext cx="324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Если б люди были умные, то они бы никогд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 работе не приступали, не изучив инструкции по охране труда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737_3"/>
          <p:cNvPicPr/>
          <p:nvPr/>
        </p:nvPicPr>
        <p:blipFill>
          <a:blip r:embed="rId1"/>
          <a:stretch/>
        </p:blipFill>
        <p:spPr>
          <a:xfrm>
            <a:off x="4716360" y="62064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в такие шагнули дали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не очень-то и дойдёш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8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теперь здесь учиться буде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взирая на снег и дожд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7"/>
          <p:cNvPicPr/>
          <p:nvPr/>
        </p:nvPicPr>
        <p:blipFill>
          <a:blip r:embed="rId1"/>
          <a:stretch/>
        </p:blipFill>
        <p:spPr>
          <a:xfrm>
            <a:off x="468360" y="1413000"/>
            <a:ext cx="83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в воде ледяной не заплаче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с огнём будем на «ты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84560" cy="446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welding-jobs-1024x593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ем, в жизни нас ждёт удача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ому что мы сварщ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spetsmontagstroy-photo-4028-828x552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1098701be0f4bd4b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ИНСТРУКТАЖ – КАК СВОД ЗАКОНОВ: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УКОВОДСТВУЙСЯ И ЗНАЙ,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И В РАБОТЕ НЕУКЛОННО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УНКТ ЗА ПУНКТОМ ВЫПОЛНЯ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1"/>
          <p:cNvPicPr/>
          <p:nvPr/>
        </p:nvPicPr>
        <p:blipFill>
          <a:blip r:embed="rId1"/>
          <a:stretch/>
        </p:blipFill>
        <p:spPr>
          <a:xfrm>
            <a:off x="179280" y="189000"/>
            <a:ext cx="4546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ЛИШЬ НАРУШИТЕЛЬ И НЕВЕЖДА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ЕНЕБРЕГАЮТ СПЕЦОДЕЖДОЙ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6364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9" descr="image158"/>
          <p:cNvPicPr/>
          <p:nvPr/>
        </p:nvPicPr>
        <p:blipFill>
          <a:blip r:embed="rId1"/>
          <a:stretch/>
        </p:blipFill>
        <p:spPr>
          <a:xfrm>
            <a:off x="5796000" y="189000"/>
            <a:ext cx="2808360" cy="64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pecuha"/>
          <p:cNvPicPr/>
          <p:nvPr/>
        </p:nvPicPr>
        <p:blipFill>
          <a:blip r:embed="rId2"/>
          <a:stretch/>
        </p:blipFill>
        <p:spPr>
          <a:xfrm>
            <a:off x="1763640" y="2421000"/>
            <a:ext cx="294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берись за рукоятку,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надев сперва перчатку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i?id=06d225282d156862bb45549bb882419b&amp;n=33&amp;h=215&amp;w=333"/>
          <p:cNvPicPr/>
          <p:nvPr/>
        </p:nvPicPr>
        <p:blipFill>
          <a:blip r:embed="rId1"/>
          <a:stretch/>
        </p:blipFill>
        <p:spPr>
          <a:xfrm>
            <a:off x="1332000" y="155736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07:00:00Z</dcterms:created>
  <dc:creator>Admin</dc:creator>
  <dc:description/>
  <dc:language>en-US</dc:language>
  <cp:lastModifiedBy>Admin</cp:lastModifiedBy>
  <dcterms:modified xsi:type="dcterms:W3CDTF">2019-10-03T15:21:15Z</dcterms:modified>
  <cp:revision>8</cp:revision>
  <dc:subject/>
  <dc:title>ОХРАНА ТРУДА  ПРИ РАБОТЕ ЭЛЕКТРОГАЗОСВАРЩИКА</dc:title>
</cp:coreProperties>
</file>