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9E8-B1E5-4B2A-8352-3B915E6E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81B-EE6C-4EA0-BF14-B47186AF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F14-8CE3-4A43-A450-03F94DC2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13A-EDC7-4DD5-B7E8-5A534FCF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9F5-B6CF-4EE9-AA62-4DD713B1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5A0-6BFE-43E6-9040-5BEDF218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361-6036-4885-98C9-9C4EEA63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CF1-F3BA-487E-BF44-8481204F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BD5-889C-41D4-9356-CAA8BE48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19C-186A-4BE8-B85A-44F76ED5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855-B305-4B5E-9913-C45572C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E65-1AD2-4ECB-989B-D1DFE8B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5719-CE1B-454E-A2CF-01E9CAD6CF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2920" y="980640"/>
            <a:ext cx="4249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ХРАНА ТРУД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БОТЕ ЭЛЕКТРОГАЗОСВАРЩ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280" y="3933720"/>
            <a:ext cx="540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: студен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уравлёв Станислав Дмитри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ПОУ СО «Саратовский строительный лиц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фессия: «Сварщик»(электросварочные и газосварочные работ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svarshhik-kmus2"/>
          <p:cNvPicPr/>
          <p:nvPr/>
        </p:nvPicPr>
        <p:blipFill>
          <a:blip r:embed="rId1"/>
          <a:stretch/>
        </p:blipFill>
        <p:spPr>
          <a:xfrm>
            <a:off x="0" y="0"/>
            <a:ext cx="39956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ИНСТРУМЕНТ   БЫТЬ   ДОЛЖЕН  ПРОЧНЫМ, И ОТЛАЖЕННЫМ, И ТОЧНЫМ,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Е  ГОТОВ  ТВОЙ  ИНСТРУМЕНТ –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МОЖЕШЬ  ПОСТРАДАТЬ  В  МОМЕНТ.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331720"/>
            <a:ext cx="403884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9280" y="2276280"/>
            <a:ext cx="403848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7" descr="kak-nauchitsya-varit-elektrosvarkoj-2-800x593"/>
          <p:cNvPicPr/>
          <p:nvPr/>
        </p:nvPicPr>
        <p:blipFill>
          <a:blip r:embed="rId1"/>
          <a:stretch/>
        </p:blipFill>
        <p:spPr>
          <a:xfrm>
            <a:off x="155520" y="2208240"/>
            <a:ext cx="4416480" cy="410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original_picture"/>
          <p:cNvPicPr/>
          <p:nvPr/>
        </p:nvPicPr>
        <p:blipFill>
          <a:blip r:embed="rId2"/>
          <a:stretch/>
        </p:blipFill>
        <p:spPr>
          <a:xfrm>
            <a:off x="4859280" y="2205000"/>
            <a:ext cx="4033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Не проверил заземленье –</a:t>
            </a:r>
            <a:br>
              <a:rPr sz="4000"/>
            </a:b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Сделал смерти предложень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1528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1340635379_2a"/>
          <p:cNvPicPr/>
          <p:nvPr/>
        </p:nvPicPr>
        <p:blipFill>
          <a:blip r:embed="rId2"/>
          <a:stretch/>
        </p:blipFill>
        <p:spPr>
          <a:xfrm>
            <a:off x="4572000" y="1628640"/>
            <a:ext cx="3816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402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ЕСЛИ ВИДИШЬ ЗАДЫМЛЕНЬЕ,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ДЕЙСТВУЙ ТЫ БЕЗ ПРОМЕДЛЕНЬЯ.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ТУТ ЗАКОН ДЛЯ ВСЕХ ЕДИН – НАБИРАЙТ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01!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Е СПЕШИ СПАСАТЬСЯ БЕГСТВОМ, БОЙ ВЕДИ ПОДРУЧНЫМ СРЕДСТВОМ.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ЕСЛИ БОЙ ОРГАНИЗОВАН,</a:t>
            </a:r>
            <a:br>
              <a:rPr sz="2400"/>
            </a:b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ТО ОЧАГ ЛОКАЛИЗОВАН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e1806e_4b34a0e6be1f498e85fba7d67ab6da7d"/>
          <p:cNvPicPr/>
          <p:nvPr/>
        </p:nvPicPr>
        <p:blipFill>
          <a:blip r:embed="rId1"/>
          <a:stretch/>
        </p:blipFill>
        <p:spPr>
          <a:xfrm>
            <a:off x="4859280" y="549360"/>
            <a:ext cx="4105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ТАМ, ГДЕ ГАЗА ЕСТЬ СКОПЛЕНЬЕ,</a:t>
            </a:r>
            <a:br>
              <a:rPr sz="3200"/>
            </a:b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НЕИЗБЕЖНО ОТРАВЛЕНЬЕ!</a:t>
            </a:r>
            <a:br>
              <a:rPr sz="3200"/>
            </a:b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ОБЕСПЕЧЬ ТЫ ВЫХОД ГАЗУ,</a:t>
            </a:r>
            <a:br>
              <a:rPr sz="3200"/>
            </a:br>
            <a:r>
              <a:rPr b="0" i="1" lang="ru-RU" sz="3200" spc="-1" strike="noStrike">
                <a:solidFill>
                  <a:srgbClr val="ffff99"/>
                </a:solidFill>
                <a:latin typeface="Arial"/>
              </a:rPr>
              <a:t>А НЕ ТО ПОГИБНЕШЬ СРАЗУ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03640" y="764640"/>
            <a:ext cx="3610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8" descr="ftf_dmn_tflex_em_3"/>
          <p:cNvPicPr/>
          <p:nvPr/>
        </p:nvPicPr>
        <p:blipFill>
          <a:blip r:embed="rId1"/>
          <a:stretch/>
        </p:blipFill>
        <p:spPr>
          <a:xfrm>
            <a:off x="3995640" y="69228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ЗАПОМНИ ТВЕРДО НАПЕРЕД:</a:t>
            </a:r>
            <a:br>
              <a:rPr sz="4000"/>
            </a:b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«МАСЛООПАСЕН КИСЛОРОД!»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7" descr="Rejd_Belokudrja_0001"/>
          <p:cNvPicPr/>
          <p:nvPr/>
        </p:nvPicPr>
        <p:blipFill>
          <a:blip r:embed="rId1"/>
          <a:stretch/>
        </p:blipFill>
        <p:spPr>
          <a:xfrm>
            <a:off x="539640" y="1773360"/>
            <a:ext cx="3714840" cy="42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image023_14"/>
          <p:cNvPicPr/>
          <p:nvPr/>
        </p:nvPicPr>
        <p:blipFill>
          <a:blip r:embed="rId2"/>
          <a:stretch/>
        </p:blipFill>
        <p:spPr>
          <a:xfrm>
            <a:off x="4932360" y="1773360"/>
            <a:ext cx="324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Если б люди были умные, то они бы никогд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к работе не приступали, не изучив инструкции по охране труда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737_3"/>
          <p:cNvPicPr/>
          <p:nvPr/>
        </p:nvPicPr>
        <p:blipFill>
          <a:blip r:embed="rId1"/>
          <a:stretch/>
        </p:blipFill>
        <p:spPr>
          <a:xfrm>
            <a:off x="4716360" y="620640"/>
            <a:ext cx="381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ы в такие шагнули дали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не очень-то и дойдёшь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98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ы теперь здесь учиться будем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взирая на снег и дождь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7"/>
          <p:cNvPicPr/>
          <p:nvPr/>
        </p:nvPicPr>
        <p:blipFill>
          <a:blip r:embed="rId1"/>
          <a:stretch/>
        </p:blipFill>
        <p:spPr>
          <a:xfrm>
            <a:off x="468360" y="1413000"/>
            <a:ext cx="83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ы в воде ледяной не заплачем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с огнём будем на «ты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84560" cy="446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welding-jobs-1024x593"/>
          <p:cNvPicPr/>
          <p:nvPr/>
        </p:nvPicPr>
        <p:blipFill>
          <a:blip r:embed="rId2"/>
          <a:stretch/>
        </p:blipFill>
        <p:spPr>
          <a:xfrm>
            <a:off x="4643280" y="1628640"/>
            <a:ext cx="4105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наем, в жизни нас ждёт удача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тому что мы сварщи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spetsmontagstroy-photo-4028-828x552"/>
          <p:cNvPicPr/>
          <p:nvPr/>
        </p:nvPicPr>
        <p:blipFill>
          <a:blip r:embed="rId1"/>
          <a:stretch/>
        </p:blipFill>
        <p:spPr>
          <a:xfrm>
            <a:off x="900000" y="1628640"/>
            <a:ext cx="7344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9" descr="1098701be0f4bd4b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ИНСТРУКТАЖ – КАК СВОД ЗАКОНОВ: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РУКОВОДСТВУЙСЯ И ЗНАЙ,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И В РАБОТЕ НЕУКЛОННО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УНКТ ЗА ПУНКТОМ ВЫПОЛНЯ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1"/>
          <p:cNvPicPr/>
          <p:nvPr/>
        </p:nvPicPr>
        <p:blipFill>
          <a:blip r:embed="rId1"/>
          <a:stretch/>
        </p:blipFill>
        <p:spPr>
          <a:xfrm>
            <a:off x="179280" y="189000"/>
            <a:ext cx="454680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ЛИШЬ НАРУШИТЕЛЬ И НЕВЕЖДА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ЕНЕБРЕГАЮТ СПЕЦОДЕЖДОЙ.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40384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6364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9" descr="image158"/>
          <p:cNvPicPr/>
          <p:nvPr/>
        </p:nvPicPr>
        <p:blipFill>
          <a:blip r:embed="rId1"/>
          <a:stretch/>
        </p:blipFill>
        <p:spPr>
          <a:xfrm>
            <a:off x="5796000" y="189000"/>
            <a:ext cx="2808360" cy="648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Specuha"/>
          <p:cNvPicPr/>
          <p:nvPr/>
        </p:nvPicPr>
        <p:blipFill>
          <a:blip r:embed="rId2"/>
          <a:stretch/>
        </p:blipFill>
        <p:spPr>
          <a:xfrm>
            <a:off x="1763640" y="2421000"/>
            <a:ext cx="2944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Не берись за рукоятку,</a:t>
            </a:r>
            <a:br>
              <a:rPr sz="4000"/>
            </a:b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Не надев сперва перчатку.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i?id=06d225282d156862bb45549bb882419b&amp;n=33&amp;h=215&amp;w=333"/>
          <p:cNvPicPr/>
          <p:nvPr/>
        </p:nvPicPr>
        <p:blipFill>
          <a:blip r:embed="rId1"/>
          <a:stretch/>
        </p:blipFill>
        <p:spPr>
          <a:xfrm>
            <a:off x="1332000" y="1557360"/>
            <a:ext cx="662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07:00:00Z</dcterms:created>
  <dc:creator>Admin</dc:creator>
  <dc:description/>
  <dc:language>en-US</dc:language>
  <cp:lastModifiedBy>Admin</cp:lastModifiedBy>
  <dcterms:modified xsi:type="dcterms:W3CDTF">2019-10-03T15:21:15Z</dcterms:modified>
  <cp:revision>8</cp:revision>
  <dc:subject/>
  <dc:title>ОХРАНА ТРУДА  ПРИ РАБОТЕ ЭЛЕКТРОГАЗОСВАРЩИКА</dc:title>
</cp:coreProperties>
</file>