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7.jpeg" ContentType="image/jpeg"/>
  <Override PartName="/ppt/media/image6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3B1-4B3E-4AB6-A028-C6912D3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01B-DFAF-43FE-B19D-6250E4E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DE3-9B7F-438E-A8A5-A5450EFF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6EE-4BD5-41B1-9FC1-79663D07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071-9005-4343-A559-0CAA1BE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220-9870-40AB-A89E-69F32B70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56F-BAE5-4A8C-9B3F-872F7977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966-1804-4A51-91BE-A581B6A5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85A-F7F3-4FDF-B4D7-0D185259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6D6-F388-4851-B94F-9557360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3E0-B249-4BAF-A31A-36C78C6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D45-E86D-480C-8D28-E7D331B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5A51-7190-4959-810A-50B4606C96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834160" y="704880"/>
            <a:ext cx="300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4815"/>
                </a:solidFill>
                <a:latin typeface="Calibri"/>
              </a:rPr>
              <a:t>Правила повед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4815"/>
                </a:solidFill>
                <a:latin typeface="Calibri"/>
              </a:rPr>
              <a:t>в л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Krotov_Sasha_15let(2)_500"/>
          <p:cNvPicPr/>
          <p:nvPr/>
        </p:nvPicPr>
        <p:blipFill>
          <a:blip r:embed="rId1"/>
          <a:stretch/>
        </p:blipFill>
        <p:spPr>
          <a:xfrm>
            <a:off x="282600" y="546120"/>
            <a:ext cx="5068800" cy="4137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" name="Text Box 14"/>
          <p:cNvSpPr/>
          <p:nvPr/>
        </p:nvSpPr>
        <p:spPr>
          <a:xfrm flipV="1">
            <a:off x="6804000" y="6211800"/>
            <a:ext cx="23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8640" y="2101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57240" y="4919760"/>
            <a:ext cx="56163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линова Светлана Васи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БДОУ «Д/с «Журавл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3936960" y="645156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516640" y="330120"/>
            <a:ext cx="29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разжигай костёр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25920" y="1454040"/>
            <a:ext cx="321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лесу очень сухо бывает по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Костёр обернётся серьёзной бедой! Представьте, что пламя легко разгор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ачнёт полыхать, разбегаться искритьс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Его потушить невозможно т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ожары лесные – большая 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"/>
          <p:cNvPicPr/>
          <p:nvPr/>
        </p:nvPicPr>
        <p:blipFill>
          <a:blip r:embed="rId1"/>
          <a:stretch/>
        </p:blipFill>
        <p:spPr>
          <a:xfrm>
            <a:off x="419040" y="449280"/>
            <a:ext cx="4737240" cy="559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разжигай костёр в лесу без взрослых. Без взрослых с огнём развлекаться опасно – закончиться может забава ужасно. В лесу очень сухо бывает порой, костёр обернётся серьёзной бедой! Представьте, что пламя легко разгорится, начнёт полыхать, разбегаться искриться – его потушить невозможно тогда… пожары лесные – большая беда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827600" y="404640"/>
            <a:ext cx="36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оставляй мусор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230800" y="1274760"/>
            <a:ext cx="346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ы в поход пришли, ребя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Отдохнуть, конечно, на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о вокруг остались ба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Целлофан, железки, склян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91280" y="4197240"/>
            <a:ext cx="325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Оставлять их здес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поленимся, друз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Мусор тут, в лесу, чуж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Заберём его с с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10"/>
          <p:cNvPicPr/>
          <p:nvPr/>
        </p:nvPicPr>
        <p:blipFill>
          <a:blip r:embed="rId1"/>
          <a:srcRect l="0" t="0" r="11977" b="0"/>
          <a:stretch/>
        </p:blipFill>
        <p:spPr>
          <a:xfrm>
            <a:off x="344520" y="384120"/>
            <a:ext cx="4332240" cy="5732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оставляй мусор в лесу. Вы в поход пришли, ребята… отдохнуть, конечно, надо: поиграть и порезвиться, И наесться, и напиться… но вокруг остались банки, целлофан, железки, склянки… Оставлять их здесь нельзя! Не поленимся, друзья: мусор тут, в лесу, чужой, заберём его с собо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81640" y="209520"/>
            <a:ext cx="332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бейте стекло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21160" y="1123920"/>
            <a:ext cx="329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льзя  стекло в лесу ки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льзя бутылки разби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Осколки острые опасн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О них порежешься уж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276880" y="3987720"/>
            <a:ext cx="340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А если вдруг на них свал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больнице можно очут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 обитателям ле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Стекляшки тоже не нужн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1"/>
          <p:cNvPicPr/>
          <p:nvPr/>
        </p:nvPicPr>
        <p:blipFill>
          <a:blip r:embed="rId1"/>
          <a:srcRect l="0" t="0" r="12381" b="0"/>
          <a:stretch/>
        </p:blipFill>
        <p:spPr>
          <a:xfrm>
            <a:off x="482760" y="635040"/>
            <a:ext cx="4460760" cy="534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бейте стекло в лесу. Нельзя стекло в лесу кидать, нельзя бутылки разбивать; осколки острые опасны – О них порежешься ужасно! А если вдруг на них свалиться – В больнице можно очутиться! И обитателям лесным стекляшки тоже не нужны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00000" y="60246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вырезайте надписи 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41200" y="554040"/>
            <a:ext cx="193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Стоят деревья – велик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х не жалеют хули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 режут острыми нож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Слова на дереве – «на памя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504120" y="495360"/>
            <a:ext cx="219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о так жестоко поступ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льзя деревья оби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ускай они в лесу расту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Добро и красоту нес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2"/>
          <p:cNvPicPr/>
          <p:nvPr/>
        </p:nvPicPr>
        <p:blipFill>
          <a:blip r:embed="rId1"/>
          <a:srcRect l="0" t="0" r="19861" b="0"/>
          <a:stretch/>
        </p:blipFill>
        <p:spPr>
          <a:xfrm>
            <a:off x="2097000" y="268200"/>
            <a:ext cx="3989520" cy="575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вырезайте надписи на деревьях. Стоят деревья – великаны их не жалеют хулиганы И режут острыми ножами слова на дереве – «на память!». Но так жестоко поступать! Нельзя деревья обижать. Пускай они в лесу растут- добро и красоту несу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095800" y="179280"/>
            <a:ext cx="36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вырывайте кустарники с кор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60600" y="530532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4815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"/>
          <p:cNvPicPr/>
          <p:nvPr/>
        </p:nvPicPr>
        <p:blipFill>
          <a:blip r:embed="rId1"/>
          <a:srcRect l="0" t="0" r="10922" b="0"/>
          <a:stretch/>
        </p:blipFill>
        <p:spPr>
          <a:xfrm>
            <a:off x="225360" y="270000"/>
            <a:ext cx="4443480" cy="627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вырывайте кустарники с корнем. Раз ты собрался по грибы – С собою острый нож бери; им аккуратно гриб срезай – В земле грибницу оставляй. А если встретил землянику, куст брусники иль черники – нежно ягодки сорви, А куст – оставь, поберег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5261040" y="1738440"/>
            <a:ext cx="330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Если встретил земляни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Куст брусники иль черник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жно ягодки сор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А куст – оставь, побере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216400" y="390600"/>
            <a:ext cx="316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портите несъедобные 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425920" y="1798560"/>
            <a:ext cx="32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лесу грибов различных м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Ты несъедобные не трог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корзинку их не собир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о и ногами не сбива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ужны они лесным зверя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Лисичкам, ёжикам, зайчат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0120" y="4797360"/>
            <a:ext cx="476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х только люди не ед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поганках, мухоморах – я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о для зверья лесного всё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Тот гриб полезен и хорош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13"/>
          <p:cNvPicPr/>
          <p:nvPr/>
        </p:nvPicPr>
        <p:blipFill>
          <a:blip r:embed="rId1"/>
          <a:srcRect l="0" t="0" r="15432" b="0"/>
          <a:stretch/>
        </p:blipFill>
        <p:spPr>
          <a:xfrm>
            <a:off x="468360" y="351000"/>
            <a:ext cx="4106880" cy="419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портите несъедобные грибы. В лесу грибов различных много… ты несъедобные не трогай! В корзинку их не собирай, но и ногами не сбивай… нужны они лесным зверятам: лисичкам, ёжикам, зайчатам… Их только люди не едят: В поганках, мухоморах – яд! Но для зверья лесного всё ж тот гриб полезен и хорош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1\Desktop\715834733.gif"/>
          <p:cNvPicPr/>
          <p:nvPr/>
        </p:nvPicPr>
        <p:blipFill>
          <a:blip r:embed="rId1"/>
          <a:stretch/>
        </p:blipFill>
        <p:spPr>
          <a:xfrm>
            <a:off x="2711520" y="2421000"/>
            <a:ext cx="3432240" cy="3689280"/>
          </a:xfrm>
          <a:prstGeom prst="rect">
            <a:avLst/>
          </a:prstGeom>
          <a:ln w="0">
            <a:noFill/>
          </a:ln>
        </p:spPr>
      </p:pic>
      <p:sp>
        <p:nvSpPr>
          <p:cNvPr id="135" name="Рамка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67360" y="128520"/>
            <a:ext cx="31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разоря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птичьи гнёз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230440" y="1125360"/>
            <a:ext cx="282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и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он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нёзда у пт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льзя разоря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в тр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идали 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 услыш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ки птенц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риближайте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лезьте 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тревож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 птиц, ни гн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"/>
          <p:cNvPicPr/>
          <p:nvPr/>
        </p:nvPicPr>
        <p:blipFill>
          <a:blip r:embed="rId1"/>
          <a:stretch/>
        </p:blipFill>
        <p:spPr>
          <a:xfrm>
            <a:off x="189000" y="179280"/>
            <a:ext cx="3959280" cy="647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разоряйте птичьи гнёзда. Дети запомнить должны И понять: гнёзда у птичек нельзя разорять! Если в траве увидали яйцо или услышали крики птенцов, не приближайтесь, не лезьте туда И не тревожьте ни птиц, ни гнез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разоряйте муравей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117080"/>
            <a:ext cx="344016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равьи – лесные санита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прозвали люди их недаро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лес красив был и здор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личинок вредных и жук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равьи на страже день и ноч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нят разных короедов про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2"/>
          <p:cNvPicPr/>
          <p:nvPr/>
        </p:nvPicPr>
        <p:blipFill>
          <a:blip r:embed="rId1"/>
          <a:srcRect l="6192" t="0" r="0" b="0"/>
          <a:stretch/>
        </p:blipFill>
        <p:spPr>
          <a:xfrm>
            <a:off x="4427640" y="392040"/>
            <a:ext cx="4179960" cy="506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546880" y="255600"/>
            <a:ext cx="322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забирай из леса домой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472000" y="1333440"/>
            <a:ext cx="3267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4815"/>
                </a:solidFill>
                <a:latin typeface="Arial Black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21280" y="2038320"/>
            <a:ext cx="271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  <a:ea typeface="Times New Roman"/>
              </a:rPr>
              <a:t>Ежиков не ст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04815"/>
                </a:solidFill>
                <a:latin typeface="Calibri"/>
                <a:ea typeface="Times New Roman"/>
              </a:rPr>
              <a:t>в город забир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  <a:ea typeface="Times New Roman"/>
              </a:rPr>
              <a:t>Поверь: они в не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  <a:ea typeface="Times New Roman"/>
              </a:rPr>
              <a:t>Не будут есть и сп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3"/>
          <p:cNvPicPr/>
          <p:nvPr/>
        </p:nvPicPr>
        <p:blipFill>
          <a:blip r:embed="rId1"/>
          <a:srcRect l="0" t="0" r="12205" b="0"/>
          <a:stretch/>
        </p:blipFill>
        <p:spPr>
          <a:xfrm>
            <a:off x="704880" y="669960"/>
            <a:ext cx="442260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бирай из леса домой животных. Для ёжиков и белок лес – это дом родной. Они живут там смело И летом и зимой: Поэтому не стоит их в город забирать… поверь: они в неволе не будут есть и спать… Находят пропитанье своих детей растят И уходить из леса нисколько не хотя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786280" y="600120"/>
            <a:ext cx="28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обижай лесных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711760" y="2112840"/>
            <a:ext cx="278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лесу летают мотыльки, и жу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олзут козя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рирода мать им жизнь д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У них у всех свои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498680" y="4827600"/>
            <a:ext cx="526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Ты их увидишь на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обижай, а отойд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Без насекомых лес, друг 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 одинокий, и пуст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"/>
          <p:cNvPicPr/>
          <p:nvPr/>
        </p:nvPicPr>
        <p:blipFill>
          <a:blip r:embed="rId1"/>
          <a:srcRect l="0" t="0" r="8031" b="0"/>
          <a:stretch/>
        </p:blipFill>
        <p:spPr>
          <a:xfrm>
            <a:off x="609480" y="388800"/>
            <a:ext cx="4462560" cy="427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обижай лесных насекомых. В лесу летают мотыльки, ползут козявки и жуки… природа мать им жизнь дала. У них у всех свои дела. Ты их увидишь на пути – не обижай, а отойди ! без насекомых лес, друг мой И одинокий, и пустой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Рамка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мка 8"/>
          <p:cNvSpPr/>
          <p:nvPr/>
        </p:nvSpPr>
        <p:spPr>
          <a:xfrm>
            <a:off x="152280" y="15228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04520" y="40464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рвите полев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112536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Цветы украшают луга и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о это не только природы крас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В них пчёлы находят целительный д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 бабочки пьют из них сладкий нек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надо, друзья, их бессмысленно р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надо букеты из них составл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Завянут букеты…Погибнут цве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 больше не будет такой красо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5"/>
          <p:cNvPicPr/>
          <p:nvPr/>
        </p:nvPicPr>
        <p:blipFill>
          <a:blip r:embed="rId1"/>
          <a:srcRect l="12488" t="0" r="0" b="0"/>
          <a:stretch/>
        </p:blipFill>
        <p:spPr>
          <a:xfrm>
            <a:off x="5935680" y="297000"/>
            <a:ext cx="2955960" cy="613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рвите полевые цветы. Цветы украшают луга и леса но это не только природы краса- В них пчёлы находят целительный дар, И бабочки пьют из них сладкий нектар. Не надо, друзья, их бессмысленно рвать, не надо букеты из них составлять… завянут букеты…погибнут цветы… И больше не будет такой красот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5695920" y="2828880"/>
            <a:ext cx="1162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мка 11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951520" y="434880"/>
            <a:ext cx="28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056280" y="1438200"/>
            <a:ext cx="27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935680" y="3897360"/>
            <a:ext cx="266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Только р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С ними л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Ведь теперь цветов таких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7640" t="0" r="0" b="0"/>
          <a:stretch/>
        </p:blipFill>
        <p:spPr>
          <a:xfrm>
            <a:off x="625320" y="503280"/>
            <a:ext cx="4892760" cy="569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рвите редкие цветы. Есть цветочки редкие, белые и нежные: вам кивнут приветливо ландыши, подснежники… Только рвать не надо их – С ними лес добрей, светлей. Ведь теперь цветов таких очень мало на земле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5880" y="333360"/>
            <a:ext cx="32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е ловите бабоч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стрек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80240" y="1413000"/>
            <a:ext cx="288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Бабочка цве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Над тобой порх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Стрекоза резв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ляшет, весел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84200" y="342432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Лету все так ра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Их ловить не над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Пусть себе ле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815"/>
                </a:solidFill>
                <a:latin typeface="Calibri"/>
              </a:rPr>
              <a:t>Землю украша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butterfly42"/>
          <p:cNvPicPr/>
          <p:nvPr/>
        </p:nvPicPr>
        <p:blipFill>
          <a:blip r:embed="rId1"/>
          <a:stretch/>
        </p:blipFill>
        <p:spPr>
          <a:xfrm>
            <a:off x="7451640" y="5229360"/>
            <a:ext cx="1438200" cy="118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7"/>
          <p:cNvPicPr/>
          <p:nvPr/>
        </p:nvPicPr>
        <p:blipFill>
          <a:blip r:embed="rId2"/>
          <a:srcRect l="0" t="0" r="9862" b="0"/>
          <a:stretch/>
        </p:blipFill>
        <p:spPr>
          <a:xfrm>
            <a:off x="4746600" y="189000"/>
            <a:ext cx="4157640" cy="647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8" name="Picture 7" descr="butterfly61"/>
          <p:cNvPicPr/>
          <p:nvPr/>
        </p:nvPicPr>
        <p:blipFill>
          <a:blip r:embed="rId3"/>
          <a:stretch/>
        </p:blipFill>
        <p:spPr>
          <a:xfrm rot="1777800">
            <a:off x="7885080" y="65160"/>
            <a:ext cx="863640" cy="79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utterfly3"/>
          <p:cNvPicPr/>
          <p:nvPr/>
        </p:nvPicPr>
        <p:blipFill>
          <a:blip r:embed="rId4"/>
          <a:stretch/>
        </p:blipFill>
        <p:spPr>
          <a:xfrm>
            <a:off x="4572000" y="177336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ловите бабочек и стрекоз. Бабочка цветная над тобой порхает… стрекоза резвится, пляшет, веселится… Лету все так рады! Их ловить не надо… пусть себе летают, землю украшаю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Рамка 10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07000" y="479520"/>
            <a:ext cx="283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4815"/>
                </a:solidFill>
                <a:latin typeface="Calibri"/>
              </a:rPr>
              <a:t>Не шумите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607000" y="1589040"/>
            <a:ext cx="3057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Вот белка скачет вверх и вниз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4815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591160" y="3643200"/>
            <a:ext cx="3252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В лесу не ну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шум и г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Нельзя шуме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галдеть, кр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4815"/>
                </a:solidFill>
                <a:latin typeface="Calibri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"/>
          <p:cNvPicPr/>
          <p:nvPr/>
        </p:nvPicPr>
        <p:blipFill>
          <a:blip r:embed="rId1"/>
          <a:srcRect l="9690" t="0" r="0" b="0"/>
          <a:stretch/>
        </p:blipFill>
        <p:spPr>
          <a:xfrm>
            <a:off x="431640" y="579600"/>
            <a:ext cx="4632480" cy="547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шумите в лесу. У леса музыка своя… её послушайте друзья! Вот птичьи трели раздались, вот белка скачет вверх и вниз, А вот кузнечик затрещал, по ветке дятел застучал… Как много звуков тут и там! В лесу не нужен шум и гам: нельзя шуметь, галдеть, кричать И громко музыку включ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53:24Z</dcterms:created>
  <dc:creator>Name</dc:creator>
  <dc:description/>
  <dc:language>en-US</dc:language>
  <cp:lastModifiedBy>1</cp:lastModifiedBy>
  <dcterms:modified xsi:type="dcterms:W3CDTF">2019-12-15T14:46:09Z</dcterms:modified>
  <cp:revision>30</cp:revision>
  <dc:subject/>
  <dc:title>Правила поведения в лесу</dc:title>
</cp:coreProperties>
</file>