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EC0-422F-4669-B0D3-B806DC3D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9B2-1AE9-40FF-950B-E713520F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6BF-8916-4FD3-AFA6-F503F8BC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9EE-D419-428D-BF32-7CC03F21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0F752-0BBE-4426-A0BE-9530F189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68DE2-75B8-4847-B6FD-354F7D93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002EE-7F16-4DB1-9B64-A7AA6037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400A7-676B-493D-8B74-3DB0A38D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96C74-4340-44F2-A460-0C58509A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1F9F8-FB43-433B-BA92-E40323CC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FE57A-37B8-4FCA-94CE-981A924C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011-5A0E-487F-A9A3-81EBEE74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BE218-A456-476F-8D9B-5BADBEA6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764E7-98BC-4521-B790-48CB6F87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42872-8216-449F-83B4-FB4757BC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A0A48-BFBB-48B8-A5B3-BC713A58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A7645-886C-4E28-8AA1-94C87B6E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A08-FC83-40D8-BE14-F4B0ECAD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ED1-1B46-4599-BF4E-126E4BB7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F57-743D-4A6A-A99F-7E5F1B6E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3B6-FC52-454A-A398-DD2F5F65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533-7320-4FEF-8933-56E7C8C2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2B9-589F-466E-BC23-B606A5DC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D98-71FA-4FE3-86BB-51BC4B25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46A5-BE2E-431B-8A16-CA2572446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C615-C36A-4F48-8B79-34B2F0C14D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77640"/>
            <a:ext cx="8820000" cy="3979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Преступление и наказани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иды преступлений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ступления против лич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ступления в экономической сфе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ступления против общественной безопас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ступления против государственной вл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инские преступ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ступления против мира и безопасности человеч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иды наказаний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траф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ишение права занимать определенные должности или заниматься определенной деятельност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ишение специального воинского или почетного звания и государственных наград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язательные работы 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правительные работ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граничение по военной служб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фискация имуществ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граничение свобод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рес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держание в дисциплинарной час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ишение свободы на определенный срок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жизненное лишение свобод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мертная ка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головная и административная ответствен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ник разбил стекл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ажданин сознательно купил ворованную вещ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ажданин без лицензии поймал 15 кг ры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раконьер выловил 3 осет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ажданин из мести поджог дом сосе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шинист тепловоза явился на работу в нетрезвом состоя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итель автомашины не справился с управлением и повредил стоявшую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лг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ащиеся техникума угнали автомашину и разбили е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кольник случайно попал из рогатки в прохоже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раль или право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ергей солгал мат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иколай разорил муравейни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еррорист попытался угнать само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ладимир положил в карман финский нож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лександр принял дозу наркот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алерий при переезде на новое место жительство выгнал соба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чий прогулял рабочий де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евушка украла чужого ребе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тр и Леонид бросали камни в проходящие поез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натолий пожаднича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италий снял щетки стеклоочистителя с чужого автомоби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Школьник мучил коте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арианты ответов к карточкам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Лишение свободы с отбыванием наказания в трудовой коло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Условное осу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Лишение свободы с отбыванием наказания в исправительно-трудовой коло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Освобождение от наказания с передачей на пор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Отсрочка исполнения наказ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Шесть лет лишения свободы в исправительно-трудовой колонии строгого режи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9:36:03Z</dcterms:created>
  <dc:creator>Lada</dc:creator>
  <dc:description/>
  <dc:language>en-US</dc:language>
  <cp:lastModifiedBy>Root</cp:lastModifiedBy>
  <dcterms:modified xsi:type="dcterms:W3CDTF">2019-12-15T17:26:27Z</dcterms:modified>
  <cp:revision>10</cp:revision>
  <dc:subject/>
  <dc:title>Преступление и наказание</dc:title>
</cp:coreProperties>
</file>