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8B8-F639-4BF5-A8DB-969C64D5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BEC-2949-430D-B40B-6987F8CE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BFD-23DF-45AE-8EF6-8034BD19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D47-BAF4-4EE9-B8B2-74484862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A85-97EC-4BE2-A23B-5D8E7458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64D-0467-449A-967C-650196E6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077-A83E-496C-BB46-CDE98075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0E0-0DD9-4426-9EFD-F0490ECB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E61-10C3-4D55-B9E5-CAFD9E3A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97B-FB79-4AB8-A5DC-97B7C83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239-1C2A-47DB-8296-D68C57C7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83E-DED5-468B-AB69-941BF1F7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B844-CD3D-4CC0-B504-373303E32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спублика Карел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дминистрация Петрозаводского городского округ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реждение Петрозаводского городского округ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Детский сад общеразвивающего вида с приоритет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МЕСТЕ ВЕСЕЛО ИГР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игры из бросового матери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спитатели группы №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черина В.В.; Шалаева Г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s1200"/>
          <p:cNvPicPr/>
          <p:nvPr/>
        </p:nvPicPr>
        <p:blipFill>
          <a:blip r:embed="rId1"/>
          <a:stretch/>
        </p:blipFill>
        <p:spPr>
          <a:xfrm>
            <a:off x="468360" y="3429000"/>
            <a:ext cx="23065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явление и распространение педагогического опыта работы по    изготовлению игр и дидактического пособия из бросов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ширить знания и умения  в изготовлении  изделий из бросового материала путем освоения несложных тех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ивизировать творческую фантазию  в процессе работы с бросовым материалом для обогащения предметно-развивающей среды новыми пособ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аждом доме всегда можно найти ненужные вещи, которые выбрасываются в мусорную корзинку, но если подойти творчески, то простая коробка может превратиться в робота, в домик, в машину, да мало ли еще во чт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шем детском саду мы превращаем бросовый материал в поделки разного назначения: игрушка для ребенка, кукла для театра, спортивный инвентарь,  пособия для развивающих игры, для подвижных и сюжетно-ролевых игр детей, разнообразные макеты,  оборудование для экспериментирования, украшение интерьера помещений и участков. Естественно, что все перечисленные изделия должны быть безопасны в использов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 «Самый мет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059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териалы: капсулы от киндер – сюрприза, обычная резинка, подставка для кол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24000" y="148428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иг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расывание колец на стержни игровой ко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сстояние, с которого осуществляется бросок — произвольное, но одинаковое для всех учас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Каждый участник выполняет 3-5 бросков с одного и того же рас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Игра проходит в несколько туров (количество туров – произвольно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За каждое наброшенное кольцо игрок получает один б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Выигрывает тот участник, который набирает в сумме наибольшее количество баллов за все 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ра в кольцеброс развивает у детей ловкость, умение рассчитать силу броска, глазомер, общую мотор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вариант: тренажер для формирования правильной оса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-TwLDYbGTI"/>
          <p:cNvPicPr/>
          <p:nvPr/>
        </p:nvPicPr>
        <p:blipFill>
          <a:blip r:embed="rId1"/>
          <a:stretch/>
        </p:blipFill>
        <p:spPr>
          <a:xfrm>
            <a:off x="4427640" y="333360"/>
            <a:ext cx="4032000" cy="302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V6XmDlL-VCk"/>
          <p:cNvPicPr/>
          <p:nvPr/>
        </p:nvPicPr>
        <p:blipFill>
          <a:blip r:embed="rId2"/>
          <a:stretch/>
        </p:blipFill>
        <p:spPr>
          <a:xfrm>
            <a:off x="611280" y="33336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TW-6fIHT1BY"/>
          <p:cNvPicPr/>
          <p:nvPr/>
        </p:nvPicPr>
        <p:blipFill>
          <a:blip r:embed="rId3"/>
          <a:stretch/>
        </p:blipFill>
        <p:spPr>
          <a:xfrm>
            <a:off x="539640" y="3429000"/>
            <a:ext cx="4321440" cy="324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GLyzvTS0upA"/>
          <p:cNvPicPr/>
          <p:nvPr/>
        </p:nvPicPr>
        <p:blipFill>
          <a:blip r:embed="rId4"/>
          <a:stretch/>
        </p:blipFill>
        <p:spPr>
          <a:xfrm>
            <a:off x="4140360" y="3384720"/>
            <a:ext cx="431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«Летающие тарел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ериал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мажные упаковки из-под сыра, корзинка (обру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иг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овершенствовать умение попадать предметом в неподвижную  горизонтальную ц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исание иг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вариан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ти по очереди бросают «тарелки» в корзинку. Корзинку располагают на расстоянии 1,5 – 2 м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 вариан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играют командами по 2-3 человека в каждой. Встают перед корзиной (обручами) на расстоянии 1,5-2 м.( Или по середине между командами). По сигналу воспитателя первые бросают «тарелку» так, чтобы она попала в корзинку (обруч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ая игра развивает глазомер, меткость, умение работать в коман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83i8keplrSk"/>
          <p:cNvPicPr/>
          <p:nvPr/>
        </p:nvPicPr>
        <p:blipFill>
          <a:blip r:embed="rId1"/>
          <a:stretch/>
        </p:blipFill>
        <p:spPr>
          <a:xfrm>
            <a:off x="4500720" y="3860640"/>
            <a:ext cx="367164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mke5eTxNpU"/>
          <p:cNvPicPr/>
          <p:nvPr/>
        </p:nvPicPr>
        <p:blipFill>
          <a:blip r:embed="rId2"/>
          <a:stretch/>
        </p:blipFill>
        <p:spPr>
          <a:xfrm>
            <a:off x="1403280" y="3860640"/>
            <a:ext cx="1959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FKquZX9lQk"/>
          <p:cNvPicPr/>
          <p:nvPr/>
        </p:nvPicPr>
        <p:blipFill>
          <a:blip r:embed="rId1"/>
          <a:stretch/>
        </p:blipFill>
        <p:spPr>
          <a:xfrm>
            <a:off x="684360" y="765000"/>
            <a:ext cx="3887640" cy="491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bA9FKni6-NQ"/>
          <p:cNvPicPr/>
          <p:nvPr/>
        </p:nvPicPr>
        <p:blipFill>
          <a:blip r:embed="rId2"/>
          <a:stretch/>
        </p:blipFill>
        <p:spPr>
          <a:xfrm>
            <a:off x="4932360" y="214200"/>
            <a:ext cx="35132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 пособие «Моза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териал: пластиковые крышки разной величины и цвета, шабл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учить соотносить цвет крышки с цветом изобра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развивать мелкую моторику, зрительную память, творчест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воспитывать аккуратность при выполнении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ла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ти подбирают пластиковые крышки по цвету изображения на рису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9kH2OiC1k"/>
          <p:cNvPicPr/>
          <p:nvPr/>
        </p:nvPicPr>
        <p:blipFill>
          <a:blip r:embed="rId1"/>
          <a:stretch/>
        </p:blipFill>
        <p:spPr>
          <a:xfrm>
            <a:off x="1547640" y="2924280"/>
            <a:ext cx="5185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FN2RTkDYX4"/>
          <p:cNvPicPr/>
          <p:nvPr/>
        </p:nvPicPr>
        <p:blipFill>
          <a:blip r:embed="rId1"/>
          <a:stretch/>
        </p:blipFill>
        <p:spPr>
          <a:xfrm>
            <a:off x="395280" y="189000"/>
            <a:ext cx="5545080" cy="415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SdhaUJClstk"/>
          <p:cNvPicPr/>
          <p:nvPr/>
        </p:nvPicPr>
        <p:blipFill>
          <a:blip r:embed="rId2"/>
          <a:stretch/>
        </p:blipFill>
        <p:spPr>
          <a:xfrm>
            <a:off x="2987640" y="2421000"/>
            <a:ext cx="5580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дактическая игра «Раз, два, три – собери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ольшая крышка от обувной коробки, кубик от упаковки чайного пакета, коробочка, баночки из-под йогурта, крышки красного, голубого, желтого, зеленого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Продолжать развивать сенсорные способности, закрепление 4-х основных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д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игроков:  2-4 человека. Игрок выбирает корзину. Необходимо собрать крышки. Дети бросают по очереди кубик и идут по цветным квадратикам. Если останавливается на квадратике того же цвета, что и корзинка у игрока, то кладём крышку из коробки, расположенной по центру поля. Ходим кругами без начала и конца, пока все крышки не закончатся. Потом считаем. У кого больше, тот и выигр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3T14:48:59Z</dcterms:created>
  <dc:creator>Мой</dc:creator>
  <dc:description/>
  <dc:language>en-US</dc:language>
  <cp:lastModifiedBy>user</cp:lastModifiedBy>
  <dcterms:modified xsi:type="dcterms:W3CDTF">2019-12-15T15:52:34Z</dcterms:modified>
  <cp:revision>4</cp:revision>
  <dc:subject/>
  <dc:title>Республика Карелия Администрация Петрозаводского городского округа Муниципальное бюджетное дошкольное образовательное Учреждение Петрозаводского городского округа «Детский сад общеразвивающего вида с приоритетным</dc:title>
</cp:coreProperties>
</file>