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5184775" cy="39243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A46-3642-4606-BE36-379C5394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200" y="210708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7A0-BE4A-429D-B7E1-5EC22E71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996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390-7889-421C-B9C9-C948125F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3672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1388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20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3672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1388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F0F-54F0-4B94-A9F9-5D19514F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4A3-D3DB-4F0D-AF0B-ABD11AA6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200" y="918000"/>
            <a:ext cx="4665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D3F5-9798-404C-B24D-F0873F08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4665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3DE-504C-4FD4-AB25-5895D6D9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879D-30E7-4151-833A-ABF74B11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04B9-098D-4EE3-A8E2-6965F87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200" y="156240"/>
            <a:ext cx="46656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EE6F-5E1F-4A4F-971E-E0D3C59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390B-1E15-46AC-9672-27D615B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200" y="918000"/>
            <a:ext cx="4665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812-228D-4834-B9A2-6EFF5D2C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4996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F16-5E39-4EED-8E7F-702B513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7551-DD6C-4D6C-9D98-E8ABFE4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200" y="210708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BE7-0888-4803-ACBF-3E92D636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4996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792C-9CBD-4BAA-AAD5-CFC0E09B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3672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13880" y="91800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20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3672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413880" y="2107080"/>
            <a:ext cx="150192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27B7-0766-49EE-A534-6D70910A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4665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750-277C-46A5-A0B8-6C0F9D08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A8E-25D7-472F-A3BD-FF6436D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AF8-49B1-4916-B745-C231E85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200" y="156240"/>
            <a:ext cx="46656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B75-D6E0-44C5-81E3-EA1600C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D02-633D-4C0E-A8A7-3855AB6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9960" y="210708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4FF-76A5-4E6E-8E1B-D75A81DA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20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9960" y="918000"/>
            <a:ext cx="227664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200" y="2107080"/>
            <a:ext cx="4665600" cy="10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2B9-7520-4F01-8EDC-FBE88F8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59200" y="3637080"/>
            <a:ext cx="1209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53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53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53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71560" y="3637080"/>
            <a:ext cx="1641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715920" y="3637080"/>
            <a:ext cx="1209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53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38E13-69A8-4AF5-948C-22D6409D9E7D}" type="slidenum">
              <a:rPr b="0" lang="ru-RU" sz="53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53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59200" y="156240"/>
            <a:ext cx="4665600" cy="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94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59200" y="918000"/>
            <a:ext cx="4665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1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0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0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88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88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88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88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00" y="157320"/>
            <a:ext cx="466596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94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9200" y="915840"/>
            <a:ext cx="4665960" cy="2589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51200" indent="-1512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1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10" spc="-1" strike="noStrike">
              <a:solidFill>
                <a:srgbClr val="000000"/>
              </a:solidFill>
              <a:latin typeface="Calibri"/>
            </a:endParaRPr>
          </a:p>
          <a:p>
            <a:pPr lvl="1" marL="327960" indent="-126000">
              <a:lnSpc>
                <a:spcPct val="100000"/>
              </a:lnSpc>
              <a:spcBef>
                <a:spcPts val="247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24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1240" spc="-1" strike="noStrike">
              <a:solidFill>
                <a:srgbClr val="000000"/>
              </a:solidFill>
              <a:latin typeface="Calibri"/>
            </a:endParaRPr>
          </a:p>
          <a:p>
            <a:pPr lvl="2" marL="504720" indent="-10080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06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060" spc="-1" strike="noStrike">
              <a:solidFill>
                <a:srgbClr val="000000"/>
              </a:solidFill>
              <a:latin typeface="Calibri"/>
            </a:endParaRPr>
          </a:p>
          <a:p>
            <a:pPr lvl="3" marL="706320" indent="-1008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88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880" spc="-1" strike="noStrike">
              <a:solidFill>
                <a:srgbClr val="000000"/>
              </a:solidFill>
              <a:latin typeface="Calibri"/>
            </a:endParaRPr>
          </a:p>
          <a:p>
            <a:pPr lvl="4" marL="908280" indent="-1008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88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8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9200" y="3637080"/>
            <a:ext cx="1209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53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53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53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771560" y="3637080"/>
            <a:ext cx="1641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715920" y="3637080"/>
            <a:ext cx="1209600" cy="2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53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5A94B2-7F8F-4697-B207-B45C6BA32F84}" type="slidenum">
              <a:rPr b="0" lang="ru-RU" sz="53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53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0" y="0"/>
            <a:ext cx="5231880" cy="3924000"/>
          </a:xfrm>
          <a:prstGeom prst="rect">
            <a:avLst/>
          </a:prstGeom>
          <a:ln w="9525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716760" y="849240"/>
            <a:ext cx="3591720" cy="381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120" spc="-1" strike="noStrike">
                <a:solidFill>
                  <a:srgbClr val="00b050"/>
                </a:solidFill>
                <a:latin typeface="Calibri"/>
              </a:rPr>
              <a:t>«</a:t>
            </a:r>
            <a:r>
              <a:rPr b="1" lang="ru-RU" sz="2120" spc="-1" strike="noStrike">
                <a:solidFill>
                  <a:srgbClr val="00b050"/>
                </a:solidFill>
                <a:latin typeface="Arial"/>
              </a:rPr>
              <a:t>Белоствольная берёзка»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240" spc="-1" strike="noStrike">
                <a:solidFill>
                  <a:srgbClr val="00b050"/>
                </a:solidFill>
                <a:latin typeface="Calibri"/>
              </a:rPr>
              <a:t>Выполнили воспитатель: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ИЛЯСОВА Ю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-17280" y="0"/>
            <a:ext cx="5231880" cy="3924000"/>
          </a:xfrm>
          <a:prstGeom prst="rect">
            <a:avLst/>
          </a:prstGeom>
          <a:ln w="9525">
            <a:noFill/>
          </a:ln>
        </p:spPr>
      </p:pic>
      <p:sp>
        <p:nvSpPr>
          <p:cNvPr id="85" name="TextBox 2"/>
          <p:cNvSpPr/>
          <p:nvPr/>
        </p:nvSpPr>
        <p:spPr>
          <a:xfrm>
            <a:off x="907560" y="786240"/>
            <a:ext cx="2765160" cy="25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060" spc="-1" strike="noStrike">
                <a:solidFill>
                  <a:srgbClr val="000000"/>
                </a:solidFill>
                <a:latin typeface="Arial"/>
              </a:rPr>
              <a:t>«Белоствольная берёзка»</a:t>
            </a:r>
            <a:endParaRPr b="0" lang="en-US" sz="10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6000" y="990000"/>
            <a:ext cx="4752000" cy="292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аспорт проекта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ип проекта: познавательно – творческ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одолжительность проек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проект средней продолжительности, апрель май2018г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дети младшего дошкольного возраста, воспитатель, родите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озраст детей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3-4 года.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одукт проек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: коллаж «Русская красавица»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облема значимая для детей, на решение которой направлен проект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достаточно знаний о самом почитаемом дереве в России – берёзе, о её эстетическом, хозяйственном, оздоровительном значении в жизни человека. Несоблюдение правил экологически грамотного поведения в природе ( дети часто ломают деревья, не понимая, что они живые и какую пользу они приносят). </a:t>
            </a:r>
            <a:br>
              <a:rPr sz="24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-28080" y="0"/>
            <a:ext cx="5284440" cy="396324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2"/>
          <p:cNvSpPr/>
          <p:nvPr/>
        </p:nvSpPr>
        <p:spPr>
          <a:xfrm>
            <a:off x="812160" y="945360"/>
            <a:ext cx="3591360" cy="25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06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ЕДПОЛАГАЕМЫЕ ИТОГИ РЕАЛИЗАЦИИ ПРОЕКТА</a:t>
            </a:r>
            <a:endParaRPr b="0" lang="en-US" sz="10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32000" y="1203120"/>
            <a:ext cx="4392000" cy="197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88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агается получить результаты в области 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ологического воспитания дете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спитание эмоционального, 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ережного отношения к берез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как к живому объекту природы; умения видеть красоту дерев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оме того, предполагается развитие словаря детей, любознательности, наблюдательности, интереса к исследовательской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-15840" y="0"/>
            <a:ext cx="5258880" cy="3943440"/>
          </a:xfrm>
          <a:prstGeom prst="rect">
            <a:avLst/>
          </a:prstGeom>
          <a:ln w="9525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200" y="157320"/>
            <a:ext cx="466596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9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бъект 3"/>
          <p:cNvSpPr/>
          <p:nvPr/>
        </p:nvSpPr>
        <p:spPr>
          <a:xfrm>
            <a:off x="573840" y="847080"/>
            <a:ext cx="1684440" cy="224748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9525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исунок 7"/>
          <p:cNvSpPr/>
          <p:nvPr/>
        </p:nvSpPr>
        <p:spPr>
          <a:xfrm>
            <a:off x="2814840" y="976680"/>
            <a:ext cx="1580040" cy="21067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-24480" y="-17280"/>
            <a:ext cx="5256000" cy="3941280"/>
          </a:xfrm>
          <a:prstGeom prst="rect">
            <a:avLst/>
          </a:prstGeom>
          <a:ln w="9525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008360" y="1072080"/>
            <a:ext cx="3672000" cy="33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90" spc="-1" strike="noStrike">
                <a:solidFill>
                  <a:srgbClr val="009900"/>
                </a:solidFill>
                <a:latin typeface="Arial"/>
              </a:rPr>
              <a:t>Рисование «Белая берёза»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"/>
          <p:cNvPicPr/>
          <p:nvPr/>
        </p:nvPicPr>
        <p:blipFill>
          <a:blip r:embed="rId2"/>
          <a:srcRect l="0" t="21647" r="0" b="0"/>
          <a:stretch/>
        </p:blipFill>
        <p:spPr>
          <a:xfrm>
            <a:off x="325440" y="1500840"/>
            <a:ext cx="1834560" cy="1916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"/>
          <p:cNvPicPr/>
          <p:nvPr/>
        </p:nvPicPr>
        <p:blipFill>
          <a:blip r:embed="rId3"/>
          <a:stretch/>
        </p:blipFill>
        <p:spPr>
          <a:xfrm>
            <a:off x="3096360" y="1530000"/>
            <a:ext cx="14907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0" y="0"/>
            <a:ext cx="5231880" cy="3924000"/>
          </a:xfrm>
          <a:prstGeom prst="rect">
            <a:avLst/>
          </a:prstGeom>
          <a:ln w="9525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1836720" y="1580760"/>
            <a:ext cx="1740600" cy="25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60" spc="-1" strike="noStrike">
                <a:solidFill>
                  <a:srgbClr val="009900"/>
                </a:solidFill>
                <a:latin typeface="Arial"/>
              </a:rPr>
              <a:t>Аппликация «Березы»</a:t>
            </a:r>
            <a:endParaRPr b="0" lang="en-US" sz="10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исунок 1"/>
          <p:cNvSpPr/>
          <p:nvPr/>
        </p:nvSpPr>
        <p:spPr>
          <a:xfrm>
            <a:off x="458280" y="1060920"/>
            <a:ext cx="1162440" cy="15498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9bbb59">
                <a:lumMod val="20000"/>
                <a:lumOff val="80000"/>
              </a:srgbClr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исунок 3"/>
          <p:cNvSpPr/>
          <p:nvPr/>
        </p:nvSpPr>
        <p:spPr>
          <a:xfrm>
            <a:off x="3752640" y="1837080"/>
            <a:ext cx="1263240" cy="168444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9bbb59">
                <a:lumMod val="20000"/>
                <a:lumOff val="80000"/>
              </a:srgbClr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0" y="0"/>
            <a:ext cx="5231880" cy="3924000"/>
          </a:xfrm>
          <a:prstGeom prst="rect">
            <a:avLst/>
          </a:prstGeom>
          <a:ln w="9525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2"/>
          <a:stretch/>
        </p:blipFill>
        <p:spPr>
          <a:xfrm>
            <a:off x="444600" y="881280"/>
            <a:ext cx="1193760" cy="159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4" name="Рисунок 3"/>
          <p:cNvSpPr/>
          <p:nvPr/>
        </p:nvSpPr>
        <p:spPr>
          <a:xfrm>
            <a:off x="3387240" y="881280"/>
            <a:ext cx="1110960" cy="158904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исунок 4"/>
          <p:cNvSpPr/>
          <p:nvPr/>
        </p:nvSpPr>
        <p:spPr>
          <a:xfrm>
            <a:off x="1797480" y="1453680"/>
            <a:ext cx="1358640" cy="181152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Шаблон презентации &quot;Берёзка-2&quot;"/>
          <p:cNvPicPr/>
          <p:nvPr/>
        </p:nvPicPr>
        <p:blipFill>
          <a:blip r:embed="rId1"/>
          <a:stretch/>
        </p:blipFill>
        <p:spPr>
          <a:xfrm>
            <a:off x="0" y="0"/>
            <a:ext cx="5256360" cy="394200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2"/>
          <p:cNvSpPr/>
          <p:nvPr/>
        </p:nvSpPr>
        <p:spPr>
          <a:xfrm rot="20835600">
            <a:off x="511920" y="1376280"/>
            <a:ext cx="3457440" cy="116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53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  <Words>3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5:40:14Z</dcterms:created>
  <dc:creator>Пользователь</dc:creator>
  <dc:description/>
  <dc:language>en-US</dc:language>
  <cp:lastModifiedBy>Пользователь Windows</cp:lastModifiedBy>
  <dcterms:modified xsi:type="dcterms:W3CDTF">2019-12-15T11:52:05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8</vt:r8>
  </property>
</Properties>
</file>