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BEBF-30C6-4AEF-8A3A-6CF13850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742F-75BB-4D3E-86BB-979D9046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9E4A-CE18-41AD-8B37-9E06CF5E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5E56-1B2B-44B1-A9E0-1926533F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F9CB-D16E-4587-BF36-43FB3042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50E1-4445-46A5-A0BD-340055BD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06B8-AE3E-41E7-9FBB-89E59EA2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8522-C981-4811-BA1F-B4A21FBC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439A-357A-4017-9148-9967BF2F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79F8-284C-47BB-9B0B-1AF61611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3A30-F084-4F75-B9E7-1208E1C8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F8AE-16F2-43DA-B62F-A1354C03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AF66-6DF5-41B3-9C25-391CFFF4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5217-99F7-42FE-A8D4-6904D3F6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A1F9-107C-4B0A-B3D8-2FB7D938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774E-E8E0-4CF9-9E65-144C8FE2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1C4E-8F55-4E16-9416-24D573B7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E336-4B69-4D67-BA5F-14014894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0A6E-BDFF-4F1B-8DE2-064ABFB9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F728-7832-440A-BC6F-2C0F8B1E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986F-F92C-438D-9351-3F470C61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F357-F7EC-4421-B5CB-334DA68F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6A80-8F6E-4708-ABEF-A24AD205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ABE5B-4D87-43C8-8AFA-DDE1622D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BD9C-367A-4D9D-8F9F-CF511B7215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279B-5F3F-49B3-8610-C63A148420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304920"/>
            <a:ext cx="7162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Исследователь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</a:rPr>
              <a:t>«Жемчужина родного кра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6248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рковь Николая Чудотворца в селе Вольно- Николь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981080"/>
            <a:ext cx="556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Выполнила: Ипполитова Маргарита,   ученица 7 класса МБОУ «Курташкин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867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ять куполов на храме, установленные на круглых возвышениях- барабанах, выполненные из дерева и обшитые жестью, символизировали Иисуса Христа и четырёх евангелис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594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5943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9320" y="60958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ешётки на окнах храма выкованы кузнецами Уфаев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59421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Храм украшен в традициях древнерусского зодчества. В наружной отделке использована кирпичная орнаментика: над оконными проёмами в два ряда своеобразно выложенные выступы в форме полукруглой а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60199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 особой пышностью убраны верхние части храма. Двойной карниз завершается своеобразно выложенными полукружиями по всему периметру четве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0199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ногочисленные кирпичные узоры присутствуют на центральном световом барабане и на четырёх глухих боковых барабан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886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886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3886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ид на алтар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38862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упол над центральной частью хра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9568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 своему внутреннему устройству храм Николая Чудотворца состоит из трёх основных частей: алтаря, средней части храма и притвора. Притвор- это преддверие к храму. В средней части, или собственно храме, во время богослужения собирались на молитву прихожане. В восточной части храма находится алтарь, который символизирует область бытия Божия. В алтаре находится святой прест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5943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ного места в Никольской церкви занимают многочисленные фрески, которыми расписаны купол и стены хра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5867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586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60199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воспоминаниям старожилов, для росписи стен и потолков храма Семён Иванович Степашкин приглашал лучших мастеров- иконописцев из Пензы и Тамб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4060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6019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441972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лтарь возвышается над средней частью храма и непременно отделяется от неё иконостасом. До наших дней, к сожалению, от иконостаса сохранились только некоторые деревянные части и разорванные напополам несколько икон, написанных на толстом карто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464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5029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ядом с церковью до настоящего времени сохранилось помещение, ранее, видимо, принадлежавшее церкви, в котором до сих пор лежат мельничные жернова. Некоторые элементы кирпичной кладки перекликаются с элементами внешнего декора хра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976680"/>
            <a:ext cx="7239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Цель исследовательской работы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– изучить историческое прошлое храма во имя Николая Чудотворца  в селе Вольно – Никольское, привлечь внимание общественности к памятнику архитектуры моего с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251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247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3886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еле Вольно- Никольское достаточно много домов, построенных из красного кирпича более века назад. Очень многие элементы кирпичной кладки этих зданий также перекликаются с элементами декоративных узоров храма, что позволяет с осторожностью сказать о едином архитектурном стиле, используемом зодч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0" y="2590920"/>
            <a:ext cx="45720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сская Православная церковь всегда играла и играет огромную роль в истории нашей страны. Христианские храмы являются неотъемлемой частью культурного наследия нашего народа, так как в храмах воплощены и собраны лучшие достижения в области архитектуры, живописи, иконописи, что и доказывает выдвинутую мною гипотез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тюрьевсая земля полна бесценными памятниками культуры и истории, без чего бы оборвалась нить, связывающая поколения воедино. Для нас предки сохранили многое, и нам важно эту нить не оборвать, а протянуть её в будущ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472680"/>
            <a:ext cx="7010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8859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дач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8859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* Найти сведения о возникновении села Вольно-Никольское и строительстве православного храма в се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8859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* Изучить старинные документы, краеведческий материал, справочный материал по архитектуре 19-начала 20 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8859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* Более подробно изучить внешний облик и внутреннее убранство каменной церкви в селе Вольно-Никольс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244440"/>
            <a:ext cx="7239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оя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сследовательска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работа имеет актуальное значение, так как в ней рассматривается тема изучения наших духовных и исторических корней. Без прошлого нет будущего. Для возрождения духовности подрастающего поколения необходимо, чтобы дети лучше знали историю своего народа, уважали  памятники старины, бережно относились  к вере своих предков. Все это позволяет молодому поколению ощущать себя наследниками прошлого и сознавать свою ответственность перед будущ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425160"/>
            <a:ext cx="7696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Гипотез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христианские храмы являются неотъемлемой частью культурного наследия нашего на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етоды исследования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работа с архивными документами, изучение специальной литературы, экскурсия по территории церкви, беседа со старожилами села, сравнение и анализ результа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200160"/>
            <a:ext cx="7925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актическая значимость исследовательской работ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материалы исследования могут быть использованы учащимися, учителями, библиотекарями для проведения уроков краеведения, ИЗО, МХК, когда знакомятся с особенностями храмового зодч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 каждого храма есть еще и  своя собственная история. Многих сведений нет в архивах и фондах библиотек, их хранит народная память.  Эти сведения я узнала из воспоминаний старожилов села, что можно использовать и во внеклассной работе  как учащимися, так и учит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57913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рковь Николая Чудотворца в селе Вольно- Никольское с приделом в честь Покрова Пресвятой Богородицы, построенная в 1904 году уроженцем села Степашкиным Семёном Иванович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Храм крестово- купольной формы построен из красного кирпича- пятиглавый четверик с боковыми притворами, протяжённой трапезной, в которой помещался Покровский придел, и многоярусной колоколь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8-02-16T00:15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