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F81-7414-4148-A282-41D252B5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ED2-760A-4458-9158-608BAE56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F68-F5CE-4381-9EB5-FE41DA5F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376-3A1F-425A-B8B0-78992410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D56-1A73-4A26-92AC-3A880C1E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D64-4331-4BFA-8474-82DD0328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9DD-8D7F-4D58-BB8E-25723189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8A8-8EE2-404C-8D58-9A01C180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4AF-323D-4E18-A79F-EC6DE5D0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7AE-FE37-4C4B-A903-3F73BDEA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370-D9B7-40ED-9645-AD781C47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751-DF89-4D21-8365-2E7A7560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4F65-A5AD-441C-B0F4-644D1D7CA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адиционные виды спорта России и Брита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ОУ Некоузская СО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Зарипова А.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метные: называют разные виды спорта, характерные для России и Британии на основе прочитанных текс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поставляют традиционные виды спорта России и Брит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предметные: соотносят аутентичные тексты с визуальными источниками по теме «традиционные виды спорта России и Британ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ставляют ментальную карту «традиционные виды спорта России и Британ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ют ментальную карту по совместно выработанным критери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чностные результаты: делятся личными знаниями о традиционных видах спорта России и Брит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концу урока учащиеся будут способны на      основе составленной ментальной карты,     сопоставить традиционные виды спорта      России и Брит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836640"/>
          <a:ext cx="8856720" cy="6745320"/>
        </p:xfrm>
        <a:graphic>
          <a:graphicData uri="http://schemas.openxmlformats.org/drawingml/2006/table">
            <a:tbl>
              <a:tblPr/>
              <a:tblGrid>
                <a:gridCol w="1728720"/>
                <a:gridCol w="5111640"/>
                <a:gridCol w="2016360"/>
              </a:tblGrid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Эта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Способы организации деятельности (методы, приемы, техни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Дид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монстрация видеофрагмента финал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чемпионата Европы Англия-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смотр видео фраг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252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ормирование образа желаемого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ор формы представления  результата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indm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суждение критериев оценки продукта деятельности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рные критерии:  1.наглядность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грамотность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соответствие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поня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овая ситуация ( эстафета по традиционным российским и британским видам спор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писок традиционных русских и английских видов спо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836640"/>
          <a:ext cx="8856720" cy="6956280"/>
        </p:xfrm>
        <a:graphic>
          <a:graphicData uri="http://schemas.openxmlformats.org/drawingml/2006/table">
            <a:tbl>
              <a:tblPr/>
              <a:tblGrid>
                <a:gridCol w="1728720"/>
                <a:gridCol w="5111640"/>
                <a:gridCol w="2016360"/>
              </a:tblGrid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Эта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Способы орган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  <a:ea typeface="Calibri"/>
                        </a:rPr>
                        <a:t>Дид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7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суждение и выбор способа написания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indm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ложенные формы и средства работы для создания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indm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210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ление плана работы по созданию продукта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овместное обсуждение  плана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Фиксация пл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ти расставляют  в логическом порядке этапы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Читать текст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Соотносить с картин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Извлекать необходимую информациию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Анализировать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Фиксировать в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indm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147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Выполнение 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Работа по плану ( создание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dmap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оздание ситуации успе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Дифференцированная помощь(работа в групп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ик стр.142-143 упр.54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Работа  в групп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здание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mindm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Анализ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Презентация продукта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dmap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Оценивание по выработанным крите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ставление продукта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местное оценивание по выработанным крите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 автора М.З.Биболетово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Enjoy English” 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ласс. Издательство: Обнинск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тул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дактическое обеспечение (видеофрагмент, карточки, раздаточные пособи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Админ</cp:lastModifiedBy>
  <dcterms:modified xsi:type="dcterms:W3CDTF">2019-12-16T19:11:16Z</dcterms:modified>
  <cp:revision>21</cp:revision>
  <dc:subject/>
  <dc:title>Тема со-бытия</dc:title>
</cp:coreProperties>
</file>