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1FB-2FD8-4A09-A4FC-C1595E7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61C-9ACA-4183-A27C-B14C1B5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515-5045-4095-8258-81B42BEF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9A8-ED4D-480B-AEA2-863B9156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2F2-036A-4D77-8894-029D57A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2D4-7D85-480D-A247-5374019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57C-374D-4E28-9F6F-35F7E8E7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C34-29FB-41DA-A7A2-C062C060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7E0-897A-48B2-A122-8A828EE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267-EF50-43CF-9CA7-95DFA03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E23-338D-4BC1-AD5D-991EC2A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3BA-61A9-433B-8AD9-3DD9256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391-F48E-4043-BD4B-63EAF1F2B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диционные виды спорта России и Бри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У Некоузская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арипова А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ные: называют разные виды спорта, характерные для России и Британии на основе прочитанных тек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поставляют традиционные виды спорта России и Брит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предметные: соотносят аутентичные тексты с визуальными источниками по теме «традиционные виды спорта России и Брита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ставляют ментальную карту «традиционные виды спорта России и Брита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ментальную карту по совместно выработанным критер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ные результаты: делятся личными знаниями о традиционных видах спорта России и Брит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концу урока учащиеся будут способны на      основе составленной ментальной карты,     сопоставить традиционные виды спорта      России и Брит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836640"/>
          <a:ext cx="8856720" cy="6745320"/>
        </p:xfrm>
        <a:graphic>
          <a:graphicData uri="http://schemas.openxmlformats.org/drawingml/2006/table">
            <a:tbl>
              <a:tblPr/>
              <a:tblGrid>
                <a:gridCol w="1728720"/>
                <a:gridCol w="511164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пособы организации деятельности (методы, приемы, техни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монстрация видеофрагмента финал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чемпионата Европы Англия-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смотр видео фраг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2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формы представления  результата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уждение критериев оценки продукта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рные критерии:  1.нагляд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грамот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соответствие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пон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ая ситуация ( эстафета по традиционным российским и британским видам спор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исок традиционных русских и английских видов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836640"/>
          <a:ext cx="8856720" cy="6956280"/>
        </p:xfrm>
        <a:graphic>
          <a:graphicData uri="http://schemas.openxmlformats.org/drawingml/2006/table">
            <a:tbl>
              <a:tblPr/>
              <a:tblGrid>
                <a:gridCol w="1728720"/>
                <a:gridCol w="511164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уждение и выбор способа написания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ложенные формы и средства работы для создан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0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ление плана работы по созданию продукт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вместное обсуждение  план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иксация пл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ти расставляют  в логическом порядке этапы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Читать текст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Соотносить с картин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Извлекать необходимую информациию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Анализирова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Фиксировать в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47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абота по плану ( созда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dmap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здание ситуации усп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Дифференцированная помощь(работа в групп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 стр.142-143 упр.54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Работа  в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здани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Презентация продукта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dmap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Оценивание по выработанным крите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ставление продукт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оценивание по выработанным крите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 автора М.З.Биболетов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Enjoy English” 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ласс. Издательство: Обнинс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тул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дактическое обеспечение (видеофрагмент, карточки, раздаточные пособи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Админ</cp:lastModifiedBy>
  <dcterms:modified xsi:type="dcterms:W3CDTF">2019-12-16T19:11:16Z</dcterms:modified>
  <cp:revision>21</cp:revision>
  <dc:subject/>
  <dc:title>Тема со-бытия</dc:title>
</cp:coreProperties>
</file>