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32.png" ContentType="image/png"/>
  <Override PartName="/ppt/media/image9.png" ContentType="image/png"/>
  <Override PartName="/ppt/media/image11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2EB-8B04-4937-97DB-5B45B143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0C7-E20F-49CF-AEB8-51F5220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239-8769-412E-A65E-EFA334FD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0CB-AE95-4BF1-A6EF-D1A69C90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393-D103-4B5B-8327-89FE9D4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78C-7D69-425F-B598-9E179C9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56B-C723-4C9A-88A1-F637AA92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7AC-C8C5-4E82-86AD-7F429ED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010-6AA2-4644-A20C-1C35879E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BF4-12AF-431B-95C4-126448C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75A-3EA8-4AAB-B54E-C81EB3F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342-C498-4EC6-BB58-CF0DDBD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86D9-5627-4BC6-A2B4-DB806859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C:/Documents%20and%20Settings/&#1051;&#1077;&#1085;&#1072;/Local%20Settings/Temp/Rar$DI00.687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3" Type="http://schemas.openxmlformats.org/officeDocument/2006/relationships/hyperlink" Target="file:///C:/Documents%20and%20Settings/&#1051;&#1077;&#1085;&#1072;/Local%20Settings/Temp/Rar$DI00.687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4" Type="http://schemas.openxmlformats.org/officeDocument/2006/relationships/hyperlink" Target="file:///C:/Documents%20and%20Settings/&#1051;&#1077;&#1085;&#1072;/Local%20Settings/Temp/Rar$DI00.687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5" Type="http://schemas.openxmlformats.org/officeDocument/2006/relationships/hyperlink" Target="file:///C:/Documents%20and%20Settings/&#1051;&#1077;&#1085;&#1072;/Local%20Settings/Temp/Rar$DI00.687/&#1060;&#1077;&#1076;&#1077;&#1088;&#1072;&#1083;&#1100;&#1085;&#1099;&#1081;%20&#1079;&#1072;&#1082;&#1086;&#1085;%20&#1056;&#1086;&#1089;&#1089;&#1080;&#1081;&#1089;&#1082;&#1086;&#1081;%20&#1060;&#1077;&#1076;&#1077;&#1088;&#1072;&#1094;&#1080;&#1080;%20&#1086;&#1090;%2029%20&#1076;&#1077;&#1082;&#1072;&#1073;&#1088;&#1103;%202010%20&#1075;.docx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00000"/>
                </a:solidFill>
                <a:latin typeface="Arial"/>
              </a:rPr>
              <a:t>«Безопасность детей в сети Интернет и интернет – угрозы для ребенка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31489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291960" y="407880"/>
            <a:ext cx="8534520" cy="16160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37636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731520"/>
            <a:ext cx="8280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9% детей иногда посещают порносайты, еще 9% делают это регуля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8% детей, просматривают страницы о нас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6% детей просматривают страницы с расистским содержи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5% пятилетних детей активно используют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коло 50% детей выходят в Сеть без контро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4,5% детей назначали встречи с незнакомцами через Интернет, 10% из них ходили на встречи в одиночку, а 7% никому не сообщили, что с кем–то встреч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916000" y="2276280"/>
            <a:ext cx="6119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«Киберсуиц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– всего лишь способ избавления от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иберсуицид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согласованные самоубийства. По Интернету подростки и молодые лю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говариваются о совместном самоубийств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71640" y="1628280"/>
            <a:ext cx="61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7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cc"/>
                </a:solidFill>
                <a:uFillTx/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cc"/>
                </a:solidFill>
                <a:uFillTx/>
                <a:latin typeface="Arial"/>
              </a:rPr>
              <a:t>С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24000" y="1773000"/>
            <a:ext cx="6119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6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cc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</a:t>
            </a:r>
            <a:r>
              <a:rPr b="1" lang="en-US" sz="3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32767"/>
                </a:solidFill>
                <a:latin typeface="Arial"/>
              </a:rPr>
              <a:t>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916360" y="2492280"/>
            <a:ext cx="5653080" cy="18003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bbe0e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627280" y="3141720"/>
            <a:ext cx="6335640" cy="13737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bbe0e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Оградите ребенка от ненадлежащего веб-содерж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428920" y="3143160"/>
            <a:ext cx="6143760" cy="180036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bbe0e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165240" y="176040"/>
            <a:ext cx="883908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850896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0920" y="1218960"/>
            <a:ext cx="864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Power Spy 200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301944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NAG-0015"/>
          <p:cNvPicPr/>
          <p:nvPr/>
        </p:nvPicPr>
        <p:blipFill>
          <a:blip r:embed="rId2"/>
          <a:stretch/>
        </p:blipFill>
        <p:spPr>
          <a:xfrm>
            <a:off x="324000" y="2739960"/>
            <a:ext cx="4574880" cy="3784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214960" y="292896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грамму удобно использовать, чтобы узнать, чем заняты дети в отсутствие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840" y="1125360"/>
            <a:ext cx="8548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iProtectYou Pr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53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51021c813e17e48872b639aa8a055600"/>
          <p:cNvPicPr/>
          <p:nvPr/>
        </p:nvPicPr>
        <p:blipFill>
          <a:blip r:embed="rId1"/>
          <a:stretch/>
        </p:blipFill>
        <p:spPr>
          <a:xfrm>
            <a:off x="179280" y="2492280"/>
            <a:ext cx="454680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932360" y="30002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грамма-фильтр интерн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озволяет родителям ограничивать  по разным параметрам сай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сматриваемые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85840" y="1214280"/>
            <a:ext cx="875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KidsContro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479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SNAG-0014"/>
          <p:cNvPicPr/>
          <p:nvPr/>
        </p:nvPicPr>
        <p:blipFill>
          <a:blip r:embed="rId1"/>
          <a:stretch/>
        </p:blipFill>
        <p:spPr>
          <a:xfrm>
            <a:off x="108000" y="2565360"/>
            <a:ext cx="5200560" cy="37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786280" y="31431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назначение KidsControl – контроль времени, которое ребенок проводит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944640" y="55440"/>
            <a:ext cx="737712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182600" y="-12600"/>
            <a:ext cx="73580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560" y="1214280"/>
            <a:ext cx="869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CYBERsitt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240522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NAG-0013"/>
          <p:cNvPicPr/>
          <p:nvPr/>
        </p:nvPicPr>
        <p:blipFill>
          <a:blip r:embed="rId2"/>
          <a:stretch/>
        </p:blipFill>
        <p:spPr>
          <a:xfrm>
            <a:off x="250920" y="3483000"/>
            <a:ext cx="4483080" cy="1166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859280" y="32148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CYBERSitter дает взрослым возможность ограничивать доступ детей к нежелательным ресурсам в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963720" y="-128520"/>
            <a:ext cx="678960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3840" y="1213920"/>
            <a:ext cx="875052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Arial"/>
              </a:rPr>
              <a:t>КиберМама 1.0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www.securitylab.ru/software/273998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SNAG-0013"/>
          <p:cNvPicPr/>
          <p:nvPr/>
        </p:nvPicPr>
        <p:blipFill>
          <a:blip r:embed="rId2"/>
          <a:stretch/>
        </p:blipFill>
        <p:spPr>
          <a:xfrm>
            <a:off x="214200" y="3000240"/>
            <a:ext cx="4768920" cy="2928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5005440" y="267804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роследит за временем работы, предупредит ребенка о том, что скоро ему нужно будет отдохнуть и приостановит работу компьютера, когда заданное вами время исте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оддерживает следующие возмож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граничение по суммарному времени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перерывов в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разрешенных интервалов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нтерн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гр/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70880" cy="15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щаться с друзьями, семьей, коллег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учать доступ к информации и развлечени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иться, встречаться с людьми и узнавать нов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5219640" y="4724280"/>
            <a:ext cx="32083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75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75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75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6"/>
          <p:cNvSpPr/>
          <p:nvPr/>
        </p:nvSpPr>
        <p:spPr>
          <a:xfrm>
            <a:off x="-14400" y="148428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1b3ed"/>
                </a:solidFill>
                <a:latin typeface="Trebuchet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72.540006637573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38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" autoRev="1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508720" y="4486320"/>
            <a:ext cx="3457440" cy="237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560" y="333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-42840" y="463680"/>
            <a:ext cx="9339120" cy="123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55700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Федеральный закон от 29.12.2010 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36-ФЗ "О защите детей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информации, причиняющей вред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доровью и развитию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6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664000" y="1773000"/>
            <a:ext cx="64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продаже контрабандных товаров или другой незакон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 с рекламой табака и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изготовлению взрывчат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рк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33200" y="237960"/>
            <a:ext cx="8871120" cy="1730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223344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40000" y="184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силие и нетерп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где продают оружие, наркотики, отравляющие вещества, алког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позволяющие детям принимать участие в азартных играх он-ла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на которых могут собирать и продавать частную информацию о Ваших детях и Вашей сем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3600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2233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7:01:42Z</dcterms:created>
  <dc:creator>Елена</dc:creator>
  <dc:description/>
  <dc:language>en-US</dc:language>
  <cp:lastModifiedBy>Елена</cp:lastModifiedBy>
  <dcterms:modified xsi:type="dcterms:W3CDTF">2015-11-24T17:01:54Z</dcterms:modified>
  <cp:revision>1</cp:revision>
  <dc:subject/>
  <dc:title>Слайд 1</dc:title>
</cp:coreProperties>
</file>