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9D2-B61E-4FEC-957F-81C37161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594-4883-4648-A9D7-16D672BC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649-9473-49D6-8B0F-1910C0A2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A58-CA52-4C11-BA53-8D3DA1BC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848BE-ADE7-428D-829E-A399F076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11064-285A-4105-9D4F-6DC41374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4725-BBFD-405C-A97F-33C9D83C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EA89-E37A-46C7-B25E-C88984A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CA2C-7EA7-443D-8D07-3D4E009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5C177-8D31-4F61-AFCD-6320052E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EE235-2DC5-414D-8DDA-4F8587F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E19-6A3E-4953-9911-F7D7D48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3F68A-9902-4603-BC13-F415E35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FCA92-C3FC-464B-836C-1E8A9D6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41439-7D0E-4A7E-B6CA-2CFA2C9B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5914E-C230-45E9-9B2E-09F99AC0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8B2AD-1D12-41B7-9FB9-F209B0B6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904F-5398-4086-A866-D9D861E3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97B1-0CE6-4A12-AA57-A0B09DE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16E4-6692-4D7E-A5D3-480FDADA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40D5-5BA0-41E2-AC48-BA8858D4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3350-44E3-4E92-A72F-C721C94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C7A-C7BD-4AB1-ABEE-4CCCD3E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73F7-BE3C-4A81-B43A-8F311652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DE58-6F0A-45B5-AFDA-A7B22541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A3FD-33E0-4D97-A60D-786559A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A558-E17D-433E-AC8B-2CBC864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B905-2CF9-409E-9EA9-5D21DFC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36C4-AEE4-42CB-A23C-FE5BEC68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5A0D-4C3B-4667-917C-8CDEF3DC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AAC3-EB10-46C8-9B38-405AD971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841C-C7D6-4C65-ADAF-0A3348E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9ABF-C779-4917-AA48-B3D32BB2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03E-50BF-41C5-8995-03D8F600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EDF3-874C-498A-B0C5-F09E5625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E3B5-5947-4260-8DDA-216FB77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76D3-F8FC-49E5-915C-82DB38B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19B0-A138-4878-880D-6684B30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3FDE-308B-421A-94D2-44F0742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870A-BE2C-4965-8A15-C18449E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C692-106F-4B3F-97DF-CB0F5B9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C7BF-5909-4EBA-A611-60CF7B70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3399-A987-4957-B69A-46BB5C72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008F-6823-4430-B618-DA20C6AF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017-5C36-43B4-8396-3A1F6395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84D6-40CA-4B9E-8846-625D70F2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3D69-5DB0-4832-8990-B9B22277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24CD-5DFD-41F2-B46E-CC622367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09C6-6FFB-4DD8-9395-FABC2F14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61DB-4B9D-469F-8D9F-987F4EE1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05BB-D391-445E-8923-36B7CA7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5CCF-B99D-4EC2-805C-40AC096E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E9F71-96F0-423F-BD06-A5DBFB2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5770-C1D6-40A2-88FD-514B2899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B702-FB75-4408-B7FA-276C4DFD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CC2-308B-4D7A-8979-64B83AA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789A-0ABF-4EC6-AF04-6AB3A9CB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72FB-D765-4966-BEC5-86112D08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0167-7CA6-4197-B8C6-896F64B6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65D0-0D94-4C76-800A-424F6C06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597C8-7773-4895-8EBD-B4C9C49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8078-F4AE-4188-888D-C2AC6619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FF92C-A3C7-4AEC-8CE2-BC2E6B34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7F16-8CA1-428A-89F0-11856EBE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12B75-16A2-4B96-A112-99273EA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D785-D97D-41B1-BB68-F88AB94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298-6A6F-4F7A-959F-F0ACEB6F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6CB2-EF61-4FBD-A4F9-E379CF1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5EE9-132F-4D34-B12A-5411DF4F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4A13-2233-47AA-BCD8-07B2CD6E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C162-68A3-462C-B268-A1756692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8AA1-88AC-4D31-A080-687D1298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D7106-A680-4AE0-A313-81A742CB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E3F1A-86EF-4A32-B7B8-2EE05330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EFDA7-E094-41CA-BD03-DBE26F5D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190E-1DDB-4F79-9408-C5088ACA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549D-FD4D-49BD-8536-5AE8FF3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E66-ADCA-4B0C-8D81-ABEB2E5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CC45F-B12C-4FC5-B7F9-C665965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33610-1E18-4820-AD3E-6509C15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7802-940A-4C1A-8348-5FCCF703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BD5D1-7925-414D-A6A9-986B0D85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0782A-07E5-4B1E-80A7-74969719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86A9-C5D5-46A0-9032-2BF3D4A8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6529-B1B2-4775-B8F7-44F9D0F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42258-32B3-4381-A54C-0B773D47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2545-DA02-440E-9520-5F7450B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8EE1-9BB9-4104-91B4-06D9E067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C8A-19A8-4038-B266-C3F3C13C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B7098-8269-4774-8567-47F555E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9511-41AC-4786-A726-0A99F3D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12C6E-EA90-4D59-974F-628D610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A8B98-BEBB-41CF-904C-4EC97DC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C293C-81C5-4770-AA3A-AF7FBDD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C5BE-F837-44E2-B39A-C1CDF64A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9019-C023-47E2-A06D-6EC59930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27E-BFC9-4143-A616-2804A7A84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47AA-1931-4500-B5A8-CB66375048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538-0D6E-4797-BAA2-2AFA245E12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482C-DCB2-4656-9BE3-7E12D1F73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C11-BCA7-4B27-9DD3-25A296E8A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2C7E-09C6-4F9C-969E-694B2A7C6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DE68-8979-463C-BDF4-B1289FEEC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649-0F89-41B5-A084-F24860EF70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Система и основные аспекты подготовки обучающихся к ГИА по обществознани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ёмкин Алексей Борисович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МБОУ СОШ №12 с. Майкоп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пределить фразу, более точно характеризующую современное понимание права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вой ответ аргументируй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357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«Право – это искусство добра и справедливости» (Римское юридическое изреч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«Сущность права состоит в равновесии двух нравственных интересов: личной свободы и общего блага» (В.С.Соловьев, русский филосо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рма и виды занят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844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ку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тические зач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минологические дикта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39640" y="476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Учит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Выпуск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50920" y="1844640"/>
            <a:ext cx="266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ффективная поэтапная система предметной подгот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867280" y="1413000"/>
            <a:ext cx="302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теоретическая подготов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формированные умения и навы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24000" y="5273640"/>
            <a:ext cx="8135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Успешная сдача ГИ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14"/>
          <p:cNvSpPr/>
          <p:nvPr/>
        </p:nvSpPr>
        <p:spPr>
          <a:xfrm>
            <a:off x="2411280" y="1125360"/>
            <a:ext cx="2016360" cy="37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15"/>
          <p:cNvSpPr/>
          <p:nvPr/>
        </p:nvSpPr>
        <p:spPr>
          <a:xfrm flipV="1">
            <a:off x="4427640" y="1125000"/>
            <a:ext cx="1584360" cy="37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 rot="21002400">
            <a:off x="388800" y="1001160"/>
            <a:ext cx="829944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 !!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408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правления деятельности учителя по подготовке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ение обучающимися теоретического материала по философии, экономике, политологии, социологии, культурологии, прав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м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навыков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подготовки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9640" y="220500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-й этап (6-7 класс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-й этап (8-9 класс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-й этап (10-11 классы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пределение элементов содержания КИМ по годам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39640" y="1916280"/>
          <a:ext cx="8136000" cy="3528720"/>
        </p:xfrm>
        <a:graphic>
          <a:graphicData uri="http://schemas.openxmlformats.org/drawingml/2006/table">
            <a:tbl>
              <a:tblPr/>
              <a:tblGrid>
                <a:gridCol w="674640"/>
                <a:gridCol w="3407040"/>
                <a:gridCol w="672840"/>
                <a:gridCol w="676440"/>
                <a:gridCol w="674640"/>
                <a:gridCol w="676440"/>
                <a:gridCol w="676080"/>
                <a:gridCol w="677880"/>
              </a:tblGrid>
              <a:tr h="5047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дел кодифик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классах изуч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и об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ые отно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стема подготовк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пускников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2640"/>
            <a:ext cx="8323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подготов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тегия подго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занятий                           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ика подготов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ти повышения ка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4572000" y="1700280"/>
            <a:ext cx="20876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4"/>
          <p:cNvSpPr/>
          <p:nvPr/>
        </p:nvSpPr>
        <p:spPr>
          <a:xfrm flipV="1">
            <a:off x="4788000" y="3789000"/>
            <a:ext cx="187164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4572000" y="1700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6"/>
          <p:cNvSpPr/>
          <p:nvPr/>
        </p:nvSpPr>
        <p:spPr>
          <a:xfrm flipH="1">
            <a:off x="179280" y="198900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4788000" y="5084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19"/>
          <p:cNvSpPr/>
          <p:nvPr/>
        </p:nvSpPr>
        <p:spPr>
          <a:xfrm flipH="1">
            <a:off x="25056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скрыть содержание понятия «товар» (7 класс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ссоциации (признаки):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продукты, вещи, сделаны людьми, можно купить или прод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улировано детьми: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вар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– продукт трудовой деятельности людей, который можно купить или прод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словаря учебника: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вар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– продукт труда, произведенный для обм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2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тветьте на вопросы к абзацу параграфа (7 класс, § 1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 самых древних времен в обществе существовал бартер – натуральный обмен одной вещи на другую. Деньги для такого обмена не нужны. Этот способ обмена дожил до наших дней. Бартер, как и натуральное хозяйство, - пережиток прошлого, имеющий серьезные недостатки: он неудобен, занимает много времени на поиск варианта обмена, не всегда равноценный и справедливый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опрос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1) Как автор раскрывает понятие «бартер»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) На какие недостатки бартера указывает автор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3) Автор отмечает, что бартер как способ обмена дожил до наших дней. Приведите известные вам примеры барт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3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ыделите из перечня общие черты и черты отличия товаров и услуг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8 класс, § 2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вляется результатом эконом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ладает вещественной форм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ступает объектом купли-прода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требляется непосредственно в момент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4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чи предложения (8 класс, § 2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се виды деятельности российской экономики объединены в две группы: социально-культурная сфера и сфера….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(материального производств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овар обладает двумя основными свойствами: потребительской стоимостью и ….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(меновой стоимостью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9:12:06Z</dcterms:created>
  <dc:creator>Loner-XP</dc:creator>
  <dc:description/>
  <dc:language>en-US</dc:language>
  <cp:lastModifiedBy>Домашний</cp:lastModifiedBy>
  <dcterms:modified xsi:type="dcterms:W3CDTF">2019-12-15T16:34:20Z</dcterms:modified>
  <cp:revision>21</cp:revision>
  <dc:subject/>
  <dc:title>Повышение качества образования через выстраивание системы подготовки к ГИА и ЕГЭ по обществознанию</dc:title>
</cp:coreProperties>
</file>