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7C6-52E0-420A-9FC7-D8BA3DAD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220-3814-4D20-B631-DDD55918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DC2-0CCB-48BC-8EAD-124126CB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8C0-9E2A-436C-82B2-431D3F55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644-CD9E-45AE-84C2-54B841B1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544-A9FD-42FE-A035-2E34140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54E-E115-4291-B50D-BD79FF9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DF1-ABFE-45B8-A715-4A0F7B1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0B5-C7E6-4315-BB2B-4982D0F6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C5C-9150-4D9A-9D5A-EEE751D2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384-404E-4D1A-AD72-926C0AD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29F-E565-403E-A0BE-3374341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F03-75F3-4D5B-932D-1ABC0C9D7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5280" y="139392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Коррекция тяжелых нарушений речи посредством современных логопедических 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187280" y="4508640"/>
            <a:ext cx="772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</a:rPr>
              <a:t>Подготовила: Кушнир Т.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</a:rPr>
              <a:t>учитель – логопед МДОУ «ЦРР-д/с №8 «Золотая рыбка» г. Валуйки Белгородской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азвивающи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Дидактический синквей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«Инверси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Мозговой штур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Корабельный совет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«Хорошо – плохо»  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-9360" y="765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Тяжелые нарушения ре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бщее недоразвитие речи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ОН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Дизар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лалия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моторная, сенсор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фа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инолалия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гнусавость)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икание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Традиционные логопедически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логопедического обсле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звукопроизно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формирования речевого дыхания при различных нарушениях произноситель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голоса при различных нарушениях произноситель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развития интонационн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коррекции темпо-ритм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развития лексико-грамматической стороны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ехнология логопедического масс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8520" y="26028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пользование современных образовательных логопедических техн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Игровые техноло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G:\ТАНЯ\фото кушнир для МНЕМОТ, ПДД\Фото0215.jpg"/>
          <p:cNvPicPr/>
          <p:nvPr/>
        </p:nvPicPr>
        <p:blipFill>
          <a:blip r:embed="rId1"/>
          <a:stretch/>
        </p:blipFill>
        <p:spPr>
          <a:xfrm>
            <a:off x="3708360" y="2806560"/>
            <a:ext cx="2421000" cy="322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6378480" y="3693960"/>
            <a:ext cx="2301840" cy="145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F:\2-3 года ПРОЕКТ\Фото Арт.гимн.2-3 года\IMG_8461.JPG"/>
          <p:cNvPicPr/>
          <p:nvPr/>
        </p:nvPicPr>
        <p:blipFill>
          <a:blip r:embed="rId3"/>
          <a:stretch/>
        </p:blipFill>
        <p:spPr>
          <a:xfrm>
            <a:off x="263520" y="2266920"/>
            <a:ext cx="3068640" cy="18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ТАНЯ\таня фотки\занятие по ПДД\IMG_7992.JPG"/>
          <p:cNvPicPr/>
          <p:nvPr/>
        </p:nvPicPr>
        <p:blipFill>
          <a:blip r:embed="rId4"/>
          <a:stretch/>
        </p:blipFill>
        <p:spPr>
          <a:xfrm>
            <a:off x="263520" y="4581360"/>
            <a:ext cx="3068640" cy="204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774720" y="23760"/>
            <a:ext cx="7558200" cy="136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G:\Целевые ориентиры\Фото к Ц.О\Подгр.раб..jpg"/>
          <p:cNvPicPr/>
          <p:nvPr/>
        </p:nvPicPr>
        <p:blipFill>
          <a:blip r:embed="rId2"/>
          <a:stretch/>
        </p:blipFill>
        <p:spPr>
          <a:xfrm>
            <a:off x="5194440" y="4133880"/>
            <a:ext cx="3587760" cy="23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66760" y="1314360"/>
            <a:ext cx="3168720" cy="237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:\МОИ проекты\проект Игрушка\Фото к проекту\IMG_9133.JPG"/>
          <p:cNvPicPr/>
          <p:nvPr/>
        </p:nvPicPr>
        <p:blipFill>
          <a:blip r:embed="rId4"/>
          <a:stretch/>
        </p:blipFill>
        <p:spPr>
          <a:xfrm>
            <a:off x="5286240" y="1317600"/>
            <a:ext cx="3544920" cy="23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PC-Nout\AppData\Local\Temp\Rar$DRa0.576\IMG_4942.JPG"/>
          <p:cNvPicPr/>
          <p:nvPr/>
        </p:nvPicPr>
        <p:blipFill>
          <a:blip r:embed="rId5"/>
          <a:stretch/>
        </p:blipFill>
        <p:spPr>
          <a:xfrm>
            <a:off x="290520" y="4133880"/>
            <a:ext cx="312084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user\Desktop\S8300940.JPG"/>
          <p:cNvPicPr/>
          <p:nvPr/>
        </p:nvPicPr>
        <p:blipFill>
          <a:blip r:embed="rId6"/>
          <a:stretch/>
        </p:blipFill>
        <p:spPr>
          <a:xfrm>
            <a:off x="3090960" y="2616120"/>
            <a:ext cx="259560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61800" y="33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Технологии коррекции психомоторного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G:\Целевые ориентиры\Фото к Ц.О\Самомассаж.JPG"/>
          <p:cNvPicPr/>
          <p:nvPr/>
        </p:nvPicPr>
        <p:blipFill>
          <a:blip r:embed="rId1"/>
          <a:stretch/>
        </p:blipFill>
        <p:spPr>
          <a:xfrm>
            <a:off x="1042920" y="1509840"/>
            <a:ext cx="3121200" cy="234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Целевые ориентиры\Фото к Ц.О\Дыхат.гимн..JPG"/>
          <p:cNvPicPr/>
          <p:nvPr/>
        </p:nvPicPr>
        <p:blipFill>
          <a:blip r:embed="rId2"/>
          <a:stretch/>
        </p:blipFill>
        <p:spPr>
          <a:xfrm>
            <a:off x="3073320" y="4149720"/>
            <a:ext cx="307332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:\Целевые ориентиры\Фото к Ц.О\Пальч.гимн..JPG"/>
          <p:cNvPicPr/>
          <p:nvPr/>
        </p:nvPicPr>
        <p:blipFill>
          <a:blip r:embed="rId3"/>
          <a:stretch/>
        </p:blipFill>
        <p:spPr>
          <a:xfrm>
            <a:off x="5292720" y="153972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ехнологии логопедической, фонетической и речедвигательной ритмик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G:\Целевые ориентиры\Фото к Ц.О\Логоритмика.JPG"/>
          <p:cNvPicPr/>
          <p:nvPr/>
        </p:nvPicPr>
        <p:blipFill>
          <a:blip r:embed="rId2"/>
          <a:stretch/>
        </p:blipFill>
        <p:spPr>
          <a:xfrm>
            <a:off x="826920" y="1673280"/>
            <a:ext cx="3313440" cy="2482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:\Целевые ориентиры\Фото к Ц.О\Взаимод. муз..JPG"/>
          <p:cNvPicPr/>
          <p:nvPr/>
        </p:nvPicPr>
        <p:blipFill>
          <a:blip r:embed="rId3"/>
          <a:stretch/>
        </p:blipFill>
        <p:spPr>
          <a:xfrm>
            <a:off x="5245200" y="1673280"/>
            <a:ext cx="3355920" cy="251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G:\Целевые ориентиры\Фото к Ц.О\IMG_8019.JPG"/>
          <p:cNvPicPr/>
          <p:nvPr/>
        </p:nvPicPr>
        <p:blipFill>
          <a:blip r:embed="rId4"/>
          <a:stretch/>
        </p:blipFill>
        <p:spPr>
          <a:xfrm>
            <a:off x="5245200" y="4295880"/>
            <a:ext cx="3355920" cy="22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ТАНЯ\таня фотки\я выбираю спорт\IMG_1316.JPG"/>
          <p:cNvPicPr/>
          <p:nvPr/>
        </p:nvPicPr>
        <p:blipFill>
          <a:blip r:embed="rId5"/>
          <a:stretch/>
        </p:blipFill>
        <p:spPr>
          <a:xfrm>
            <a:off x="922320" y="4282920"/>
            <a:ext cx="3218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G:\Целевые ориентиры\Фото к Ц.О\Фото0216.jpg"/>
          <p:cNvPicPr/>
          <p:nvPr/>
        </p:nvPicPr>
        <p:blipFill>
          <a:blip r:embed="rId1"/>
          <a:stretch/>
        </p:blipFill>
        <p:spPr>
          <a:xfrm>
            <a:off x="324000" y="1268280"/>
            <a:ext cx="2808000" cy="3407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100_2656.JPG"/>
          <p:cNvPicPr/>
          <p:nvPr/>
        </p:nvPicPr>
        <p:blipFill>
          <a:blip r:embed="rId2"/>
          <a:stretch/>
        </p:blipFill>
        <p:spPr>
          <a:xfrm>
            <a:off x="3132000" y="3933720"/>
            <a:ext cx="3095640" cy="231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ТАНЯ\флешка\МАМА\МО логопедов\DSC01463.JPG"/>
          <p:cNvPicPr/>
          <p:nvPr/>
        </p:nvPicPr>
        <p:blipFill>
          <a:blip r:embed="rId3"/>
          <a:stretch/>
        </p:blipFill>
        <p:spPr>
          <a:xfrm>
            <a:off x="5435640" y="16765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Здоровьесберегающие технолог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F:\2-3 года ПРОЕКТ\Фото Арт.гимн.2-3 года\IMG_8457.JPG"/>
          <p:cNvPicPr/>
          <p:nvPr/>
        </p:nvPicPr>
        <p:blipFill>
          <a:blip r:embed="rId1"/>
          <a:stretch/>
        </p:blipFill>
        <p:spPr>
          <a:xfrm>
            <a:off x="324000" y="1413000"/>
            <a:ext cx="2779560" cy="208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6084720" y="1525680"/>
            <a:ext cx="2522880" cy="197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G:\Целевые ориентиры\Фото к Ц.О\Су -джок.JPG"/>
          <p:cNvPicPr/>
          <p:nvPr/>
        </p:nvPicPr>
        <p:blipFill>
          <a:blip r:embed="rId3"/>
          <a:stretch/>
        </p:blipFill>
        <p:spPr>
          <a:xfrm>
            <a:off x="314280" y="4106880"/>
            <a:ext cx="2820960" cy="211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PC-Nout\AppData\Local\Temp\Rar$DRa0.828\DSC03205.JPG"/>
          <p:cNvPicPr/>
          <p:nvPr/>
        </p:nvPicPr>
        <p:blipFill>
          <a:blip r:embed="rId4"/>
          <a:stretch/>
        </p:blipFill>
        <p:spPr>
          <a:xfrm>
            <a:off x="3462480" y="4622760"/>
            <a:ext cx="2234880" cy="15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user\Desktop\фотоо\IMG_9413.JPG"/>
          <p:cNvPicPr/>
          <p:nvPr/>
        </p:nvPicPr>
        <p:blipFill>
          <a:blip r:embed="rId5"/>
          <a:stretch/>
        </p:blipFill>
        <p:spPr>
          <a:xfrm>
            <a:off x="3462480" y="2457360"/>
            <a:ext cx="2234880" cy="148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user\Desktop\DSC01494.JPG"/>
          <p:cNvPicPr/>
          <p:nvPr/>
        </p:nvPicPr>
        <p:blipFill>
          <a:blip r:embed="rId6"/>
          <a:stretch/>
        </p:blipFill>
        <p:spPr>
          <a:xfrm>
            <a:off x="6084720" y="4106880"/>
            <a:ext cx="2522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9-12-15T11:23:20Z</dcterms:modified>
  <cp:revision>101</cp:revision>
  <dc:subject/>
  <dc:title>Слайд 1</dc:title>
</cp:coreProperties>
</file>