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7B0-7106-44EC-A6B9-CC011D9D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0CC-4B28-4F83-988E-2D5C39B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F1D-19FB-4A2C-B814-D795936C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015-70EA-47AA-8C17-8E13DB00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914-BB49-42FF-BDFE-2F6199BD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F38-300C-4282-80CF-CDD43A64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788-B072-4DBB-9B54-FA9D37E1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B78-B82A-470F-B28C-7A60F09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B7D-12B5-472B-AD59-D7FED00A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96D-1C1F-4CB2-A2F0-9FF7E92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89E-AF92-47AD-B981-ECF14B44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C15-E67F-4334-86EA-BF0BE33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5AC4-87A4-4C95-A021-3EC346646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ительское собрание в 2младшей группе № 2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теме: «Что значит любить своего ребенка?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: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значимость гармоничного личностного развития дошкольников через общение со взросл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 раннем детстве девочки действительно более послуш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ка не установлено ничего, что давало бы повод утверждать: девочки по своей природе больше склонны заботиться о больных и слабых животных, растениях. Разве что в возрасте 6—9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то не так. Девочки могут решать сложные задачи (проблемы) не хуже мальч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476280"/>
            <a:ext cx="8218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До 10—12 лет девочки развиваются быстрее (и поэтому иногда стремятся выделиться, отличиться от своих сверстников). Но позднее девочки более целенаправленны, они больше, чем мальчики, думают о будущ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Девочки и мальчики одарены одинаково, все зависит от того, как мы их ориентируем, хотя считается, что в математике мальчики проявляют себя лучше. Но когда мы избавимся от этого предрассудка, то не заметим большой разниц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000" y="475920"/>
            <a:ext cx="8218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апротив, мальчики легче поддаются влиянию среды и поэтому сильнее переживают разлуку с родителями. Мальчики более чувствительны к боли, страданию. Они лишь внешне делают вид, что им не больно, поскольку с самого начала их учат, что мужчина не должен плак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До 10—13 лет разница незначительна, затем в большинстве случаев девочки в устном и письменном виде высказывают свои мысли более четко, чем мальч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Исследования показали, что на протяжении всей жизни эта способность у мальчиков и девочек одинакова. Если и есть разница, то только индивидуа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До наступления половой зрелости разницы нет, после этого мальчики лучше ориентируются в пространстве. С годами разница усиливается. Исключения только подтверждают прав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 Мальчики становятся агрессивными в самом раннем возрасте, в два — три года, когда начинает формироваться их лич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 Не установлена разница в активности мальчиков и девочек. Лишь в детские годы мальчики проявляют ее более шумно и очевидно (в драках, например). В то же время девочки не столь шумливы, но не менее целенаправлен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620640"/>
            <a:ext cx="8291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 Напротив, девочки предпочитают одну или не более двух подруг, а не большую компанию. Вот почему именно мальчики собираются в более крупные группы. Это положение сохраняется, и когда они вырастают, поэтому-то мальчики более склонны к коллективным иг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. До определенного возраста между мальчиками и девочками в этом нет разницы, и мальчики в определенный период требуют ласкового обр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9280" y="549000"/>
            <a:ext cx="8147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4. Напротив, мальчики склонны скорее принимать «на веру» мнение компании, при их воспитании это надо непременно иметь в виду. Девочки обычно придерживаются своего мн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5. В этом качестве до определенного возраста у мальчиков и девочек нет разницы. Позднее более сообразительными и активными становятся девочки. А в период полового созревания они уступают в этом юношам. Быть может, сознатель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6. Девочки не так трусливы на самом деле, как многим кажется. В действительности они могут быть сильнее и решительнее мальчиков, легче преодолевать стра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7. Не больше мальчиков. Девочки лучше «вооружены» по отношению к сложным житейским ситуациям, умеют быстрее приспосабливатьс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– 17 баллов (т.е. ответов «Да») - Вы владеете хорошими воспитательными навы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-13 баллов – Не всё так плохо, но Вам нужно больше внимания уделять знаниям и навыкам воспитания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меньше 5 баллов – Вам необходимо расширить знания по вопросам воспитания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549000"/>
            <a:ext cx="8291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маленького ребенка родители – это весь мир. Угроза оказаться отвергнутыми родителями или лишиться родительской любви – это для маленького ребенка нечто опасное буквально для самой его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окружающих, в первую очередь матери, к ребенку, его потребностям, его желаниям запечатлевается в душе ребенка с первых дней его жизни. Если он получает тепло, ласку, заботу, то формируется образ мира безопасного, открытого и заслуживающего доверия. В противном случае мир для детской души становится источником угрозы и дискомф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пражнение «Знакомство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ществует три способа открыт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бенку свою любов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о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зывайте ребенка ласковыми именами, пойте колыбельные песни, пусть в Вашем голосе звучит не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коснов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огда достаточно взять ребенка за руку, погладить по волосам, поцеловать. Физический контакт с матерью и отцом стимулирует физиологическое и эмоциональное развитие ребенка. Психологи советуют более 30 прикосновений в день. Переласкать ребенка невозмо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згля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льзя разговаривать с ребенком стоя к нему спиной или в полоборота. Не кричите из соседней комнаты, подойдите, присядьте, посмотрите в его глаза и скажите то, что хо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1471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 может быть несколько. Например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бенок появился на свет «незапланированным»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и его не ждали, хотели пожить в свое удовольствие. Родител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чтали о мальчике, а родилась девоч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наоборо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Ребенок похож на отца, с которым мать в развод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возможным причинам неприятия родителей мож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нести трагедии их собственного дет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е получи в детстве так необходимой ребенку родительской любви или получив ее в извращенной форме, вырастая, они просто не в состоянии проявлять и испытывать это чувство по отношению к собственным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 «Ребенок-стату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прашиваю ее, что она чувствовала на протяжении всего действ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чем она дума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о ей было, когда мама начала приказывать 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280" y="475920"/>
            <a:ext cx="8147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БЪЯ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вы видите своего ребенка в таком состоянии, первое, что вы можете и должны сделать, — это обнять его, прижать к себе и держать возле себя столько, сколько нужно ребенку. Когда ему будет достаточно, он сам отойд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ый семейный терапевт Вирджиния Сатир рекомендует обнимать ребенка несколько раз в день. Она считает, что четыре объятия совершенно необходимы каждому просто для выживания, а для хорошего самочувствия нужно не менее восьми объятий в день! А для того, чтобы ребенок развивался интеллектуально, — 12 раз в день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езусловное принятие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зусловно принимать ребенка - значит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люби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его не за то, что он красивый, умный, способный, помощник и т.д., а просто так, просто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за то, что он е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жно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выража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свое недовольство отдельными действиям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ребенка, но не ребенком в цел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жно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осуждать действия ребенка, но не его чувств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какими бы нежелательными или «непозволительными» они ни были. Они у него возникли, значит для этого есть основан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Недовольство действиями ребенка не должно быть систематически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иначе оно перерастет в неприяти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ест «Какой вы воспитател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2:54:52Z</dcterms:created>
  <dc:creator>G7000</dc:creator>
  <dc:description/>
  <dc:language>en-US</dc:language>
  <cp:lastModifiedBy>Тагир Анкаев</cp:lastModifiedBy>
  <dcterms:modified xsi:type="dcterms:W3CDTF">2017-04-27T09:20:59Z</dcterms:modified>
  <cp:revision>32</cp:revision>
  <dc:subject/>
  <dc:title>Специфика реализации в ДОУ образовательной области «Социализация»</dc:title>
</cp:coreProperties>
</file>