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C55-B3EC-4C84-95C1-99E73412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17E-5274-494A-B860-C67CCA06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04E-5BDD-4F6D-A80D-B5A4CBDD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801-669D-457F-9ED6-148AB79F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F86-DBA7-43CB-991D-1D9FED07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DA0-7A3D-4635-865F-AE247B37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160-B27B-4330-BD00-71E10292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A20-E000-4555-9892-91CFFE2B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E99-58EA-4F5C-A70A-00B14637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D8D-8BF2-42BD-9336-8F465926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CD0-797D-4E3C-A9BA-F5AF116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EC2-663F-4FE8-AA4C-B342B29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106-5ABC-495C-AAF4-92FB82F4002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300A-D92A-4CC8-A5C6-29CA37E26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demiart.ru/forum/uploads1/post-3501-1206479699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cofeland.ru/product/glinjanyj-chajnik-ieroglif-/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rdural.ru/image/1251131982/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12000" y="4365360"/>
            <a:ext cx="313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ю подготови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читель-логопед: Мельникова 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Овал 11"/>
          <p:cNvGrpSpPr/>
          <p:nvPr/>
        </p:nvGrpSpPr>
        <p:grpSpPr>
          <a:xfrm>
            <a:off x="3693960" y="457200"/>
            <a:ext cx="1195560" cy="1023840"/>
            <a:chOff x="3693960" y="457200"/>
            <a:chExt cx="1195560" cy="1023840"/>
          </a:xfrm>
        </p:grpSpPr>
        <p:pic>
          <p:nvPicPr>
            <p:cNvPr id="51" name="Овал 11" descr=""/>
            <p:cNvPicPr/>
            <p:nvPr/>
          </p:nvPicPr>
          <p:blipFill>
            <a:blip r:embed="rId1"/>
            <a:stretch/>
          </p:blipFill>
          <p:spPr>
            <a:xfrm>
              <a:off x="3693960" y="457200"/>
              <a:ext cx="1195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Овал 20"/>
          <p:cNvGrpSpPr/>
          <p:nvPr/>
        </p:nvGrpSpPr>
        <p:grpSpPr>
          <a:xfrm>
            <a:off x="1006560" y="817560"/>
            <a:ext cx="1146240" cy="1017720"/>
            <a:chOff x="1006560" y="817560"/>
            <a:chExt cx="1146240" cy="1017720"/>
          </a:xfrm>
        </p:grpSpPr>
        <p:pic>
          <p:nvPicPr>
            <p:cNvPr id="62" name="Овал 20" descr=""/>
            <p:cNvPicPr/>
            <p:nvPr/>
          </p:nvPicPr>
          <p:blipFill>
            <a:blip r:embed="rId2"/>
            <a:stretch/>
          </p:blipFill>
          <p:spPr>
            <a:xfrm>
              <a:off x="1006560" y="817560"/>
              <a:ext cx="11462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Овал 29"/>
          <p:cNvGrpSpPr/>
          <p:nvPr/>
        </p:nvGrpSpPr>
        <p:grpSpPr>
          <a:xfrm>
            <a:off x="7589880" y="1420920"/>
            <a:ext cx="1359000" cy="1023840"/>
            <a:chOff x="7589880" y="1420920"/>
            <a:chExt cx="1359000" cy="1023840"/>
          </a:xfrm>
        </p:grpSpPr>
        <p:pic>
          <p:nvPicPr>
            <p:cNvPr id="73" name="Овал 29" descr=""/>
            <p:cNvPicPr/>
            <p:nvPr/>
          </p:nvPicPr>
          <p:blipFill>
            <a:blip r:embed="rId3"/>
            <a:stretch/>
          </p:blipFill>
          <p:spPr>
            <a:xfrm>
              <a:off x="7589880" y="1420920"/>
              <a:ext cx="13590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Овал 83"/>
          <p:cNvGrpSpPr/>
          <p:nvPr/>
        </p:nvGrpSpPr>
        <p:grpSpPr>
          <a:xfrm>
            <a:off x="5810400" y="493560"/>
            <a:ext cx="1352520" cy="1017720"/>
            <a:chOff x="5810400" y="493560"/>
            <a:chExt cx="1352520" cy="1017720"/>
          </a:xfrm>
        </p:grpSpPr>
        <p:pic>
          <p:nvPicPr>
            <p:cNvPr id="129" name="Овал 83" descr=""/>
            <p:cNvPicPr/>
            <p:nvPr/>
          </p:nvPicPr>
          <p:blipFill>
            <a:blip r:embed="rId4"/>
            <a:stretch/>
          </p:blipFill>
          <p:spPr>
            <a:xfrm>
              <a:off x="5810400" y="493560"/>
              <a:ext cx="13525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Овал 93"/>
          <p:cNvGrpSpPr/>
          <p:nvPr/>
        </p:nvGrpSpPr>
        <p:grpSpPr>
          <a:xfrm>
            <a:off x="66600" y="2206800"/>
            <a:ext cx="1262160" cy="1023840"/>
            <a:chOff x="66600" y="2206800"/>
            <a:chExt cx="1262160" cy="1023840"/>
          </a:xfrm>
        </p:grpSpPr>
        <p:pic>
          <p:nvPicPr>
            <p:cNvPr id="141" name="Овал 93" descr=""/>
            <p:cNvPicPr/>
            <p:nvPr/>
          </p:nvPicPr>
          <p:blipFill>
            <a:blip r:embed="rId5"/>
            <a:stretch/>
          </p:blipFill>
          <p:spPr>
            <a:xfrm>
              <a:off x="66600" y="2206800"/>
              <a:ext cx="1262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172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175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178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181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184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187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56" descr="0_5dc60_f937e00a_orig"/>
          <p:cNvPicPr/>
          <p:nvPr/>
        </p:nvPicPr>
        <p:blipFill>
          <a:blip r:embed="rId12"/>
          <a:stretch/>
        </p:blipFill>
        <p:spPr>
          <a:xfrm>
            <a:off x="1908000" y="1197000"/>
            <a:ext cx="4969080" cy="54007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58"/>
          <p:cNvSpPr/>
          <p:nvPr/>
        </p:nvSpPr>
        <p:spPr>
          <a:xfrm>
            <a:off x="25092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 у к в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2565360"/>
            <a:ext cx="4321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-ной но-чью чер-ный к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ыг-нул в чер-ный ды-мо-х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ы-мо-хо-де чер-но-т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ы-щи-ка там ко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7" descr="information_items_1198181110"/>
          <p:cNvPicPr/>
          <p:nvPr/>
        </p:nvPicPr>
        <p:blipFill>
          <a:blip r:embed="rId2"/>
          <a:stretch/>
        </p:blipFill>
        <p:spPr>
          <a:xfrm>
            <a:off x="4427640" y="2060640"/>
            <a:ext cx="4475160" cy="3531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7280" y="691920"/>
            <a:ext cx="13683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кого кто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3035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зайца-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кролика-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белки-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галки-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5" descr="Зверята (70 фото)"/>
          <p:cNvPicPr/>
          <p:nvPr/>
        </p:nvPicPr>
        <p:blipFill>
          <a:blip r:embed="rId1"/>
          <a:stretch/>
        </p:blipFill>
        <p:spPr>
          <a:xfrm>
            <a:off x="5076720" y="3645000"/>
            <a:ext cx="3405240" cy="2638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Зверята (70 фото)"/>
          <p:cNvPicPr/>
          <p:nvPr/>
        </p:nvPicPr>
        <p:blipFill>
          <a:blip r:embed="rId2"/>
          <a:stretch/>
        </p:blipFill>
        <p:spPr>
          <a:xfrm>
            <a:off x="0" y="3357720"/>
            <a:ext cx="2521080" cy="302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Обыкновенная белка"/>
          <p:cNvPicPr/>
          <p:nvPr/>
        </p:nvPicPr>
        <p:blipFill>
          <a:blip r:embed="rId3"/>
          <a:stretch/>
        </p:blipFill>
        <p:spPr>
          <a:xfrm>
            <a:off x="5796000" y="765000"/>
            <a:ext cx="2619360" cy="2868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Фото"/>
          <p:cNvPicPr/>
          <p:nvPr/>
        </p:nvPicPr>
        <p:blipFill>
          <a:blip r:embed="rId4"/>
          <a:stretch/>
        </p:blipFill>
        <p:spPr>
          <a:xfrm>
            <a:off x="2700360" y="3645000"/>
            <a:ext cx="2124000" cy="2736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7"/>
          <p:cNvSpPr/>
          <p:nvPr/>
        </p:nvSpPr>
        <p:spPr>
          <a:xfrm>
            <a:off x="2411280" y="62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й-чо-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2411280" y="1197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ль-чо-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2484360" y="177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ь-чо-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2411280" y="24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л-чо-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одол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 rot="10800000">
            <a:off x="754920" y="1052280"/>
            <a:ext cx="532908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516720" y="148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ка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516720" y="1989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скач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6588000" y="256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а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6588000" y="31417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оч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588000" y="36450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ч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6588000" y="4221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ирпи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684360" y="2060640"/>
            <a:ext cx="54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826920" y="1989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шадь несла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900000" y="256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нняя птиц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900000" y="31417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ечера наступ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971640" y="36450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амы послушна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826920" y="422100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стройки дома нуже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900000" y="1413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вер тк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й букве в слове «чте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кве Ч мое почт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. Тарлап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неси звук, с которого начинаются сл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ы                чашка              чай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7" descr="Советские настольные часы, будильники"/>
          <p:cNvPicPr/>
          <p:nvPr/>
        </p:nvPicPr>
        <p:blipFill>
          <a:blip r:embed="rId1"/>
          <a:stretch/>
        </p:blipFill>
        <p:spPr>
          <a:xfrm>
            <a:off x="539640" y="2852640"/>
            <a:ext cx="2664000" cy="2678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post-3501-12064796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2781360"/>
            <a:ext cx="2592360" cy="27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Глиняный  чайник Иероглиф 500 мл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292428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9CEB-C189-4095-A44E-9AE6A853C7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E274-1454-4D64-ADBE-55B4F96869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0026-026-CHasovschik-prischuriv-glaz-CHinit-chasiki-dlja-nas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280" y="2781360"/>
            <a:ext cx="519444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чикают ножниц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Чик-чик-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nogn25"/>
          <p:cNvPicPr/>
          <p:nvPr/>
        </p:nvPicPr>
        <p:blipFill>
          <a:blip r:embed="rId1"/>
          <a:stretch/>
        </p:blipFill>
        <p:spPr>
          <a:xfrm>
            <a:off x="5219640" y="2205000"/>
            <a:ext cx="268128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уква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ух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гда мяг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арны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олжите слов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129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" descr="12511319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005360"/>
            <a:ext cx="2663640" cy="1788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9508"/>
          <p:cNvPicPr/>
          <p:nvPr/>
        </p:nvPicPr>
        <p:blipFill>
          <a:blip r:embed="rId3"/>
          <a:stretch/>
        </p:blipFill>
        <p:spPr>
          <a:xfrm>
            <a:off x="3492360" y="1700280"/>
            <a:ext cx="2519640" cy="2125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326891736"/>
          <p:cNvPicPr/>
          <p:nvPr/>
        </p:nvPicPr>
        <p:blipFill>
          <a:blip r:embed="rId4"/>
          <a:stretch/>
        </p:blipFill>
        <p:spPr>
          <a:xfrm>
            <a:off x="3780000" y="4149720"/>
            <a:ext cx="1873080" cy="1512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Правильное расположение точек схода"/>
          <p:cNvPicPr/>
          <p:nvPr/>
        </p:nvPicPr>
        <p:blipFill>
          <a:blip r:embed="rId5"/>
          <a:stretch/>
        </p:blipFill>
        <p:spPr>
          <a:xfrm>
            <a:off x="0" y="4149720"/>
            <a:ext cx="3562200" cy="1366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чиж (Spinus spinus), фото, фотография"/>
          <p:cNvPicPr/>
          <p:nvPr/>
        </p:nvPicPr>
        <p:blipFill>
          <a:blip r:embed="rId6"/>
          <a:stretch/>
        </p:blipFill>
        <p:spPr>
          <a:xfrm>
            <a:off x="6156360" y="765000"/>
            <a:ext cx="2666880" cy="30006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"/>
          <p:cNvSpPr/>
          <p:nvPr/>
        </p:nvSpPr>
        <p:spPr>
          <a:xfrm>
            <a:off x="161928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540720" y="1341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1671840" y="1332000"/>
            <a:ext cx="11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ж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612360" y="1916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1619640" y="1916280"/>
            <a:ext cx="11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ш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539640" y="2492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ч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1763640" y="2492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539640" y="2997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1692360" y="2997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логовое лото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умайте слова со слогами «ча» и «ч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                  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        ча      й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               б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1547640" y="37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2556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Отгадайте загад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4895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-мо-ви-та-я хо-зяй-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-ле-те-ла над лу-жай-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5" descr="i-1430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52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6"/>
          <p:cNvSpPr/>
          <p:nvPr/>
        </p:nvSpPr>
        <p:spPr>
          <a:xfrm>
            <a:off x="250920" y="299736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11280" y="4581360"/>
            <a:ext cx="456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3:57:55Z</dcterms:created>
  <dc:creator>UserXP</dc:creator>
  <dc:description/>
  <dc:language>en-US</dc:language>
  <cp:lastModifiedBy>старком</cp:lastModifiedBy>
  <dcterms:modified xsi:type="dcterms:W3CDTF">2019-12-15T10:17:00Z</dcterms:modified>
  <cp:revision>7</cp:revision>
  <dc:subject/>
  <dc:title>Слайд 1</dc:title>
</cp:coreProperties>
</file>