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469-8EF5-42F6-9229-11BC4D6F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8B3-63AA-4C6C-94FA-6C752661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940-E456-403D-BFFA-3D21E65C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1C9-FCD0-419B-9B69-D48EB3BD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8699-599D-44FF-BE13-342F90C4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2812-CC79-497A-B9F5-6AF5100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87F9-7FF1-4575-9B1F-F3677421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FAFB-7017-4531-A459-786681D7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A884-CACE-4EE0-89AE-A8B975E1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80C-92C4-43AF-9800-41ED4B1B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4867-7951-4EC6-B76F-18F8A517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CB6-974B-4887-91B8-BAED72F6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12B0-7FEB-4A54-8B3C-F4E9D6A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7775-C0F6-4216-A280-5FE36EF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AB3C-0B35-4E77-B486-9CB9C6B1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B4E4-3716-4CF1-8C8D-A00E923F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B31B-23F3-47AA-88D8-B74250C6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747-A70F-480F-A289-311CFB6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586-D128-4C66-914B-2AE6156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363-34E1-492E-870E-B001A31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E2E-BBCD-4BB5-B592-5E9F932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CEA-92AD-4139-8EF0-691FAC2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BDC-FD26-48DC-A298-6B5F754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678-07B8-4BAB-9317-5E98253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69B6-627D-4BE0-A5C7-A7FB00A736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8F22-1495-40D0-A29A-AB97346701C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9128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781d"/>
                </a:solidFill>
                <a:latin typeface="Arial"/>
              </a:rPr>
              <a:t>МБОУ ООШ П.СВХ.ПЕСКОВАТСКИЙ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29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Чернобыль – полынь горькая», посвященная 25-ой годовщине катастрофы на Чернобыльской АЭ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икова Ольга Иван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лпотворенье ветр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винут зёмной покр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 взрыв покоробил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з по земле Чернобыл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т она чёрная бол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оперёк и вд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шей отчизны воп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с тобой, Чернобы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:\Documents and Settings\Admin\Мои документы\чернобыль\325037463.jpg"/>
          <p:cNvPicPr/>
          <p:nvPr/>
        </p:nvPicPr>
        <p:blipFill>
          <a:blip r:embed="rId1"/>
          <a:stretch/>
        </p:blipFill>
        <p:spPr>
          <a:xfrm>
            <a:off x="250920" y="1125360"/>
            <a:ext cx="3990960" cy="49341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74880" y="851400"/>
            <a:ext cx="816912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Трагедия на Чернобыльской АЭС сильно подорвала доверие к атомной энергети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Это был самый мощный выброс радиоактивных веществ в окружающую среду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гигантское смертоносное облако прошл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над украинскими, белорусскими, российскими территория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, коснувшись и других ст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786200" y="785880"/>
            <a:ext cx="3786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есколько десятков людей погибли вскоре после катастрофы. Несколько тысяч заболели и не вылечились до сих пор. Несколько сотен тысяч навсегда уехали из 30-километровой "зоны отчуждения". Ученые перестали безоговорочно верить, что для всеобщего благополучия достаточно сконвертировать килотонны в гигаватты. А у тех, кто "родом из семидесятых-восьмидесятых", Чернобыль занял неуютное, но важное место в памя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C:\Documents and Settings\Admin\Мои документы\чернобыль\1238015142_chernobil_10.jpg"/>
          <p:cNvPicPr/>
          <p:nvPr/>
        </p:nvPicPr>
        <p:blipFill>
          <a:blip r:embed="rId1"/>
          <a:stretch/>
        </p:blipFill>
        <p:spPr>
          <a:xfrm>
            <a:off x="250920" y="880920"/>
            <a:ext cx="4119480" cy="5977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85840" y="571680"/>
            <a:ext cx="657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от она чёрная боль,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о ли знаменье, то ль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Час наш последний пробил!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дом дымит Чернобыл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РТВЫЙ Г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69080" cy="43657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500800" y="500040"/>
            <a:ext cx="33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ам, гд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ртофел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поле забытый воз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ара торчит оглобе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иротел Чернобыл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072040" cy="5572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ЧЕРНОБЫЛЬ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де ты, в каком краю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 небесах, в раю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недрах земной утробы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де ты теперь, Чернобыл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C:\Documents and Settings\Admin\Мои документы\чернобыль\derevnya01.jpg"/>
          <p:cNvPicPr/>
          <p:nvPr/>
        </p:nvPicPr>
        <p:blipFill>
          <a:blip r:embed="rId1"/>
          <a:stretch/>
        </p:blipFill>
        <p:spPr>
          <a:xfrm>
            <a:off x="357120" y="285840"/>
            <a:ext cx="5238720" cy="3933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Admin\Мои документы\чернобыль\derevnya04.jpg"/>
          <p:cNvPicPr/>
          <p:nvPr/>
        </p:nvPicPr>
        <p:blipFill>
          <a:blip r:embed="rId2"/>
          <a:stretch/>
        </p:blipFill>
        <p:spPr>
          <a:xfrm>
            <a:off x="5643720" y="2214720"/>
            <a:ext cx="3305160" cy="4429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C:\Documents and Settings\Admin\Мои документы\чернобыль\kladbishe01.jpg"/>
          <p:cNvPicPr/>
          <p:nvPr/>
        </p:nvPicPr>
        <p:blipFill>
          <a:blip r:embed="rId1"/>
          <a:stretch/>
        </p:blipFill>
        <p:spPr>
          <a:xfrm>
            <a:off x="214200" y="285840"/>
            <a:ext cx="4214880" cy="432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\Мои документы\чернобыль\kladbishe04.jpg"/>
          <p:cNvPicPr/>
          <p:nvPr/>
        </p:nvPicPr>
        <p:blipFill>
          <a:blip r:embed="rId2"/>
          <a:stretch/>
        </p:blipFill>
        <p:spPr>
          <a:xfrm>
            <a:off x="4357800" y="1428840"/>
            <a:ext cx="4429080" cy="51102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ИР НЕ ЗАБУДЕТ СВОИХ ГЕРОЕВ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4" descr="1ds"/>
          <p:cNvPicPr/>
          <p:nvPr/>
        </p:nvPicPr>
        <p:blipFill>
          <a:blip r:embed="rId1"/>
          <a:stretch/>
        </p:blipFill>
        <p:spPr>
          <a:xfrm>
            <a:off x="4859280" y="1989000"/>
            <a:ext cx="3888000" cy="417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big"/>
          <p:cNvPicPr/>
          <p:nvPr/>
        </p:nvPicPr>
        <p:blipFill>
          <a:blip r:embed="rId2"/>
          <a:stretch/>
        </p:blipFill>
        <p:spPr>
          <a:xfrm>
            <a:off x="179280" y="2060640"/>
            <a:ext cx="4427640" cy="41767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281633256_8cea10107e78"/>
          <p:cNvPicPr/>
          <p:nvPr/>
        </p:nvPicPr>
        <p:blipFill>
          <a:blip r:embed="rId1"/>
          <a:stretch/>
        </p:blipFill>
        <p:spPr>
          <a:xfrm>
            <a:off x="468360" y="333360"/>
            <a:ext cx="3684600" cy="287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s90419"/>
          <p:cNvPicPr/>
          <p:nvPr/>
        </p:nvPicPr>
        <p:blipFill>
          <a:blip r:embed="rId2"/>
          <a:stretch/>
        </p:blipFill>
        <p:spPr>
          <a:xfrm>
            <a:off x="4500720" y="333360"/>
            <a:ext cx="4275000" cy="614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watermark"/>
          <p:cNvPicPr/>
          <p:nvPr/>
        </p:nvPicPr>
        <p:blipFill>
          <a:blip r:embed="rId3"/>
          <a:stretch/>
        </p:blipFill>
        <p:spPr>
          <a:xfrm>
            <a:off x="468360" y="3284640"/>
            <a:ext cx="3672000" cy="32400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ЧЕРНОБЫЛЬ – ПОЛЫНЬ ГОРЬКА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2" descr="C:\Documents and Settings\Admin\Мои документы\чернобыль\i.jpeg"/>
          <p:cNvPicPr/>
          <p:nvPr/>
        </p:nvPicPr>
        <p:blipFill>
          <a:blip r:embed="rId1"/>
          <a:stretch/>
        </p:blipFill>
        <p:spPr>
          <a:xfrm>
            <a:off x="1425600" y="1600200"/>
            <a:ext cx="6292800" cy="45306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рамках 25 годовщины трагедии на Чернобыльской АЭС </a:t>
            </a:r>
            <a:br>
              <a:rPr sz="2400"/>
            </a:b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45 участников ликвидации аварии из Липецкой области будут отмечены правительственными наградами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800px-Médailles_liquidateurs"/>
          <p:cNvPicPr/>
          <p:nvPr/>
        </p:nvPicPr>
        <p:blipFill>
          <a:blip r:embed="rId1"/>
          <a:stretch/>
        </p:blipFill>
        <p:spPr>
          <a:xfrm>
            <a:off x="395280" y="1916280"/>
            <a:ext cx="8137440" cy="47829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3631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Третий ангел вострубил, и упала с неба большая звезда, горящая подобно светильнику, и пала на третью часть рек и на источники вод. Имя сей звезде полынь; и третья часть вод сделалась полынью, и многие из людей умерли от вод, потому что они стали горь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кровения святого Иоанна Богослов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6560" y="3474720"/>
            <a:ext cx="77043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6 апреля 1986 года, суббота. В 01 час. 23 минуты произошла авария на Чернобыльской атомной электроста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ыв реактора. 190 тонн топлива, полностью или с продуктами деления, с реакторным графитом, реакторными материалами выбросило из шахты реактора. Он горел и все из него выдуло в виде радиоактивного обла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60796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59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istory_6"/>
          <p:cNvPicPr/>
          <p:nvPr/>
        </p:nvPicPr>
        <p:blipFill>
          <a:blip r:embed="rId2"/>
          <a:stretch/>
        </p:blipFill>
        <p:spPr>
          <a:xfrm>
            <a:off x="4572000" y="260280"/>
            <a:ext cx="4176720" cy="26370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жерла реактора поднимался, в несколько сотен метров высотой, столб продуктов гор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щный поток газовой радиоактивност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190 тонн ядерного топлив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0% попало в атмосферу земл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Times New Roman"/>
              </a:rPr>
              <a:t>По данным ученых выброс радионуклидов раве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Times New Roman"/>
              </a:rPr>
              <a:t>по разным оценкам, четырем и более </a:t>
            </a:r>
            <a:br>
              <a:rPr sz="2400"/>
            </a:br>
            <a:r>
              <a:rPr b="0" lang="ru-RU" sz="2400" spc="-1" strike="noStrike">
                <a:solidFill>
                  <a:srgbClr val="da2a00"/>
                </a:solidFill>
                <a:latin typeface="Times New Roman"/>
              </a:rPr>
              <a:t>взрывам в </a:t>
            </a:r>
            <a:r>
              <a:rPr b="1" lang="ru-RU" sz="2400" spc="-1" strike="noStrike">
                <a:solidFill>
                  <a:srgbClr val="da2a00"/>
                </a:solidFill>
                <a:latin typeface="Times New Roman"/>
              </a:rPr>
              <a:t>Хиросиме</a:t>
            </a:r>
            <a:r>
              <a:rPr b="0" lang="ru-RU" sz="2400" spc="-1" strike="noStrike">
                <a:solidFill>
                  <a:srgbClr val="da2a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9" descr="history_3"/>
          <p:cNvPicPr/>
          <p:nvPr/>
        </p:nvPicPr>
        <p:blipFill>
          <a:blip r:embed="rId1"/>
          <a:stretch/>
        </p:blipFill>
        <p:spPr>
          <a:xfrm>
            <a:off x="324000" y="1773360"/>
            <a:ext cx="3924000" cy="3660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istory_4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36716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00000" y="476280"/>
            <a:ext cx="7920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ервые дни после авар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зная реальной обстанов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лись со стихи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ники станции, пожар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бывшие на помощь вое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C:\Documents and Settings\Admin\Мои документы\чернобыль\173076.jpg"/>
          <p:cNvPicPr/>
          <p:nvPr/>
        </p:nvPicPr>
        <p:blipFill>
          <a:blip r:embed="rId1"/>
          <a:stretch/>
        </p:blipFill>
        <p:spPr>
          <a:xfrm>
            <a:off x="3708360" y="3357720"/>
            <a:ext cx="5256360" cy="33112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fire"/>
          <p:cNvPicPr/>
          <p:nvPr/>
        </p:nvPicPr>
        <p:blipFill>
          <a:blip r:embed="rId1"/>
          <a:stretch/>
        </p:blipFill>
        <p:spPr>
          <a:xfrm>
            <a:off x="179280" y="189000"/>
            <a:ext cx="3529080" cy="2709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3924360" y="260280"/>
            <a:ext cx="50054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ысячи людей со всех концов бывшего СССР были призваны и командированы для ликвидации последствий катастрофы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аботы по ликвидации аварии велись в основном вручну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030560" y="3573360"/>
            <a:ext cx="511344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0" y="3571920"/>
            <a:ext cx="38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Лопатами снимали верхний слой грунта на территории АЭС, сбрасывали руками куски арматуры, графита с крыши машинного зала, смывали радиоактивную грязь тряпками внутри ста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2 тысячи липчан принимали участие в ликвидации аварии на ЧАЭС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одвиг увековечен памятни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. Липец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45a5b95adaa2"/>
          <p:cNvPicPr/>
          <p:nvPr/>
        </p:nvPicPr>
        <p:blipFill>
          <a:blip r:embed="rId1"/>
          <a:stretch/>
        </p:blipFill>
        <p:spPr>
          <a:xfrm>
            <a:off x="250920" y="2565360"/>
            <a:ext cx="4033800" cy="4097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4500720" y="2997360"/>
            <a:ext cx="424800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ЫШИШЬ, ГОСПОД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ТЕ, КТО ЗЕМЛ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ЛИ В ТОМ АПР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b2b2b2"/>
                </a:solidFill>
                <a:latin typeface="Arial"/>
              </a:rPr>
              <a:t>Наши земляки, уроженцы п. свх.</a:t>
            </a: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                                                           </a:t>
            </a:r>
            <a:r>
              <a:rPr b="1" lang="ru-RU" sz="2300" spc="-1" strike="noStrike">
                <a:solidFill>
                  <a:srgbClr val="b2b2b2"/>
                </a:solidFill>
                <a:latin typeface="Arial"/>
              </a:rPr>
              <a:t>Песковатский тоже принимали                                                           участие  в ликвидации  последствий</a:t>
            </a:r>
            <a:br>
              <a:rPr sz="2300"/>
            </a:br>
            <a:r>
              <a:rPr b="1" lang="ru-RU" sz="2300" spc="-1" strike="noStrike">
                <a:solidFill>
                  <a:srgbClr val="b2b2b2"/>
                </a:solidFill>
                <a:latin typeface="Arial"/>
              </a:rPr>
              <a:t>25 лет назад</a:t>
            </a:r>
            <a:endParaRPr b="0" lang="en-US" sz="2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ДЫРЕ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ИВА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НАХ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ИВАНОВИЧ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16T10:47:32Z</dcterms:modified>
  <cp:revision>52</cp:revision>
  <dc:subject/>
  <dc:title>ЧЕРНОБЫЛЬ - ПОЛЫНЬ ГОРЬКАЯ </dc:title>
</cp:coreProperties>
</file>