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961-23E5-440A-BBB1-C5C401E2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A20-079D-451E-9A9E-AC8B8AA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DD3-0B3F-46EC-AD1A-459FC22C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AB8-8B27-4CFE-9927-56308633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691-72CB-4B97-A435-8CE4B9FF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7E2-DDB4-41B9-9EFC-67517CD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27E-6F5B-453F-A0A5-FDE10B0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FBD-F871-4AC6-B823-9B8AC866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377-7A24-4998-A567-0AB7DC80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7D3-E846-4154-9984-BD6B4B0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4B8-2B29-4786-B8D6-4B91C66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DED-5BC3-4CB4-835D-9B0DA9C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4486-B6A8-4393-BF79-A689A7C8E2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060280"/>
            <a:ext cx="68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ws are f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2124000" y="3357720"/>
            <a:ext cx="489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9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and repe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y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215360" y="2705040"/>
            <a:ext cx="155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[ai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499080" y="2705040"/>
            <a:ext cx="10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2"/>
          <p:cNvCxnSpPr/>
          <p:nvPr/>
        </p:nvCxnSpPr>
        <p:spPr>
          <a:xfrm flipH="1">
            <a:off x="2915640" y="2276640"/>
            <a:ext cx="1151640" cy="79272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8" name="Прямая со стрелкой 10"/>
          <p:cNvCxnSpPr/>
          <p:nvPr/>
        </p:nvCxnSpPr>
        <p:spPr>
          <a:xfrm>
            <a:off x="5148000" y="2324160"/>
            <a:ext cx="1184760" cy="67392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49" name="TextBox 12"/>
          <p:cNvSpPr/>
          <p:nvPr/>
        </p:nvSpPr>
        <p:spPr>
          <a:xfrm>
            <a:off x="1161720" y="4292640"/>
            <a:ext cx="70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happy family can f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 Дорожка 34.mp3" descr=""/>
          <p:cNvPicPr/>
          <p:nvPr/>
        </p:nvPicPr>
        <p:blipFill>
          <a:blip r:embed="rId1"/>
          <a:stretch/>
        </p:blipFill>
        <p:spPr>
          <a:xfrm>
            <a:off x="771480" y="90792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9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426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the tab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264360" cy="2978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4657680" y="333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364000" y="333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300720" y="33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7682040" y="333360"/>
            <a:ext cx="8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08000" y="83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1501920" y="8240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2870280" y="83664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3780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4657680" y="90792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5997600" y="94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03802 -1.85185E-006 L -0.03802 0.05023 L -0.07586 0.05023 L -0.07586 0.10046 L -0.11371 0.10046 L -0.11371 0.1507 L -0.15173 0.1507 L -0.15173 0.20093 L -0.18958 0.20093 L -0.18958 0.25116 L -0.22743 0.25116 L -0.22743 0.30139 L -0.26527 0.30139 L -0.26527 0.35185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-0.05035 -1.85185E-006 L -0.05035 0.05903 L -0.10035 0.05903 L -0.10035 0.11829 L -0.15035 0.11829 L -0.15035 0.17755 L -0.20052 0.17755 L -0.20052 0.23681 L -0.25052 0.23681 L -0.25052 0.29607 L -0.30052 0.29607 L -0.30052 0.35509 L -0.35052 0.35509 L -0.35052 0.41482 E">
                                      <p:cBhvr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04051 L -0.01702 0.04051 L -0.01702 0.08334 L -0.03386 0.08334 L -0.03386 0.12639 L -0.0507 0.12639 L -0.0507 0.16921 L -0.06754 0.16921 L -0.06754 0.21227 L -0.08438 0.21227 L -0.08438 0.25509 L -0.10122 0.25509 L -0.10122 0.29815 L -0.11806 0.29815 L -0.11806 0.34144 E">
                                      <p:cBhvr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-0.08646 -1.85185E-006 L -0.08646 0.06921 L -0.17187 0.06921 L -0.17187 0.13912 L -0.25746 0.13912 L -0.25746 0.2088 L -0.34288 0.2088 L -0.34288 0.27847 L -0.42847 0.27847 L -0.42847 0.34792 L -0.51389 0.34792 L -0.51389 0.41806 L -0.5993 0.41806 L -0.5993 0.48843 E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0816 -1.48148E-006 L 0.0816 0.04676 L 0.16198 0.04676 L 0.16198 0.09398 L 0.24219 0.09398 L 0.24219 0.14121 L 0.32188 0.14121 L 0.32188 0.18866 L 0.40226 0.18866 L 0.40226 0.23565 L 0.48264 0.23565 L 0.48264 0.2831 L 0.56302 0.2831 L 0.56302 0.33102 E">
                                      <p:cBhvr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7 L 0.06042 -3.7037E-007 L 0.06042 0.05625 L 0.11997 0.05625 L 0.11997 0.11296 L 0.17934 0.11296 L 0.17934 0.16991 L 0.23855 0.16991 L 0.23855 0.22708 L 0.29809 0.22708 L 0.29809 0.2838 L 0.35764 0.2838 L 0.35764 0.34074 L 0.41737 0.34074 L 0.41737 0.39884 E">
                                      <p:cBhvr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4051 L -0.00886 0.04051 L -0.00886 0.10371 L -0.01754 0.10371 L -0.01754 0.16713 L -0.02622 0.16713 L -0.02622 0.23125 L -0.03472 0.23125 L -0.03472 0.29537 L -0.0434 0.29537 L -0.0434 0.35903 L -0.05209 0.35903 L -0.05209 0.42315 L -0.06059 0.42315 L -0.06059 0.48843 E">
                                      <p:cBhvr>
                                        <p:cTn id="3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7 L -0.02586 3.7037E-007 L -0.02586 0.07477 L -0.05121 0.07477 L -0.05121 0.15 L -0.07638 0.15 L -0.07638 0.22593 L -0.10156 0.22593 L -0.10156 0.30185 L -0.12691 0.30185 L -0.12691 0.37708 L -0.15208 0.37708 L -0.15208 0.45301 L -0.17725 0.45301 L -0.17725 0.53032 E">
                                      <p:cBhvr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0.00955 3.7037E-007 L 0.00955 0.06574 L 0.01892 0.06574 L 0.01892 0.13218 L 0.02847 0.13218 L 0.02847 0.19907 L 0.03785 0.19907 L 0.03785 0.26597 L 0.04722 0.26597 L 0.04722 0.33241 L 0.0566 0.33241 L 0.0566 0.39931 L 0.06615 0.39931 L 0.06615 0.46736 E">
                                      <p:cBhvr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88 0.07894 L -0.05087 0.07894 L -0.05087 0.1419 L -0.05451 0.1419 L -0.05451 0.20509 L -0.05833 0.20509 L -0.05833 0.26898 L -0.06215 0.26898 L -0.06215 0.33287 L -0.0658 0.33287 L -0.0658 0.3963 L -0.06962 0.3963 L -0.06962 0.46019 L -0.07326 0.46019 L -0.07326 0.52523 E">
                                      <p:cBhvr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956360" cy="3384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5242680" y="2143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144320" y="261936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4073760" y="294480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4145400" y="3321000"/>
            <a:ext cx="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4216680" y="369720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4290480" y="407340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4361040" y="444960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6619680" cy="3672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4305960" y="17733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932280" y="213372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872520" y="25462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815640" y="29606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003560" y="3284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192200" y="36450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4031280" y="400536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915360" y="44816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Кристина</cp:lastModifiedBy>
  <dcterms:modified xsi:type="dcterms:W3CDTF">2019-12-16T11:53:02Z</dcterms:modified>
  <cp:revision>708</cp:revision>
  <dc:subject/>
  <dc:title>Diapositiva 1</dc:title>
</cp:coreProperties>
</file>