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9885B-3E65-4B8F-819E-4ED0CB780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50127-3650-40AB-BEFF-14A440FBF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37822-A3B3-4759-842B-18AD1B40F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3CA3F-3D3F-49E5-AE28-53298EFFD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2E834-36C7-4A01-92CD-18113844B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0059A-D1F3-4D53-A394-BDD080812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516BC-1A77-4795-84D7-8F2C5D0A6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5B5D5-0B11-459A-B867-C3F684A94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28685-5144-47D3-88A7-B09371990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3CD40-0C87-4062-A5B6-67E32EF75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D1E03-8629-4BCF-BBAA-747721AE2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D7630-DB9D-4F8A-9E63-5E845F0DD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B3589-EF86-4826-8771-B0C93D6B4F7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71680" y="1999800"/>
            <a:ext cx="7929360" cy="20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Future Tense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uture Perfect Si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3628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e use the Future Perfect Simple to talk about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thing that will be finished before something else happened in the fu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he will have done all the shopping before the supermarket clo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thing that will be finished before a specific time in the fu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y twelve o’clock, I will have tidied the living ro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0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18" presetSubtype="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16" dur="1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8" presetSubtype="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19" dur="10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18" presetSubtype="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22" dur="10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18" presetSubtype="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25" dur="10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18" presetSubtype="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28" dur="1000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me Expressions with the Future Perfect Si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5"/>
          <p:cNvSpPr/>
          <p:nvPr/>
        </p:nvSpPr>
        <p:spPr>
          <a:xfrm>
            <a:off x="901440" y="2276640"/>
            <a:ext cx="108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f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6"/>
          <p:cNvSpPr/>
          <p:nvPr/>
        </p:nvSpPr>
        <p:spPr>
          <a:xfrm>
            <a:off x="5940360" y="2565360"/>
            <a:ext cx="136836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til/ti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7"/>
          <p:cNvSpPr/>
          <p:nvPr/>
        </p:nvSpPr>
        <p:spPr>
          <a:xfrm>
            <a:off x="2917080" y="3284640"/>
            <a:ext cx="177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y the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8"/>
          <p:cNvSpPr/>
          <p:nvPr/>
        </p:nvSpPr>
        <p:spPr>
          <a:xfrm>
            <a:off x="5005080" y="4724280"/>
            <a:ext cx="207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y next we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9"/>
          <p:cNvSpPr/>
          <p:nvPr/>
        </p:nvSpPr>
        <p:spPr>
          <a:xfrm>
            <a:off x="1384200" y="4910040"/>
            <a:ext cx="21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ten minu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0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4" dur="80"/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6" dur="80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9" dur="80"/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0" dur="80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1" dur="80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4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5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6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9" dur="80"/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0" dur="80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1" dur="80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uture Perfect Continio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191880" y="2565360"/>
            <a:ext cx="2157480" cy="2105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ffirm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/you wil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ve been go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e/she/it wil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ve been go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e/you/they wil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ve been go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2843280" y="2565360"/>
            <a:ext cx="3097080" cy="2105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g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/you will no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ve been go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e/she/it will no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ve been go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e/you/they will no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ve been go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6"/>
          <p:cNvSpPr/>
          <p:nvPr/>
        </p:nvSpPr>
        <p:spPr>
          <a:xfrm>
            <a:off x="6300720" y="2565360"/>
            <a:ext cx="2087640" cy="2105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es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ill I/yo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ve been going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ill he/she/i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ve been going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ill we/you/the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ve been going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7"/>
          <p:cNvSpPr/>
          <p:nvPr/>
        </p:nvSpPr>
        <p:spPr>
          <a:xfrm flipH="1">
            <a:off x="1402920" y="1268280"/>
            <a:ext cx="865080" cy="1008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8"/>
          <p:cNvSpPr/>
          <p:nvPr/>
        </p:nvSpPr>
        <p:spPr>
          <a:xfrm>
            <a:off x="4356000" y="1268280"/>
            <a:ext cx="0" cy="10810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9"/>
          <p:cNvSpPr/>
          <p:nvPr/>
        </p:nvSpPr>
        <p:spPr>
          <a:xfrm>
            <a:off x="6227640" y="1268280"/>
            <a:ext cx="1008360" cy="9367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0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withEffect" fill="hold" presetClass="entr" presetID="23" presetSubtype="16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23" presetSubtype="16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23" presetSubtype="16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2700"/>
                            </p:stCondLst>
                            <p:childTnLst>
                              <p:par>
                                <p:cTn id="37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4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0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6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uture Perfect Si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e use the Future Perfect Continuo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1778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o emphasise the duration of an action up to a certain time inthe futu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By the end of May, Jill will have been living there for 15 yea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0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3" dur="8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4" dur="8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5" dur="8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8" dur="8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9" dur="8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0" dur="8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3" dur="8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4" dur="8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5" dur="8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ime expressions with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 Future Perfect Continuo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1043640" y="2060640"/>
            <a:ext cx="1780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y the e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f this y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757440" y="4365720"/>
            <a:ext cx="232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three yea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y next mon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6"/>
          <p:cNvSpPr/>
          <p:nvPr/>
        </p:nvSpPr>
        <p:spPr>
          <a:xfrm>
            <a:off x="5294160" y="4581360"/>
            <a:ext cx="275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two years’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7"/>
          <p:cNvSpPr/>
          <p:nvPr/>
        </p:nvSpPr>
        <p:spPr>
          <a:xfrm>
            <a:off x="5149800" y="2060640"/>
            <a:ext cx="2314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long ... 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Tuesda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0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2000"/>
                            </p:stCondLst>
                            <p:childTnLst>
                              <p:par>
                                <p:cTn id="4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4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оугольник 3"/>
          <p:cNvSpPr/>
          <p:nvPr/>
        </p:nvSpPr>
        <p:spPr>
          <a:xfrm>
            <a:off x="285840" y="214200"/>
            <a:ext cx="864396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 the time Teddy comes home Pamela … (will eat/will have eaten/will be eating) all the apple ja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’s still not clear if the weather … (will change/will have changed/changes) for the bet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n Sandra enters a Design College she … (will study/will be studying/will have been studying) Drawing for 5 years the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 … (will travel/will have travelled/will have been travelling) to lake Baikal in 2 month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Прямоугольник 3"/>
          <p:cNvSpPr/>
          <p:nvPr/>
        </p:nvSpPr>
        <p:spPr>
          <a:xfrm>
            <a:off x="214200" y="357120"/>
            <a:ext cx="87156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e … (will be playing/will have played/will have been playing) tennis tomorrow afterno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y dear granny … (will become/will be becoming/will have become) a pensioner by 2018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n you come to the station I … (will wait/will be waiting/will have waited) for you by the central entra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 the time he returns, we … (will starve/will have starved/will have been starving) here for 3 day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3"/>
          <p:cNvSpPr/>
          <p:nvPr/>
        </p:nvSpPr>
        <p:spPr>
          <a:xfrm>
            <a:off x="285840" y="285840"/>
            <a:ext cx="8501040" cy="624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to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… in Brazil at this time next yea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d … in the garden next Sunday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 next Monday she … here for one month already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May our Russian teacher … at our school for 30 years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Прямоугольник 3"/>
          <p:cNvSpPr/>
          <p:nvPr/>
        </p:nvSpPr>
        <p:spPr>
          <a:xfrm>
            <a:off x="357120" y="214200"/>
            <a:ext cx="850104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to rea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 … the report by that tim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 … the letters when you com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arson … the contract tomorrow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n … this book for two weeks the day after tomorrow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uture Simp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5"/>
          <p:cNvSpPr/>
          <p:nvPr/>
        </p:nvSpPr>
        <p:spPr>
          <a:xfrm>
            <a:off x="482040" y="2565360"/>
            <a:ext cx="2014200" cy="12826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ffirm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/you will 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e/she/it will 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e/you/they will 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6"/>
          <p:cNvSpPr/>
          <p:nvPr/>
        </p:nvSpPr>
        <p:spPr>
          <a:xfrm>
            <a:off x="3216600" y="2565360"/>
            <a:ext cx="2364480" cy="12826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g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/you will not 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e/she/it will not 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e/you/they will not 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7"/>
          <p:cNvSpPr/>
          <p:nvPr/>
        </p:nvSpPr>
        <p:spPr>
          <a:xfrm>
            <a:off x="6529680" y="2565360"/>
            <a:ext cx="2167920" cy="12826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es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ill I/you g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ill he/she/it g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ill we/you/they g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8"/>
          <p:cNvSpPr/>
          <p:nvPr/>
        </p:nvSpPr>
        <p:spPr>
          <a:xfrm flipH="1">
            <a:off x="1402920" y="1268280"/>
            <a:ext cx="865080" cy="1008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9"/>
          <p:cNvSpPr/>
          <p:nvPr/>
        </p:nvSpPr>
        <p:spPr>
          <a:xfrm>
            <a:off x="4356000" y="1268280"/>
            <a:ext cx="0" cy="10810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0"/>
          <p:cNvSpPr/>
          <p:nvPr/>
        </p:nvSpPr>
        <p:spPr>
          <a:xfrm>
            <a:off x="6227640" y="1268280"/>
            <a:ext cx="1008360" cy="9367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3" presetSubtype="16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3" presetSubtype="16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3" presetSubtype="16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700"/>
                            </p:stCondLst>
                            <p:childTnLst>
                              <p:par>
                                <p:cTn id="2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uture Simp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e use the Future Simple to talk about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di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here will be more deserts in the fu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mi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’ll take you with me next ti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rea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’ll tell your friends about th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hose bags look heavy. I’ll carry some for yo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reque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Will you help we with the cleaning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isions made at the time of spea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Onions are not on the list, but I will get so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4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4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4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4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4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4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4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4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4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4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4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4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4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 Going 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e use be going to to talk about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26496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Plans and arrragments for the futur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am going to plant some trees in my gar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26496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omething we know is going to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e’s very tired. He is going to fall asleep very so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26496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Intention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rom now on, I’m not going to throw away paper with the other rubbi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2000"/>
                            </p:stCondLst>
                            <p:childTnLst>
                              <p:par>
                                <p:cTn id="12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9" dur="8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0" dur="8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1" dur="8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3080"/>
                            </p:stCondLst>
                            <p:childTnLst>
                              <p:par>
                                <p:cTn id="13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5" dur="8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6" dur="8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7" dur="8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4360"/>
                            </p:stCondLst>
                            <p:childTnLst>
                              <p:par>
                                <p:cTn id="13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1" dur="8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2" dur="8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3" dur="8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5760"/>
                            </p:stCondLst>
                            <p:childTnLst>
                              <p:par>
                                <p:cTn id="14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7" dur="8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8" dur="8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9" dur="8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6760"/>
                            </p:stCondLst>
                            <p:childTnLst>
                              <p:par>
                                <p:cTn id="15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3" dur="8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4" dur="8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5" dur="8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520"/>
                            </p:stCondLst>
                            <p:childTnLst>
                              <p:par>
                                <p:cTn id="15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9" dur="8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0" dur="8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1" dur="8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8960"/>
                            </p:stCondLst>
                            <p:childTnLst>
                              <p:par>
                                <p:cTn id="16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5" dur="80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6" dur="80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7" dur="80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ime expressions with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 Future Si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1260720" y="2205000"/>
            <a:ext cx="156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worr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2628720" y="3429000"/>
            <a:ext cx="344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day after tomorr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6"/>
          <p:cNvSpPr/>
          <p:nvPr/>
        </p:nvSpPr>
        <p:spPr>
          <a:xfrm>
            <a:off x="1331640" y="4724280"/>
            <a:ext cx="119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n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7"/>
          <p:cNvSpPr/>
          <p:nvPr/>
        </p:nvSpPr>
        <p:spPr>
          <a:xfrm>
            <a:off x="6517440" y="2421000"/>
            <a:ext cx="85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8"/>
          <p:cNvSpPr/>
          <p:nvPr/>
        </p:nvSpPr>
        <p:spPr>
          <a:xfrm>
            <a:off x="5365800" y="4724280"/>
            <a:ext cx="163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xt we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uture Continuou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191880" y="2565360"/>
            <a:ext cx="2581200" cy="1557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ffirmativ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 will be go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you will be go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e/she/it will be go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e/you/they will be go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3006360" y="2565360"/>
            <a:ext cx="3096000" cy="1557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g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 will not be go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will not be go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/she/it will not be go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/you/they will not be go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6"/>
          <p:cNvSpPr/>
          <p:nvPr/>
        </p:nvSpPr>
        <p:spPr>
          <a:xfrm>
            <a:off x="6312600" y="2565360"/>
            <a:ext cx="2734920" cy="1557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es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ill I be going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ill you be going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ill he/she/it be going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ill we/you/they be going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7"/>
          <p:cNvSpPr/>
          <p:nvPr/>
        </p:nvSpPr>
        <p:spPr>
          <a:xfrm flipH="1">
            <a:off x="1402920" y="1268280"/>
            <a:ext cx="865080" cy="1008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8"/>
          <p:cNvSpPr/>
          <p:nvPr/>
        </p:nvSpPr>
        <p:spPr>
          <a:xfrm>
            <a:off x="4427640" y="1197000"/>
            <a:ext cx="0" cy="1224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9"/>
          <p:cNvSpPr/>
          <p:nvPr/>
        </p:nvSpPr>
        <p:spPr>
          <a:xfrm>
            <a:off x="6443640" y="1268280"/>
            <a:ext cx="865080" cy="10810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3" presetSubtype="16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3" presetSubtype="16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3" presetSubtype="16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2700"/>
                            </p:stCondLst>
                            <p:childTnLst>
                              <p:par>
                                <p:cTn id="18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uture Continuou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e use the Future Continuous to talk about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omething that will be in progress at a specific time in the fu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is time toworrow, I will be travelling to Mal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on’t phone me at four o’clock because I’ll be having a rest th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0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4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3000"/>
                            </p:stCondLst>
                            <p:childTnLst>
                              <p:par>
                                <p:cTn id="21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4000"/>
                            </p:stCondLst>
                            <p:childTnLst>
                              <p:par>
                                <p:cTn id="22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5000"/>
                            </p:stCondLst>
                            <p:childTnLst>
                              <p:par>
                                <p:cTn id="23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me Expressions with the Future Continuo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684360" y="1773360"/>
            <a:ext cx="230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 four o’clo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morr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5"/>
          <p:cNvSpPr/>
          <p:nvPr/>
        </p:nvSpPr>
        <p:spPr>
          <a:xfrm>
            <a:off x="6012000" y="465300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8"/>
          <p:cNvSpPr/>
          <p:nvPr/>
        </p:nvSpPr>
        <p:spPr>
          <a:xfrm>
            <a:off x="2845800" y="3357720"/>
            <a:ext cx="308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time tomorr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2"/>
          <p:cNvSpPr/>
          <p:nvPr/>
        </p:nvSpPr>
        <p:spPr>
          <a:xfrm>
            <a:off x="6086520" y="2349360"/>
            <a:ext cx="105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3"/>
          <p:cNvSpPr/>
          <p:nvPr/>
        </p:nvSpPr>
        <p:spPr>
          <a:xfrm>
            <a:off x="5940360" y="4365720"/>
            <a:ext cx="2008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tim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xt eve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4"/>
          <p:cNvSpPr/>
          <p:nvPr/>
        </p:nvSpPr>
        <p:spPr>
          <a:xfrm>
            <a:off x="1096920" y="4622760"/>
            <a:ext cx="158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morr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fterno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0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uture Perfect Si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4"/>
          <p:cNvSpPr/>
          <p:nvPr/>
        </p:nvSpPr>
        <p:spPr>
          <a:xfrm>
            <a:off x="191880" y="2565360"/>
            <a:ext cx="2157480" cy="2105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ffirm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/you wil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ve g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e/she/it wil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ve g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e/you/they wil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ve g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5"/>
          <p:cNvSpPr/>
          <p:nvPr/>
        </p:nvSpPr>
        <p:spPr>
          <a:xfrm>
            <a:off x="2843280" y="2565360"/>
            <a:ext cx="3097080" cy="2105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g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/you will no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ve g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e/she/it will no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ve g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e/you/they will no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ve g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"/>
          <p:cNvSpPr/>
          <p:nvPr/>
        </p:nvSpPr>
        <p:spPr>
          <a:xfrm>
            <a:off x="6300720" y="2565360"/>
            <a:ext cx="2087640" cy="2105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es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ill I/yo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ve gon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ill he/she/i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ve gon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ill we/you/the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ve gon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7"/>
          <p:cNvSpPr/>
          <p:nvPr/>
        </p:nvSpPr>
        <p:spPr>
          <a:xfrm flipH="1">
            <a:off x="1402920" y="1268280"/>
            <a:ext cx="865080" cy="1008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8"/>
          <p:cNvSpPr/>
          <p:nvPr/>
        </p:nvSpPr>
        <p:spPr>
          <a:xfrm>
            <a:off x="4356000" y="1268280"/>
            <a:ext cx="0" cy="10810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9"/>
          <p:cNvSpPr/>
          <p:nvPr/>
        </p:nvSpPr>
        <p:spPr>
          <a:xfrm>
            <a:off x="6227640" y="1268280"/>
            <a:ext cx="1008360" cy="9367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3" presetSubtype="16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3" presetSubtype="16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3" presetSubtype="16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2700"/>
                            </p:stCondLst>
                            <p:childTnLst>
                              <p:par>
                                <p:cTn id="28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03T19:07:09Z</dcterms:created>
  <dc:creator>Татьяна</dc:creator>
  <dc:description/>
  <dc:language>en-US</dc:language>
  <cp:lastModifiedBy>Kab-38</cp:lastModifiedBy>
  <dcterms:modified xsi:type="dcterms:W3CDTF">2019-12-16T06:50:13Z</dcterms:modified>
  <cp:revision>38</cp:revision>
  <dc:subject/>
  <dc:title>Present Tenses</dc:title>
</cp:coreProperties>
</file>