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1.gif" ContentType="image/gif"/>
  <Override PartName="/ppt/media/image14.png" ContentType="image/png"/>
  <Override PartName="/ppt/media/image9.gif" ContentType="image/gif"/>
  <Override PartName="/ppt/media/image8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7.gif" ContentType="image/gif"/>
  <Override PartName="/ppt/media/image3.png" ContentType="image/png"/>
  <Override PartName="/ppt/media/image18.png" ContentType="image/png"/>
  <Override PartName="/ppt/media/image15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1.gif" ContentType="image/gif"/>
  <Override PartName="/ppt/media/image4.png" ContentType="image/png"/>
  <Override PartName="/ppt/media/image7.gif" ContentType="image/gi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935-EDC6-4430-8F7C-0693B626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4F9-4DD5-476B-9B95-6704368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8C2-248A-422C-A174-76032EE5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BB7-97F8-4E60-97B2-F4E3D52F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283-2400-43B2-A9F9-55A5A3A7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667-6176-48AC-A4AE-8CFDE45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2CF-5A2F-442A-940F-80E82E6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ACC-1324-4454-8261-48D58ED4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3E9B-78F8-4152-9E56-B710AB83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23FB-7C4D-43F9-89D9-C0C8CB89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B7F-4563-4173-815E-84C7EF9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B2E-D19E-4463-A0C2-D2244F4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3EDE-A76F-4092-88E9-4CAA002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9C7-A107-4E1F-AABA-BFD1237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8E1D-AE2B-4689-A441-D0C858C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897C-F1E7-4820-BBD2-557C77C7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04E8-820C-4F38-8054-0C252566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3D4-2D16-4480-88BD-5A301988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4C6-236B-4A44-AC9B-07AF0D9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5A0-779A-4F4B-AECD-7ECDDF8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7D3-2F86-4C38-8ACE-21A4BA2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6A5-F2CA-4DEF-885F-85241E5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E81-9D62-4315-9B0B-31A7226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949-64E4-465F-AAC6-9F982B1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6089-1849-41CF-A5EE-C09E785014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FDA-4EF3-4BFD-8897-11AAA1BFA5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dff"/>
                </a:solidFill>
                <a:latin typeface="Monotype Corsiva"/>
              </a:rPr>
              <a:t>Tastes differ!!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"/>
          <p:cNvPicPr/>
          <p:nvPr/>
        </p:nvPicPr>
        <p:blipFill>
          <a:blip r:embed="rId1"/>
          <a:stretch/>
        </p:blipFill>
        <p:spPr>
          <a:xfrm>
            <a:off x="324000" y="3573360"/>
            <a:ext cx="2746080" cy="28083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3971880" y="4143240"/>
            <a:ext cx="26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Form 6a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5496480" y="63579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Let me tell you about my hobbies! I like to listen to music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 My favorite type of music is rock. I play the piano. I like to play the piano very much. Grandmother likes to listen to my playing. I started interested in it in 2006. I listen to “Rammstain”, “Linkin Park” and “Bullet for my Valentine”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 Also I sing well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                                                                                Lis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6"/>
          <p:cNvPicPr/>
          <p:nvPr/>
        </p:nvPicPr>
        <p:blipFill>
          <a:blip r:embed="rId1"/>
          <a:stretch/>
        </p:blipFill>
        <p:spPr>
          <a:xfrm>
            <a:off x="179280" y="4508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16797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17"/>
          <p:cNvGraphicFramePr/>
          <p:nvPr/>
        </p:nvGraphicFramePr>
        <p:xfrm>
          <a:off x="685800" y="2414520"/>
          <a:ext cx="377208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4520"/>
                    <a:ext cx="377208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9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3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40606"/>
                </a:solidFill>
                <a:latin typeface="Comic Sans MS"/>
              </a:rPr>
              <a:t>My hobby is swimming. I like swimming. I can swim as butterfly, dolphin and croll</a:t>
            </a:r>
            <a:r>
              <a:rPr b="0" lang="ru-RU" sz="2800" spc="-1" strike="noStrike">
                <a:solidFill>
                  <a:srgbClr val="e40606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e40606"/>
                </a:solidFill>
                <a:latin typeface="Comic Sans MS"/>
              </a:rPr>
              <a:t>I go to a swimming pool every week. I swim very well! </a:t>
            </a:r>
            <a:br>
              <a:rPr sz="2800"/>
            </a:br>
            <a:r>
              <a:rPr b="0" lang="en-US" sz="2800" spc="-1" strike="noStrike">
                <a:solidFill>
                  <a:srgbClr val="e40606"/>
                </a:solidFill>
                <a:latin typeface="Comic Sans MS"/>
              </a:rPr>
              <a:t>Also my hobby is playing the piano. I like playing the piano. I go to music school on Tuesdays, Wednesdays and Fridays. I play the piano very well!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40606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e40606"/>
                </a:solidFill>
                <a:latin typeface="Comic Sans MS"/>
              </a:rPr>
              <a:t>                                       Yura </a:t>
            </a:r>
            <a:br>
              <a:rPr sz="2800"/>
            </a:br>
            <a:r>
              <a:rPr b="0" lang="en-US" sz="2800" spc="-1" strike="noStrike">
                <a:solidFill>
                  <a:srgbClr val="e4060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10"/>
          <p:cNvPicPr/>
          <p:nvPr/>
        </p:nvPicPr>
        <p:blipFill>
          <a:blip r:embed="rId1"/>
          <a:stretch/>
        </p:blipFill>
        <p:spPr>
          <a:xfrm>
            <a:off x="6335640" y="4575240"/>
            <a:ext cx="2808360" cy="22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324000" y="4653000"/>
            <a:ext cx="132696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Impact"/>
              </a:rPr>
              <a:t>I am interested in  cyber sports.. In the team there are 6 persons. On Sundays we conduct Clan Wars. 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Impact"/>
              </a:rPr>
              <a:t>I like to listen to music. My favorite type of music is Death Metal. My favorite musical group is Vader. They  are from Poland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Impact"/>
              </a:rPr>
              <a:t>                                                          Vlad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3968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verybody’s got a hobby. I like listening to music. I started interested in listening music when I was 12. I enjoy listening to hip-hop music. All my friends like listening to music of hip-hop, too. I don’t play any musical instruments, but I like to listen to people who play. But I sing very well. We live in music!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Kristi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ky065"/>
          <p:cNvPicPr/>
          <p:nvPr/>
        </p:nvPicPr>
        <p:blipFill>
          <a:blip r:embed="rId1"/>
          <a:stretch/>
        </p:blipFill>
        <p:spPr>
          <a:xfrm>
            <a:off x="1571760" y="-142920"/>
            <a:ext cx="1152360" cy="23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Новый рисунок"/>
          <p:cNvPicPr/>
          <p:nvPr/>
        </p:nvPicPr>
        <p:blipFill>
          <a:blip r:embed="rId2"/>
          <a:stretch/>
        </p:blipFill>
        <p:spPr>
          <a:xfrm>
            <a:off x="5643720" y="4554360"/>
            <a:ext cx="14605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! My name is Sveta. I’m a dancer. I like dancing. I practice a new disco dance. My friends like dancing too. I started interested in dancing when I was small. I like ballet, too. I often watch ballet on TV.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Sveta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37"/>
          <p:cNvPicPr/>
          <p:nvPr/>
        </p:nvPicPr>
        <p:blipFill>
          <a:blip r:embed="rId1"/>
          <a:stretch/>
        </p:blipFill>
        <p:spPr>
          <a:xfrm>
            <a:off x="324000" y="0"/>
            <a:ext cx="3382920" cy="2903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825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ambria Math"/>
              </a:rPr>
              <a:t>Hello! Let me tell you about my hobbies. My hobby is dancing. I  like dancing. I started interested in it when I was 5. My favorite type of dances are hip-hop, tango and classical dances. I go to a music school. I like to go to a music school, because I play the piano. I started interested in it when I was 9. I practice playing the piano every day. I play the music of Mozart.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Cambria Math"/>
              </a:rPr>
              <a:t>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Cambria Math"/>
              </a:rPr>
              <a:t>                                                                                            Olya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25617"/>
          <p:cNvPicPr/>
          <p:nvPr/>
        </p:nvPicPr>
        <p:blipFill>
          <a:blip r:embed="rId1"/>
          <a:stretch/>
        </p:blipFill>
        <p:spPr>
          <a:xfrm>
            <a:off x="1258920" y="260280"/>
            <a:ext cx="1298520" cy="200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39068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 me tell about my hobbies! I like playing the guitar. I started playing when I was in the fourth form. I like to listen to music. My favorite type of music is rock. I listen to music when I have good mood. I like playing computer games when I have time. All my friends are fond of walking. I like walking, too. We are walking and tell fun stories. Also I am fond of playing basketball. My dream is to form a basketball team and win in the world championship. So I practice  in summer  when the weather is sunny and dry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Sash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2"/>
          <p:cNvPicPr/>
          <p:nvPr/>
        </p:nvPicPr>
        <p:blipFill>
          <a:blip r:embed="rId1"/>
          <a:stretch/>
        </p:blipFill>
        <p:spPr>
          <a:xfrm>
            <a:off x="826920" y="5013360"/>
            <a:ext cx="1454400" cy="155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7451640" y="4653000"/>
            <a:ext cx="13734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We all have different hobbies. I go to school. I like to spend my free time with my friends. I like reading before going to bed. I like playing basketball. I practice playing basketball every day. My friends as me like playing basketball , but not all. Tastes differ.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Yuliya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4"/>
          <p:cNvPicPr/>
          <p:nvPr/>
        </p:nvPicPr>
        <p:blipFill>
          <a:blip r:embed="rId1"/>
          <a:stretch/>
        </p:blipFill>
        <p:spPr>
          <a:xfrm>
            <a:off x="611280" y="0"/>
            <a:ext cx="1876320" cy="2306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609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My hobbies are computer and computer games. I like computer games, because it is fun. Sometimes my mum abuses me for it. But I don’t stop to play computer games. Often my hobby helps me to do homework . I can repair a computer. My hobbies are very interest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I think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Stas</a:t>
            </a: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24"/>
          <p:cNvPicPr/>
          <p:nvPr/>
        </p:nvPicPr>
        <p:blipFill>
          <a:blip r:embed="rId1"/>
          <a:stretch/>
        </p:blipFill>
        <p:spPr>
          <a:xfrm>
            <a:off x="928800" y="357120"/>
            <a:ext cx="2447640" cy="1892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7286760" y="0"/>
            <a:ext cx="160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0:37:51Z</dcterms:created>
  <dc:creator>Slava</dc:creator>
  <dc:description/>
  <dc:language>en-US</dc:language>
  <cp:lastModifiedBy>Admin</cp:lastModifiedBy>
  <dcterms:modified xsi:type="dcterms:W3CDTF">2019-12-01T19:06:14Z</dcterms:modified>
  <cp:revision>12</cp:revision>
  <dc:subject/>
  <dc:title>Слайд 1</dc:title>
</cp:coreProperties>
</file>