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2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825-DBC6-4A78-925B-30C5DD4C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0E2-7D43-4C9D-9F32-CAE1FDF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06D-62C5-47DB-9163-7F03CEE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8A1-3107-4F09-87B9-E9654A7B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BD5-1E71-4E84-85CA-A137556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4EB-5A82-40AF-BE13-16FD446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CC8-7DAF-4F65-9718-CBECE442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BAB-D213-42CF-8131-63AAC65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B30-05DB-413C-B582-99FBCED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558-4751-44FB-A3B5-E6026BE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D15-ADF0-45BC-AB2F-3356A08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F75-EF8C-49BC-AC4E-42DBC08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BBE3F5-A023-4EA1-862B-2A8FC16BE07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" Target="slide3.xml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5128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§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20,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260280"/>
            <a:ext cx="7777080" cy="510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3300"/>
                  </a:solidFill>
                  <a:custDash>
                    <a:ds d="100000" sp="100000"/>
                  </a:custDash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рода и люди</a:t>
            </a:r>
            <a:endParaRPr b="0" lang="en-US" sz="1800" spc="1" strike="noStrike">
              <a:ln cap="sq" w="9360">
                <a:solidFill>
                  <a:srgbClr val="ff3300"/>
                </a:solidFill>
                <a:custDash>
                  <a:ds d="100000" sp="100000"/>
                </a:custDash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3300"/>
                  </a:solidFill>
                  <a:custDash>
                    <a:ds d="100000" sp="100000"/>
                  </a:custDash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евней Индии</a:t>
            </a:r>
            <a:endParaRPr b="0" lang="en-US" sz="1800" spc="1" strike="noStrike">
              <a:ln cap="sq" w="9360">
                <a:solidFill>
                  <a:srgbClr val="ff3300"/>
                </a:solidFill>
                <a:custDash>
                  <a:ds d="100000" sp="100000"/>
                </a:custDash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Древние города Ин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617840"/>
            <a:ext cx="4248000" cy="29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3166920"/>
            <a:ext cx="3927240" cy="332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4869000"/>
            <a:ext cx="38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00 тыс.лет назад в Индии возникли таинственные города. Спустя тысячу лет они неожиданно опус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ите природно-климатические условия Древнего Египта, Финикии и И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260280"/>
            <a:ext cx="5400720" cy="1219320"/>
          </a:xfrm>
          <a:custGeom>
            <a:avLst/>
            <a:gdLst>
              <a:gd name="textAreaLeft" fmla="*/ 1350000 w 5400720"/>
              <a:gd name="textAreaRight" fmla="*/ 4050720 w 540072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f9fba3"/>
          </a:solidFill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5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3573360"/>
          <a:ext cx="7932240" cy="2554200"/>
        </p:xfrm>
        <a:graphic>
          <a:graphicData uri="http://schemas.openxmlformats.org/drawingml/2006/table">
            <a:tbl>
              <a:tblPr/>
              <a:tblGrid>
                <a:gridCol w="1983240"/>
                <a:gridCol w="1982520"/>
                <a:gridCol w="1983240"/>
                <a:gridCol w="1983240"/>
              </a:tblGrid>
              <a:tr h="851400"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ип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ик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</a:tr>
              <a:tr h="851760"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</a:tr>
              <a:tr h="851040"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324000" y="6308640"/>
            <a:ext cx="28728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План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700280"/>
            <a:ext cx="820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ирода Древней Инд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Хозяйство Инд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Боги индий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ра в переселение душ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ревние города Инд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Цель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773360"/>
            <a:ext cx="6913440" cy="4248000"/>
          </a:xfrm>
          <a:prstGeom prst="cloudCallout">
            <a:avLst>
              <a:gd name="adj1" fmla="val -66578"/>
              <a:gd name="adj2" fmla="val 56837"/>
            </a:avLst>
          </a:prstGeom>
          <a:solidFill>
            <a:srgbClr val="f9fba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21300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2924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ак природа повлияла на занятия жителей Инд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45000 w 360360"/>
              <a:gd name="textAreaRight" fmla="*/ 315360 w 360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Природа Древней Ин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1438920"/>
            <a:ext cx="4845240" cy="4879080"/>
            <a:chOff x="539640" y="1438920"/>
            <a:chExt cx="4845240" cy="487908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10119" t="0" r="21757" b="0"/>
            <a:stretch/>
          </p:blipFill>
          <p:spPr>
            <a:xfrm>
              <a:off x="539640" y="1605600"/>
              <a:ext cx="4845240" cy="47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 rot="20460000">
              <a:off x="1041120" y="2532600"/>
              <a:ext cx="590400" cy="425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2574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Инд</a:t>
              </a:r>
              <a:endPara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 rot="3360000">
              <a:off x="3162240" y="3144600"/>
              <a:ext cx="685080" cy="453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Ганг</a:t>
              </a:r>
              <a:endPara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 rot="2940000">
              <a:off x="2779920" y="1962000"/>
              <a:ext cx="1593360" cy="453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996633"/>
                  </a:solidFill>
                  <a:latin typeface="Arial"/>
                </a:rPr>
                <a:t>Гималаи</a:t>
              </a:r>
              <a:endPara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"/>
                <a:ea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84360" y="5810400"/>
              <a:ext cx="1869840" cy="282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cap="sq" w="9360">
                    <a:solidFill>
                      <a:srgbClr val="0033cc"/>
                    </a:solidFill>
                    <a:miter/>
                  </a:ln>
                  <a:solidFill>
                    <a:srgbClr val="00ccff"/>
                  </a:solidFill>
                  <a:latin typeface="Arial"/>
                </a:rPr>
                <a:t>Индийский</a:t>
              </a:r>
              <a:endParaRPr b="1" lang="en-US" sz="1800" spc="1" strike="noStrike">
                <a:ln cap="sq" w="9360">
                  <a:solidFill>
                    <a:srgbClr val="0033cc"/>
                  </a:solidFill>
                  <a:miter/>
                </a:ln>
                <a:solidFill>
                  <a:srgbClr val="00ccff"/>
                </a:solidFill>
                <a:latin typeface="Arial"/>
                <a:ea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564000" y="5810400"/>
              <a:ext cx="863640" cy="212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cap="sq" w="9360">
                    <a:solidFill>
                      <a:srgbClr val="0033cc"/>
                    </a:solidFill>
                    <a:miter/>
                  </a:ln>
                  <a:solidFill>
                    <a:srgbClr val="00ccff"/>
                  </a:solidFill>
                  <a:latin typeface="Arial"/>
                </a:rPr>
                <a:t>океан</a:t>
              </a:r>
              <a:endParaRPr b="1" lang="en-US" sz="1800" spc="1" strike="noStrike">
                <a:ln cap="sq" w="9360">
                  <a:solidFill>
                    <a:srgbClr val="0033cc"/>
                  </a:solidFill>
                  <a:miter/>
                </a:ln>
                <a:solidFill>
                  <a:srgbClr val="00cc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508720" y="141300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я расположена в Южной Азии. С севера её границей служат Гималаи. С запада, юга и востока Индия омывается Индийским оке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141720"/>
            <a:ext cx="316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широкие и полноводные реки Индии—Инд и Ган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лноводны, никогда не пересыхаю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о разливаются и несут вместе с водой плодородный и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ы в жарком поясе земного шара, где много тёплых дней в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456000" cy="210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84720" y="3549600"/>
            <a:ext cx="4549680" cy="303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84720" y="148428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лине Ганга было жарко и влажно. Её покрывали густые и труднопроходимые лес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джун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49228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унгли поражают огромной высотой деревьев, густотой растительности. Здесь всегда темно и 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3860640"/>
            <a:ext cx="3527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жунглях много съедобных плодов: манго, бананы, кокосовые орехи, сладкие коре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здесь человека подстерегают и опасности—хищные звери, ядовитые змеи и насеко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Природа Древней Ин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Хозяйство Ин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джунглей возникали деревни. В 1 тыс. до н.э. индийцы научились добывать и обрабатывать железо. Индийцы выращив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190512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2485800" cy="3247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03640" y="4005360"/>
            <a:ext cx="370980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95008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лопча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292428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6021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исовое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Животные и боги индийце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3189240" cy="270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3240000" cy="280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1484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жунглях обитало много животных. Больше всех индийцы боялись змей и старались их задобрить. Особенно трепетно жители Индии относились к слонам и коровам. Слон переносил тяжести и участвовал в сражениях. Корова давала молоко, масло, простоквашу и поэтому её ласково называли божественной кормил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038480" cy="511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14842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почитаемым богом индийцев был бог Ганеша. Ему поклонялись как богу мудрости и учё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997360"/>
            <a:ext cx="403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я любое сколько-нибудь важное дело, индийцы призывали на помощь Ганешу, который, как верили, устраняет все препят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Животные и боги индийце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omic Sans MS"/>
              </a:rPr>
              <a:t>Вера в переселение ду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9640" y="2924280"/>
            <a:ext cx="8350200" cy="3544920"/>
            <a:chOff x="539640" y="2924280"/>
            <a:chExt cx="8350200" cy="35449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39640" y="2924280"/>
              <a:ext cx="10368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843280" y="3068640"/>
              <a:ext cx="12412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5003640" y="2995560"/>
              <a:ext cx="11638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1187280" y="4795920"/>
              <a:ext cx="1320840" cy="15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3780000" y="4653000"/>
              <a:ext cx="77616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5506920" y="5013360"/>
              <a:ext cx="15051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7020000" y="2924280"/>
              <a:ext cx="110952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906560" y="3284640"/>
              <a:ext cx="646200" cy="574560"/>
            </a:xfrm>
            <a:prstGeom prst="rightArrow">
              <a:avLst>
                <a:gd name="adj1" fmla="val 50000"/>
                <a:gd name="adj2" fmla="val 28117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82920" y="3355920"/>
              <a:ext cx="646200" cy="574560"/>
            </a:xfrm>
            <a:prstGeom prst="rightArrow">
              <a:avLst>
                <a:gd name="adj1" fmla="val 50000"/>
                <a:gd name="adj2" fmla="val 28117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3284640"/>
              <a:ext cx="646200" cy="574560"/>
            </a:xfrm>
            <a:prstGeom prst="rightArrow">
              <a:avLst>
                <a:gd name="adj1" fmla="val 50000"/>
                <a:gd name="adj2" fmla="val 28117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14920" y="5300640"/>
              <a:ext cx="646200" cy="574560"/>
            </a:xfrm>
            <a:prstGeom prst="rightArrow">
              <a:avLst>
                <a:gd name="adj1" fmla="val 50000"/>
                <a:gd name="adj2" fmla="val 28117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71640" y="5300640"/>
              <a:ext cx="646200" cy="574560"/>
            </a:xfrm>
            <a:prstGeom prst="rightArrow">
              <a:avLst>
                <a:gd name="adj1" fmla="val 50000"/>
                <a:gd name="adj2" fmla="val 28117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44000" y="3284640"/>
              <a:ext cx="645840" cy="574560"/>
            </a:xfrm>
            <a:prstGeom prst="rightArrow">
              <a:avLst>
                <a:gd name="adj1" fmla="val 50000"/>
                <a:gd name="adj2" fmla="val 28102"/>
              </a:avLst>
            </a:prstGeom>
            <a:solidFill>
              <a:srgbClr val="f9fba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39640" y="1413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йцы верили, что звери, птицы думают и разговаривают между собой. И когда кто-нибудь умирает, он на самом деле не перестаёт жить, а только меняет свой внешний облик, превращаясь в другое существо. Человек после смерти может родиться животным, а животное—человек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24000" y="6308640"/>
            <a:ext cx="287280" cy="289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8:54:51Z</dcterms:created>
  <dc:creator>Vicont</dc:creator>
  <dc:description/>
  <dc:language>en-US</dc:language>
  <cp:lastModifiedBy>Vicont</cp:lastModifiedBy>
  <dcterms:modified xsi:type="dcterms:W3CDTF">2006-11-26T13:55:11Z</dcterms:modified>
  <cp:revision>8</cp:revision>
  <dc:subject/>
  <dc:title>Природа и люди Древней Индии.</dc:title>
</cp:coreProperties>
</file>