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833-D368-47E9-A9CB-E4A61ED5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00D-FCBA-4325-8751-4C57EFA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4D82E-7D07-40D2-A5EB-3D84720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6C06D-3EB8-44DA-8F22-A08D7FAF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DDDB-F07D-4124-9BC3-09931F2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846E-36E7-4A6B-9635-4E6BC69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1305-B45B-4266-90CE-3F70F249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D4AA9-71B9-4B25-A81B-378C2EB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39273-79E6-4D76-A897-B7E9F0DC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84B7D-66C9-45D2-93E4-0B763B07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91C65-F60F-4CD2-A538-AE24260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07B2E-5D4B-4837-8E63-7E8FC9D5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3F7-BE83-40DE-BBC0-B55DB14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823BE-3D8B-485C-BE33-801FE48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5B37F-4E98-49A4-A81C-3A61C70E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662D1-E336-4793-ADEB-A607D41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60D54-344E-48B4-B909-B76F43A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2C73A-3C26-4B30-9277-A24B46B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08410-C9D6-49A2-97B1-E060ABD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903C5-B9DF-44BC-83A3-2926915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19526-82C0-4BC7-BF42-9CEDB31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D6239-9C0A-458B-A95D-3811CBB7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55B16-7681-4351-ACE8-C69A26CE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778-AD57-4EFB-BA6C-764DB2E2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5C47F-020E-490D-AEFC-591A55E1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6535-BA33-4956-9EFA-40058C9C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475F-F41C-4346-B598-6DAEA3E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A9F5-4016-4A47-AF9D-34DE0F47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C7A51-E622-4110-827D-051A492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D1F6-7A81-4638-94FF-0B7DDF4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3AAF9-287B-49BA-AA4B-F31335B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DE68A-2C39-4411-86F4-EE9AE97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997D1-D9A2-40C3-90D6-73CE9F5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74474-82CD-4A6B-9BF5-2DFD83E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681B-7A0E-4BFB-9B74-70D2F0C8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04E7-18DF-436A-BA5A-D7AED7B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FD3FD-B42C-4A0C-A10D-3B25A44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A7F6D-6E80-4B09-8056-F385199F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C6712-FBAC-4825-B6CA-B0E69EE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5739A-5337-4782-8BDD-B07ABA3C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B4072-92C4-4B4D-8CDA-EFEE7BD1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05661-43BF-4EE3-9DA7-735065B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3A11A-CC34-464D-BEAA-1BE1DAC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B45DC-4A12-4283-9FB3-66CC40A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98E2F-B86B-49B3-BB1F-8C37296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879-F408-4C86-9428-D045225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9E43F-B684-4C01-996E-A81C82D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6F692-A570-4852-919E-CBEC043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8AA41-8A69-4B74-8E42-13A4C20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AEC37-89B1-4F4E-B329-68484684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7D4A8-3204-47A8-B151-2C61B10E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C4762-1B1C-4859-AE4B-12F90A5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21116-BDEA-4467-A10C-60BF217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23E09-95AD-4BC3-B75D-BDAC145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F0FD6-A0D0-4F4F-87F2-D71DAC4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DAEC7-9544-4756-B6D2-74E7796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057-9EE3-4E0A-AF72-3F4A0CC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B59C8-838F-472B-9BD2-6DD143B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01C1C-C9B3-400B-95A3-48C8750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3F860-AFBB-4933-85A0-87E5295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D0F67-B69E-41DF-8377-47C48C1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A2CE7-40B2-44C2-BD81-096B09B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941FB-9C0D-4A1D-88CF-71209558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C67A2-E4A8-4CBC-9C7C-1DF93557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8955-C55C-4565-BD34-B3DCD9D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466-0285-45D0-989A-78C6DB2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7EDC-133E-4DAF-90E0-C3D5FD50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0EB-2B56-403F-8986-CB3C1D3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429-0BC3-4EF8-94B0-A8EB021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152-F8E9-4AD9-9ED3-CFCC059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BCF3-6005-4A2D-B292-A48EEE3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001-72F5-476B-86AC-02B55FD7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D74-19AF-4BB2-8131-0F540B56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4B40-78F8-40D3-BB8C-B9DF4C68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56A8-7763-4D49-934B-97A38CA0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D7E7-157C-4D4E-8F53-1C969E64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E2EF-C82C-4A45-AA72-57A1D47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66D8-FC2C-4863-B834-ADCF30F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B901-F060-4C2B-BA87-A1487F07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513-74B8-4FA7-B080-E85E049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1483-02EE-427D-8944-CA52C6C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47CE-35D4-4A01-B371-1BC441D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CBC8-46B2-4ECC-8B88-DC1D7B8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4E19-40F0-4C63-8F7D-C904E31A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CEAC-941A-47AD-8933-809CB0E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4C40-884F-46CA-854C-E4E945D7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9FBE-7BEF-4243-AF2F-A9CD2071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BC77-2EA3-4643-82A1-BED7A37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6C50-128F-4D45-A34A-2557416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8E49-3AB0-4D4C-B309-523D14D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D04-98DE-4F34-8BC8-465A7BC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769E-BC79-4100-BE8F-F500D10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9706-1FF0-4F6E-B8BC-851B30D2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472C-648B-4A53-9BEE-481F194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4312-7C3E-4FE4-858E-E8844C4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51C9-7655-46FF-AEC6-A2C2FBF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769C-B983-4937-8067-3752D6F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9CE8-824E-4CBE-8ADF-879BECD5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BA0A-57BD-4ADF-B052-063EF676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DD2F-EE77-4C72-8558-53176A5F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AFB02-C97D-478A-8B8B-1DE77CCF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514-4706-4BA4-8F9A-70974BA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28D4F-9E0F-437A-BD9A-C5F6FF3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5A0D-11DE-4E1F-96E7-09159AA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9BD1B-FE79-442C-8FEB-3B0E684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9F92-9ECE-48BA-9F1F-155EF51C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1157-50EC-405D-93DA-8FEB907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B0CD-B137-49B3-8407-ED16E64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5E870-5F0D-42E8-9414-0D9E68C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0B72-330D-4F2D-BC7C-BABFABC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767B-E40C-4ACE-BE8D-59CCD3D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1C76-E927-4862-BA56-D20AD902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E19-567A-4D00-8E32-6472C0B3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C7A4-FA12-471C-9F67-459DB30E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F095-339F-4CF9-A106-96FBD5A2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C068-1E89-4AB9-828A-16F0D38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2E7B-EB53-4ABA-80F0-3DC1B551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E47B-6C88-4CAA-9B88-771CCB20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49A2B-5A79-481A-8D76-AD87FDF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1FE4-1BC4-413C-91A9-12B8708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383A-BDC5-4E7C-BA42-94DC0C9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03DA-9E3B-4CDD-96F2-FF1DFB8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C6A0-C937-4BBD-8941-1A37E76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B07-7696-4C85-AF6E-13A1893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840C-B3D1-4BCA-8CAB-1ED11F1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92F2-CC10-48D8-AEA2-1110735B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F36B2-18BB-4AED-87B2-C5C241EA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7538-C4EC-42A4-A605-C02C0ACC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B1494-3D54-4DA7-B691-67F3852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BB5AE-E0DE-4DFB-AE04-B745DDC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DACAE-2AF5-4793-B920-6DD0F3D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58D9-754A-40DF-BEB9-5D948455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D90C-07A0-4CC7-8BB3-6DB78CE7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975E5-9B6B-40B6-9C67-559EA08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071-4E3F-4385-AC6A-214593F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B2813-1D95-4A8E-B5CA-511C745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B769-535A-4EB5-97F4-DA71DE1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52DC8-777E-43D9-B953-6B94A97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4B0A-AE8B-4F3D-B525-009B8EA9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3D7A-C7D1-4FE7-8420-3E053D5A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86E9-A591-4421-8352-5A72ED01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8EA0-C68B-470D-9CCB-5FCA155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3EE2-DA95-4EEF-A8A4-7329207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DA4F-5DA6-4AD4-B279-9774689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8347-B0A1-4040-A4C7-0B7A1A9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733-A949-41F5-99C8-00F2F76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EEDA-5E54-4CC1-B050-315A837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1809C-F2A1-46EA-8881-DFCF7C9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1867-C722-4863-B08E-0B70CE5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A73C1-0ABB-4BA7-9D59-E45EC59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1F3CD-6095-461C-91FF-B311541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0A08-0F03-44C4-90D1-FADE69DD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9292-11AD-402D-857B-110A103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1789-1ED5-4D73-AF7F-494EA3F9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4A744-0443-475B-B443-FC7E3BB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19DA7-5FB8-450A-9AA9-E4935F2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569-B2EA-4242-BCA8-B5FE13CDCF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7" descr="Фигура.png"/>
          <p:cNvPicPr/>
          <p:nvPr/>
        </p:nvPicPr>
        <p:blipFill>
          <a:blip r:embed="rId4"/>
          <a:stretch/>
        </p:blipFill>
        <p:spPr>
          <a:xfrm>
            <a:off x="792972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8" descr="logotip.png"/>
          <p:cNvPicPr/>
          <p:nvPr/>
        </p:nvPicPr>
        <p:blipFill>
          <a:blip r:embed="rId5"/>
          <a:stretch/>
        </p:blipFill>
        <p:spPr>
          <a:xfrm>
            <a:off x="806148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31B4-C280-4F6A-A89E-E06EAB95A9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90D-A15D-4EA9-AE75-21FA38BD35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7" descr="logotip.png"/>
          <p:cNvPicPr/>
          <p:nvPr/>
        </p:nvPicPr>
        <p:blipFill>
          <a:blip r:embed="rId4"/>
          <a:stretch/>
        </p:blipFill>
        <p:spPr>
          <a:xfrm>
            <a:off x="8429760" y="0"/>
            <a:ext cx="714240" cy="10825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1C7-70D5-4D36-B247-58A7F47734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6" descr="0a03cb5c9730.jpg"/>
          <p:cNvPicPr/>
          <p:nvPr/>
        </p:nvPicPr>
        <p:blipFill>
          <a:blip r:embed="rId3"/>
          <a:stretch/>
        </p:blipFill>
        <p:spPr>
          <a:xfrm>
            <a:off x="571680" y="428760"/>
            <a:ext cx="3929040" cy="265752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7" descr="1226347899_zar.jpg"/>
          <p:cNvPicPr/>
          <p:nvPr/>
        </p:nvPicPr>
        <p:blipFill>
          <a:blip r:embed="rId4"/>
          <a:stretch/>
        </p:blipFill>
        <p:spPr>
          <a:xfrm>
            <a:off x="5643720" y="142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8" descr="1198620265_zaryadka.jpg"/>
          <p:cNvPicPr/>
          <p:nvPr/>
        </p:nvPicPr>
        <p:blipFill>
          <a:blip r:embed="rId5"/>
          <a:stretch/>
        </p:blipFill>
        <p:spPr>
          <a:xfrm>
            <a:off x="5000760" y="3786120"/>
            <a:ext cx="3693960" cy="285768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9" descr="w400_00c200201e2d15750a0d1bacae68895e.jpg"/>
          <p:cNvPicPr/>
          <p:nvPr/>
        </p:nvPicPr>
        <p:blipFill>
          <a:blip r:embed="rId6"/>
          <a:stretch/>
        </p:blipFill>
        <p:spPr>
          <a:xfrm>
            <a:off x="642960" y="3000240"/>
            <a:ext cx="3286080" cy="35989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0" descr="фон прозр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1" descr="logotip.png"/>
          <p:cNvPicPr/>
          <p:nvPr/>
        </p:nvPicPr>
        <p:blipFill>
          <a:blip r:embed="rId8"/>
          <a:stretch/>
        </p:blipFill>
        <p:spPr>
          <a:xfrm>
            <a:off x="0" y="0"/>
            <a:ext cx="1239840" cy="817560"/>
          </a:xfrm>
          <a:prstGeom prst="rect">
            <a:avLst/>
          </a:prstGeom>
          <a:ln w="0">
            <a:noFill/>
          </a:ln>
        </p:spPr>
      </p:pic>
      <p:pic>
        <p:nvPicPr>
          <p:cNvPr id="523" name="Прямоугольник 12" descr=""/>
          <p:cNvPicPr/>
          <p:nvPr/>
        </p:nvPicPr>
        <p:blipFill>
          <a:blip r:embed="rId9"/>
          <a:stretch/>
        </p:blipFill>
        <p:spPr>
          <a:xfrm>
            <a:off x="3822840" y="40176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524" name="Прямоугольник 13" descr=""/>
          <p:cNvPicPr/>
          <p:nvPr/>
        </p:nvPicPr>
        <p:blipFill>
          <a:blip r:embed="rId10"/>
          <a:stretch/>
        </p:blipFill>
        <p:spPr>
          <a:xfrm>
            <a:off x="3608280" y="1542960"/>
            <a:ext cx="3116520" cy="1455840"/>
          </a:xfrm>
          <a:prstGeom prst="rect">
            <a:avLst/>
          </a:prstGeom>
          <a:ln w="0">
            <a:noFill/>
          </a:ln>
        </p:spPr>
      </p:pic>
      <p:pic>
        <p:nvPicPr>
          <p:cNvPr id="525" name="Прямоугольник 14" descr=""/>
          <p:cNvPicPr/>
          <p:nvPr/>
        </p:nvPicPr>
        <p:blipFill>
          <a:blip r:embed="rId11"/>
          <a:stretch/>
        </p:blipFill>
        <p:spPr>
          <a:xfrm>
            <a:off x="2359080" y="2755800"/>
            <a:ext cx="4859280" cy="145584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15" descr=""/>
          <p:cNvPicPr/>
          <p:nvPr/>
        </p:nvPicPr>
        <p:blipFill>
          <a:blip r:embed="rId12"/>
          <a:stretch/>
        </p:blipFill>
        <p:spPr>
          <a:xfrm>
            <a:off x="2157480" y="4462560"/>
            <a:ext cx="4829040" cy="160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7E7-0CAA-4AB9-85FD-AE90CC3313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5717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Фигура.png"/>
          <p:cNvPicPr/>
          <p:nvPr/>
        </p:nvPicPr>
        <p:blipFill>
          <a:blip r:embed="rId4"/>
          <a:stretch/>
        </p:blipFill>
        <p:spPr>
          <a:xfrm>
            <a:off x="0" y="3214800"/>
            <a:ext cx="914400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logotip.png"/>
          <p:cNvPicPr/>
          <p:nvPr/>
        </p:nvPicPr>
        <p:blipFill>
          <a:blip r:embed="rId5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-360" y="635796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143000" y="6356520"/>
            <a:ext cx="742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Панова Наталья Николаевна –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МОУ ООШ п. Елецкий Елецкого района Липец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52960" y="6357960"/>
            <a:ext cx="49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F7FC-9EE1-4F9B-BF67-859969C024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4C4-4620-4862-9C50-8A39E54B54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6609-4EFE-4D77-8AD4-97EE596C1E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79F-B23E-41F2-ABA1-D075F99437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7CD-CF15-48DF-903B-1A78C04A38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17146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40D-5549-45C2-9F34-8B5F51712E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6" descr="Фигура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7146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7" descr="Фигура.png"/>
          <p:cNvPicPr/>
          <p:nvPr/>
        </p:nvPicPr>
        <p:blipFill>
          <a:blip r:embed="rId4"/>
          <a:stretch/>
        </p:blipFill>
        <p:spPr>
          <a:xfrm>
            <a:off x="0" y="5143680"/>
            <a:ext cx="914400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8" descr="logotip.png"/>
          <p:cNvPicPr/>
          <p:nvPr/>
        </p:nvPicPr>
        <p:blipFill>
          <a:blip r:embed="rId5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013-C1F2-4F26-BA01-F9AC5BBD64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6" descr="Фигура.png"/>
          <p:cNvPicPr/>
          <p:nvPr/>
        </p:nvPicPr>
        <p:blipFill>
          <a:blip r:embed="rId3"/>
          <a:stretch/>
        </p:blipFill>
        <p:spPr>
          <a:xfrm>
            <a:off x="2571840" y="0"/>
            <a:ext cx="121428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7" descr="logotip.png"/>
          <p:cNvPicPr/>
          <p:nvPr/>
        </p:nvPicPr>
        <p:blipFill>
          <a:blip r:embed="rId4"/>
          <a:stretch/>
        </p:blipFill>
        <p:spPr>
          <a:xfrm>
            <a:off x="0" y="0"/>
            <a:ext cx="1082520" cy="7142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e7f5"/>
                </a:solidFill>
                <a:latin typeface="Vesna"/>
              </a:rPr>
              <a:t>Click to edit the title text format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57B-820C-434B-A2C6-A735558F68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43578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sna"/>
              </a:rPr>
              <a:t>Поэма Н.А.Некрасова «Кому на Руси жить хорошо».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Vesna"/>
              </a:rPr>
              <a:t>Замысел, жанр, композиция</a:t>
            </a:r>
            <a:endParaRPr b="1" lang="en-US" sz="5400" spc="-1" strike="noStrike">
              <a:solidFill>
                <a:srgbClr val="e0e7f5"/>
              </a:solidFill>
              <a:latin typeface="Ves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sna"/>
              </a:rPr>
              <a:t>Цель </a:t>
            </a:r>
            <a:endParaRPr b="1" lang="en-US" sz="48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Познакомить учащихся с творческой историей поэмы, с особенностями жанра и композиции романа</a:t>
            </a:r>
            <a:endParaRPr b="0" lang="en-US" sz="4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285840" y="0"/>
            <a:ext cx="4857840" cy="650088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«Я задумал изложить в связном рассказе все, что я знаю о народе, все, что мне привелось услышать из уст его, и я затеял «Кому на Руси жить хорошо».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(Н.А.Некрасов)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pic>
        <p:nvPicPr>
          <p:cNvPr id="572" name="Picture 3" descr="C:\Users\User\Desktop\Иллюстрации\cover.jpg"/>
          <p:cNvPicPr/>
          <p:nvPr/>
        </p:nvPicPr>
        <p:blipFill>
          <a:blip r:embed="rId1"/>
          <a:stretch/>
        </p:blipFill>
        <p:spPr>
          <a:xfrm>
            <a:off x="5429160" y="642960"/>
            <a:ext cx="3489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sna"/>
              </a:rPr>
              <a:t>Жанр поэмы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757760" cy="490068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втор так определяет жанр поэмы: «Это будет эпопея современной крестьянской жизни», что указывает на масштабность замысла, на незавершенность, свойственную любой эпопее (жизнь народная безгранична и неисчерпаема).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.Г.Белинский считал, что содержание эпопеи должно составлять «сущность… жизни, состояние и быт народа… Посему народность есть одно из основных условий эпической поэмы: сам поэт еще смотрит на события своей личности».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втор поднял проблемы социальные и экономические, психологические и нравственные.</a:t>
            </a:r>
            <a:endParaRPr b="0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  <p:pic>
        <p:nvPicPr>
          <p:cNvPr id="575" name="Picture 4" descr="C:\Users\User\Desktop\Иллюстрации\кому на руси....jpg"/>
          <p:cNvPicPr/>
          <p:nvPr/>
        </p:nvPicPr>
        <p:blipFill>
          <a:blip r:embed="rId1"/>
          <a:stretch/>
        </p:blipFill>
        <p:spPr>
          <a:xfrm>
            <a:off x="5572080" y="1643040"/>
            <a:ext cx="3143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sna"/>
              </a:rPr>
              <a:t>Своеобразие композиции поэмы</a:t>
            </a:r>
            <a:endParaRPr b="1" lang="en-US" sz="36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оеобразие композиции поэмы обусловлено сочетанием эпического повествования с лирическими отступлениями.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втономность глав поэмы и относительно свободное обращение со временем и пространством объясняется жанровой спецификой произведения.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sna"/>
              </a:rPr>
              <a:t>Идея поэмы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нтральная идея поэмы заключена уже в «Прологе».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Известный литературовед Н.Н.Скатов считает, что, 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ведя «Пролог», Некрасов стремился сразу же обнажить главную, коренную мысль – идею своей поэмы, указать на значительность ее, предупредить о грандиозности и долговременности событий, которые в поэме совершаютс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sna"/>
              </a:rPr>
              <a:t>Анализ художественного своеобразия поэмы</a:t>
            </a:r>
            <a:endParaRPr b="1" lang="en-US" sz="36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квозной образ произведений Некрасова – образ дороги (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имволическое отражение крестного пути России в поисках истины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Фольклорные мотивы поэмы: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лшебная сказка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ылина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родная песня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тча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Легенда </a:t>
            </a:r>
            <a:endParaRPr b="0" lang="en-US" sz="2800" spc="-1" strike="noStrike">
              <a:solidFill>
                <a:srgbClr val="002060"/>
              </a:solidFill>
              <a:latin typeface="Times New Roman"/>
            </a:endParaRPr>
          </a:p>
        </p:txBody>
      </p:sp>
      <p:pic>
        <p:nvPicPr>
          <p:cNvPr id="582" name="Picture 4" descr="C:\Users\User\Desktop\Иллюстрации\кому на Руси... Скатерть - самобранка.jpg"/>
          <p:cNvPicPr/>
          <p:nvPr/>
        </p:nvPicPr>
        <p:blipFill>
          <a:blip r:embed="rId1"/>
          <a:stretch/>
        </p:blipFill>
        <p:spPr>
          <a:xfrm>
            <a:off x="5286240" y="3500280"/>
            <a:ext cx="2243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sna"/>
              </a:rPr>
              <a:t>Вывод 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иступая к работе над столь грандиозным произведением, Некрасов поставил перед собой сложную задачу – показать в поэме состояние Руси в пореформенный период, а также прошлое и настоящее народа и заявить о путях возможного преобразования существующего положения.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sna"/>
              </a:rPr>
              <a:t>Домашнее задание</a:t>
            </a:r>
            <a:endParaRPr b="1" lang="en-US" sz="4400" spc="-1" strike="noStrike">
              <a:solidFill>
                <a:srgbClr val="e0e7f5"/>
              </a:solidFill>
              <a:latin typeface="Ves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b6e2"/>
          </a:solidFill>
          <a:ln w="9360">
            <a:solidFill>
              <a:srgbClr val="3237a0"/>
            </a:solidFill>
            <a:miter/>
          </a:ln>
        </p:spPr>
        <p:txBody>
          <a:bodyPr anchor="t">
            <a:normAutofit/>
          </a:bodyPr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читать главы из поэмы Некрасова «Кому на Руси жить хорошо»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ставить цитатные характеристики крестьян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marL="343080" indent="14040"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дготовить характеристики образов помещиков: Оболта-Оболдуева и Утятина.</a:t>
            </a:r>
            <a:endParaRPr b="0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8:55:44Z</dcterms:created>
  <dc:creator>Компьютер</dc:creator>
  <dc:description/>
  <dc:language>en-US</dc:language>
  <cp:lastModifiedBy>Sony</cp:lastModifiedBy>
  <dcterms:modified xsi:type="dcterms:W3CDTF">2014-11-30T18:56:20Z</dcterms:modified>
  <cp:revision>14</cp:revision>
  <dc:subject/>
  <dc:title>Слайд 1</dc:title>
</cp:coreProperties>
</file>