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F516-87D9-40BC-9E45-CF6B6F2142A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A796-3765-4800-A82C-F513C2ACC2B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1AE-FF24-48D0-A31C-9D939F8F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CA4-277F-4234-8AC4-1BDF8CF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C15-42BE-44DC-956D-FE31474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850-935D-4A5A-BD31-541B540B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766-49B5-4FFC-8DA7-BD1D01C5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F845-42DE-49C6-8FA6-89509D5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000-651C-4C7A-8A4C-9D96A40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4D45-DE37-49A9-80E7-F6610EF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833-2BE3-4F69-A048-1F9A5FB3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5E22-4AC0-4254-9A48-E905F52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D99-9694-49DD-821C-DAA0285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C58-1036-4CBE-90C8-EC2CC1C5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E830-8AF0-46AC-A937-8ECD55C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AAAF-4E84-4FF7-94BA-A8180FD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7786-D3F9-45B0-A987-FCDFE140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51E3-25DB-4835-A44C-42465D38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A3CC-D90D-4316-8AD6-FCB182EF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5077-7EC4-4F95-83CD-6328454D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C7AA-7FDC-4B2E-B5D5-6F836810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3E1C-42FE-4907-98EF-8880D734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807F-70CC-49A5-9E86-08C802D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D33E-84E0-48A3-A5D9-BBEC0911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A2B-F7E1-47E3-9775-55CE599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717E-0D53-4B5C-AC1C-EFC6741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B9D9-9FAE-4A44-B4A8-CEFA32E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1C89-085B-44EB-B5C9-0BCB8F1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50B3-52A6-48C8-91A3-C76BBA01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19FD-31BA-4480-B890-3EB3C7C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4242-D4E9-4B10-BD0B-A1F03A12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6876-1F71-400F-9373-7A7C5010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4BF-C7D7-4E56-AC1F-572F478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8E8-E6C0-4A2C-9862-A3D50A79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EC3-380B-445A-B072-759D7B7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7B7-866C-4315-B693-806E0C35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6EB-FF75-4DDD-9E24-0533ED1F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E9B-CB79-4145-9597-0771762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2678-4A3A-4CF2-8366-FCEE336F906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A88-8E4E-44C5-A74E-369BA43987B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9C91-A39E-4BBD-92B8-04203BFC95A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857160" y="2643120"/>
            <a:ext cx="743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рмативно-правовое обеспечение деятельности отделений дополнительного образовани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3429000" y="5857920"/>
            <a:ext cx="25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01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1857240" y="142920"/>
            <a:ext cx="588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495c"/>
                </a:solidFill>
                <a:latin typeface="Arial"/>
                <a:ea typeface="Arial"/>
              </a:rPr>
              <a:t>Государственное бюджетное нетиповое образовательное учреждение Дворец учащейся молодежи Санкт-Петербур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лого"/>
          <p:cNvPicPr/>
          <p:nvPr/>
        </p:nvPicPr>
        <p:blipFill>
          <a:blip r:embed="rId1"/>
          <a:stretch/>
        </p:blipFill>
        <p:spPr>
          <a:xfrm>
            <a:off x="857160" y="142920"/>
            <a:ext cx="677880" cy="7207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8"/>
          <p:cNvSpPr/>
          <p:nvPr/>
        </p:nvSpPr>
        <p:spPr>
          <a:xfrm>
            <a:off x="1785960" y="4857840"/>
            <a:ext cx="712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495c"/>
                </a:solidFill>
                <a:latin typeface="Georgia"/>
                <a:ea typeface="Arial"/>
              </a:rPr>
              <a:t>Виноградова Анастасия Игор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495c"/>
                </a:solidFill>
                <a:latin typeface="Georgia"/>
                <a:ea typeface="Arial"/>
              </a:rPr>
              <a:t>Метод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495c"/>
                </a:solidFill>
                <a:latin typeface="Georgia"/>
                <a:ea typeface="Arial"/>
              </a:rPr>
              <a:t>Отдела конкурсов профессионального 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495c"/>
                </a:solidFill>
                <a:latin typeface="Georgia"/>
                <a:ea typeface="Arial"/>
              </a:rPr>
              <a:t>ГБНОУ  ДУМ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4077720" y="2000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alibri"/>
              </a:rPr>
              <a:t>Сем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4"/>
          <p:cNvSpPr/>
          <p:nvPr/>
        </p:nvSpPr>
        <p:spPr>
          <a:xfrm>
            <a:off x="3001680" y="192888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Arial"/>
                <a:ea typeface="Arial"/>
              </a:rPr>
              <a:t>Необходимые 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14240" y="2643120"/>
          <a:ext cx="7620120" cy="1890720"/>
        </p:xfrm>
        <a:graphic>
          <a:graphicData uri="http://schemas.openxmlformats.org/drawingml/2006/table">
            <a:tbl>
              <a:tblPr/>
              <a:tblGrid>
                <a:gridCol w="6996240"/>
                <a:gridCol w="623880"/>
              </a:tblGrid>
              <a:tr h="42696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уществлять электронное обучение, использовать дистанционные образовательные технологии (если это целесообраз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18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зировать возможности и привлекать ресурсы внешней социокультурной среды для реализации программы, повышения развивающего потенциала дополните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18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овать профориентационные возможности занятий избранным видом деятельности (для преподавания по дополнительным общеразвивающим программ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858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6"/>
          <p:cNvSpPr/>
          <p:nvPr/>
        </p:nvSpPr>
        <p:spPr>
          <a:xfrm>
            <a:off x="642960" y="428760"/>
            <a:ext cx="792972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е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ете Федерального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29.12.2012 №273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тупил в силу 01.09. 2013 г., с изм. и доп., вступившими в силу с 01.01.20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Гл. 1, ст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НЯТ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клюзив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вная 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образовате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6"/>
          <p:cNvSpPr/>
          <p:nvPr/>
        </p:nvSpPr>
        <p:spPr>
          <a:xfrm>
            <a:off x="500040" y="428760"/>
            <a:ext cx="8143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. 1, ст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полнительное образов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ид образования, который направлен на всестороннее удовлетворение образовательных потребностей человека в интеллектуальном, духовно-нравственном, физическом и (или) профессиональном совершенствовании и не сопровождается повышением уровня образ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.2, ст.10, п.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бразование подразделяется на общее образование, профессиональное образов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дополнительное образов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офессиональное обучение, обеспечивающие возможность реализации права на образование в течение всей жизни (непрерывное образование)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.10, ст.75, п.1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полнительное образование детей и взросл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авлено на формирование и развитие творческих способностей детей и взрослых, удовлетворение их индивидуальных потребностей в интеллектуальном, нравственном совершенствовании, формирование культуры здорового и безопасного образа жизни, укрепление здоровья, а также на организацию их свободного време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полнительное образование дет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их адаптацию к жизни в обществе, профессиональную ориентацию, а также выявление и поддержку детей, проявивших выдающиеся способ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2960" y="1028880"/>
            <a:ext cx="800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изация определения «обучающие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н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ица, осваивающие образовательную программу дошкольного образования, лица, осваивающие основную общеобразовательную программу с одновременным проживанием или нахождением в образовательн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 осваивающие программы начального общего, основного общего или среднего общего образования, дополнительные общеобразовательные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714240" y="400068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и 12, 32, 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 образование может предоставляться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ыми организациями, осуществляющими образовательную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также частными предпринимателями, при наличии соответствующей лицен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3857760" y="42876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23, п.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дополнительного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образовательная организация, осуществляющая в качестве основной цели ее деятельности образовательную деятельность по дополнительным общеобразовательным програм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571680" y="5716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2, п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ы дополнительного образования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Законом, «самостоятельно разрабатываются и утверждаются организацией», т.е. содержание дополнительных общеразвивающих программ и сроки обучения – это зона ответственности организации, осуществляющей образовательную деяте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е общеобразовательные программы в соответствии со ст.12, п.4 подразделяются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развивающие и предпрофессиона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сфере искусств, физической культуры и спор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 могут реализоваться «посредств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тевых форм» (ст.13,п.1; ст. 15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могут использоваться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танционные образовательные технологии, электронное обучение» (с.13,п.2; ст.1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500040" y="1969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2, п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ность (профиль) образования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я образовательной программы на конкретные области знания и (или) виды деятельности, определяющая ее предметно-тематическое содержание, преобладающие виды учебной деятельности обучающегося и требования к результатам освоения образовательно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а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обенности реализации некоторых видов образовательных программ и получения образования отдельными категориями обучающихс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чреждений дополнительного образования особенно актуальн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тьи 77 и 79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ющиеся обучения лиц с выдающимися способностями и лиц с ограниченными возможностями здоро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571680" y="464328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информационной открытости образовательн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3"/>
          <p:cNvSpPr/>
          <p:nvPr/>
        </p:nvSpPr>
        <p:spPr>
          <a:xfrm>
            <a:off x="500040" y="428760"/>
            <a:ext cx="80726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Arial"/>
              </a:rPr>
              <a:t>Локальные акты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льные акты образовательной организации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правовых документов, основанных на нормах законодательства, изданных компетентными органами управления образовательного учреждения и регулирующих отношения внутри дан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организация принимает локальные нормативные акты, регулирующие образовательные отношения </a:t>
            </a: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в пределах своей компетен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Российской Федерации, в порядке, установленном ее </a:t>
            </a: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Устав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т. 30, п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в (ст. 25, ст. 30, п.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ые акты издаются в разных формах: положения, приказы, инструкции, прав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6"/>
          <p:cNvSpPr/>
          <p:nvPr/>
        </p:nvSpPr>
        <p:spPr>
          <a:xfrm>
            <a:off x="642960" y="285840"/>
            <a:ext cx="7929720" cy="60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495c"/>
                </a:solidFill>
                <a:latin typeface="Arial"/>
              </a:rPr>
              <a:t>Нормативно-правовые докумен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495c"/>
                </a:solidFill>
                <a:latin typeface="Arial"/>
              </a:rPr>
              <a:t>регулирующие деятельность учреждений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обрнауки от 29 августа 2013 г. №1008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Об утверждении Порядка организации и осуществления образовательной деятельности по дополнительным общеобразовательным программа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направ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режим работы образовательной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особенности организации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работа с детьми с ОВ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ъяснения к приказу Минобрнауки от 29 августа 2013 г. №1008 «Об утверждении Порядка организации и осуществления образовательной деятельности по дополнительным общеобразовательным программ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нПиН 2.4.4.3172-1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Санитарно-эпидемиологически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треб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к устройству, содержанию и организации режима работы образовательных организаций дополнительного образования детей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продолжительность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режим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максимальный объем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особенности зачис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714240" y="2153520"/>
            <a:ext cx="77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остановление правительства РФ от 15.11.2017 №123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«Об утверждении правил выявления детей, проявивших выдающиеся способности и мониторинга их дальнейшего развит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</a:rPr>
              <a:t>всероссийская система выявления и поддержки одаренных детей</a:t>
            </a: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</a:rPr>
              <a:t>всероссийский реестр одаренны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</a:rPr>
              <a:t>мониторинг развития одаренны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требования к конкурсным мероприят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857160" y="21420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495c"/>
                </a:solidFill>
                <a:latin typeface="Arial"/>
              </a:rPr>
              <a:t>Нормативно-правовые докумен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495c"/>
                </a:solidFill>
                <a:latin typeface="Arial"/>
              </a:rPr>
              <a:t>регулирующие деятельность учреждений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2" descr=""/>
          <p:cNvPicPr/>
          <p:nvPr/>
        </p:nvPicPr>
        <p:blipFill>
          <a:blip r:embed="rId1"/>
          <a:stretch/>
        </p:blipFill>
        <p:spPr>
          <a:xfrm>
            <a:off x="701640" y="1116000"/>
            <a:ext cx="7961400" cy="50594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3357360" y="4287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Georgia"/>
              </a:rPr>
              <a:t>ВИДЫ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6"/>
          <p:cNvSpPr/>
          <p:nvPr/>
        </p:nvSpPr>
        <p:spPr>
          <a:xfrm>
            <a:off x="642960" y="357120"/>
            <a:ext cx="7858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о-правовые докумен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ирующие деятельность учреждений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5 октября 2013 г. №1185 «Об утверждении примерной формы договора об образовании на обучение по дополнительным образовательным программам»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ъясняющий специфику оформления договора об оказании платных образовательных услуг с заказчиками, а также права и обязанности исполнителя, заказчика и обучающего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0 июля 2013г. №582 «Об утверждении Правил размещения на официальном сайте образовательной организации в информационно-телекоммуникационной сети «Интернет» и обновления информации об образовательной организ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"/>
          <p:cNvSpPr/>
          <p:nvPr/>
        </p:nvSpPr>
        <p:spPr>
          <a:xfrm>
            <a:off x="642960" y="642960"/>
            <a:ext cx="7858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циональная доктрина образования в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цели воспитания и обучения, пути их достижения посредством государственной политики в области образования, ожидаемые результаты развития системы образования на период до 202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ая система образования должна обеспечить всех желающих дополнительным образованием,…детям оно предоставляется на бесплатной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цепция долгосрочного социально-экономического развития РФ на период до 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…стратегической целью государственной политики в области образования является «повышение доступности качественного образования, соответствующего требования инновационного развития экономики, современным потребностям общества и каждого гражданина», что предусматривает «расширение сферы дополнительного образова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785880" y="57168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сударственная Программа «Развитие образования 2013–2020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еспечение высокого качества российского образования в соответствии с меняющимися запросами насе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дна из основны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«доступность услуг дошкольного, общего, дополнительного образования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дернизация образовательных программ в системах дошкольного, общего и дополнительного образования дет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циональная стратегия действий в интересах детей на 2012-2017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системы дополнительного образования, инфраструктуры творческого развития и воспит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рганизация системы повышения профессиональной компетентности педагогических кадров в сфере дополнительного образов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вышение оплаты труда педагогам учреждений дополнительного образования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500040" y="28584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Проектирование дополнительных общеобразовате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8760" y="785880"/>
          <a:ext cx="8358120" cy="5842080"/>
        </p:xfrm>
        <a:graphic>
          <a:graphicData uri="http://schemas.openxmlformats.org/drawingml/2006/table">
            <a:tbl>
              <a:tblPr/>
              <a:tblGrid>
                <a:gridCol w="2011320"/>
                <a:gridCol w="6346800"/>
              </a:tblGrid>
              <a:tr h="309600"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ификация программ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2, ст.12, п.4; гл. 10, ст. 75, п. 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368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рядок проект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едеральный закон № 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 2, ст. 12, п. 5; гл. 10, ст. 75, п. 4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60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овия реал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 2, ст. 13, п.1,2,3,9 ст. 14, п.1, 5, 6; гл.4, ст.33, п.1; ст.34, п.1)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анПиН 2.4.4.3172-14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"Санитарно-эпидемиологические требования к устройству, содержанию и организации режима работы образовательных организаций дополнительного образования детей" (Постановление Главного государственного санитарного врача Российской Федерации от 4 июля 2014 г. № 4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712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арактеристика програ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1, ст.2, п.9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560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держание програ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1ст.2,п.25,гл.10, ст.75, п. 1 , п. 4),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Приказ Минобрнауки России от 29 августа 2013 г. № 1008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Порядок организации и осуществления образовательной деятельности по дополнительным общеобразовательным программам»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Концепция развития дополнительного образования детей//Распоряжение Правительства РФ от 4 сентября 2014 г. № 1726-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6552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рганизация образовательного процес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2,ст.15, ст16, ст.17, п. 2,п.4,п.5; гл.10, ст.75, п. 2, п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анПиН 2.4.4.3172-14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"Санитарно-эпидемиологические требования к устройству, содержанию и организации режима работы образовательных организаций дополнительного образования детей" (Постановление Главного государственного санитарного врача Российской Федерации от 4 июля 2014 г. № 41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60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ебн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1, ст.2, п.22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740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леполаг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10.ст.75, п.1),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Концепция развития дополнительного образования детей//Распоряжение Правительства РФ от 4 сентября 2014 г. № 1726-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Приказ Минобрнауки России от 29 августа 2013 г. № 1008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Порядок организации и осуществления образовательной деятельности по дополнительным общеобразовательным программам»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496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рганизационные усло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едеральный закон №273-ФЗ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гл.2, ст.13, п.3)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642960" y="214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Концепция развития дополнительного образова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285920" y="857160"/>
            <a:ext cx="65721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пецифика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285920" y="1571760"/>
            <a:ext cx="6572160" cy="21632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иентация  на продуктивную 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социального опы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коммуникативных ум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мотивирующей образовательной 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имулирование самостоятельной деятельности (саморазви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1785960" y="4143240"/>
            <a:ext cx="5429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новление 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1785960" y="4643280"/>
            <a:ext cx="5429160" cy="146556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нозирование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ор метод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процесса организац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компонентов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"/>
          <p:cNvPicPr/>
          <p:nvPr/>
        </p:nvPicPr>
        <p:blipFill>
          <a:blip r:embed="rId1"/>
          <a:stretch/>
        </p:blipFill>
        <p:spPr>
          <a:xfrm>
            <a:off x="560520" y="1487520"/>
            <a:ext cx="8040600" cy="504648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642960" y="428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Содержание программ должно быть ориентировано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3" descr=""/>
          <p:cNvPicPr/>
          <p:nvPr/>
        </p:nvPicPr>
        <p:blipFill>
          <a:blip r:embed="rId1"/>
          <a:stretch/>
        </p:blipFill>
        <p:spPr>
          <a:xfrm>
            <a:off x="560520" y="1487520"/>
            <a:ext cx="8242200" cy="44863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2"/>
          <p:cNvSpPr/>
          <p:nvPr/>
        </p:nvSpPr>
        <p:spPr>
          <a:xfrm>
            <a:off x="642960" y="428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Содержание программ должно быть ориентировано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85880" y="185724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5c8fe9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tanuchka\Desktop\201611095-728.jpg"/>
          <p:cNvPicPr/>
          <p:nvPr/>
        </p:nvPicPr>
        <p:blipFill>
          <a:blip r:embed="rId1"/>
          <a:stretch/>
        </p:blipFill>
        <p:spPr>
          <a:xfrm>
            <a:off x="1428840" y="428760"/>
            <a:ext cx="6476760" cy="3786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1428840" y="4509000"/>
            <a:ext cx="6500880" cy="176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Times New Roman"/>
                <a:ea typeface="Calibri"/>
              </a:rPr>
              <a:t>МИССИЯ ФГОС-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ство образовательного пространства РФ как совокупности всех институтов и программ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емствен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х образовательных программ, включая программы общего, высшего и дополнительн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5"/>
          <p:cNvSpPr/>
          <p:nvPr/>
        </p:nvSpPr>
        <p:spPr>
          <a:xfrm>
            <a:off x="500040" y="428760"/>
            <a:ext cx="80010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Arial"/>
              </a:rPr>
              <a:t>Концепция развития дополнительного образован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споряжение Правительства РФ №1726-р 4 сентября 2014г. «Об утверждении Концепции развития дополнительного образования детей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I этап – 2014-2017 гг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II этап – 2018-202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Основные направления развития дополнительного 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еспечение доступности дополнительных общеобразовательных 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ение спектра дополнительных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системы управления качеством реализации дополнительных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кадрового потенциала системы дополнительного образования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ршенствование финансово-экономических механизмов развития дополнительного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ение участия негосударственного сектора в оказании услуг дополнительного образования, внедрение механизмов государственно-частного партн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рнизация инфраструктуры дополнительного образования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неформального и информ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714240" y="500040"/>
            <a:ext cx="7929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Arial"/>
              </a:rPr>
              <a:t>Концепция развития дополнительного образован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риентация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ормирование и развитие творческих спосо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довлетворение индивидуальных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ормирование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беспечение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офессиональная ори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условий для личност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оциализация и адаптация 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я для проектирования и реализаци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ариативность, модульность, открытость, сетевой характер, соответствие особенностям, режим освоен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428760" y="285840"/>
            <a:ext cx="821520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Arial"/>
              </a:rPr>
              <a:t>«Стратегия развития воспитания в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Arial"/>
              </a:rPr>
              <a:t>на период до 2025 г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споряжение Правительства Российской Федерации от 29.05.2015г. №996-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 развития вос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социальных институтов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новление воспитательного процесса с учетом современных достижений науки и на основе отечественных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Воспитание как стратегический приоритет - основа для воспитания - </a:t>
            </a:r>
            <a:r>
              <a:rPr b="1" lang="ru-RU" sz="1600" spc="-1" strike="noStrike">
                <a:solidFill>
                  <a:srgbClr val="0b5395"/>
                </a:solidFill>
                <a:latin typeface="Arial"/>
              </a:rPr>
              <a:t>формирование основных ценностных ориентиров</a:t>
            </a:r>
            <a:r>
              <a:rPr b="1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Постановка воспитательных целей и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Социальная адап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- Социальная автономиз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b53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b5395"/>
                </a:solidFill>
                <a:latin typeface="Arial"/>
                <a:ea typeface="Arial"/>
              </a:rPr>
              <a:t>Социальная активность, готовность к социальным дейст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571680" y="4786200"/>
            <a:ext cx="8072280" cy="167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программа «Патриотическое воспитание граждан Российской Федерации на 2016-2020 год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Постановление правительства РФ от 30.12.2015г. №14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атриотическом воспитании в Санкт-Петербур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Закон Санкт-Петербурга, принят ЗАКС СПб 29.06.2016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Профессиональный станд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«Педагог дополнительного образования детей и взросл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ъект 2"/>
          <p:cNvSpPr/>
          <p:nvPr/>
        </p:nvSpPr>
        <p:spPr>
          <a:xfrm>
            <a:off x="1071720" y="928800"/>
            <a:ext cx="7313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Утвержден приказом Министерства труда и социальной защиты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от 8 сентября 2015 г. №613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Arial"/>
              </a:rPr>
              <a:t>Применяется с 01.01.2017 г.  Внедрение перенесено на 01.01.2018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3" descr=""/>
          <p:cNvPicPr/>
          <p:nvPr/>
        </p:nvPicPr>
        <p:blipFill>
          <a:blip r:embed="rId1"/>
          <a:stretch/>
        </p:blipFill>
        <p:spPr>
          <a:xfrm>
            <a:off x="1030320" y="1987560"/>
            <a:ext cx="76993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85880" y="357120"/>
          <a:ext cx="7772400" cy="5943600"/>
        </p:xfrm>
        <a:graphic>
          <a:graphicData uri="http://schemas.openxmlformats.org/drawingml/2006/table">
            <a:tbl>
              <a:tblPr/>
              <a:tblGrid>
                <a:gridCol w="990360"/>
                <a:gridCol w="2133720"/>
                <a:gridCol w="2057400"/>
                <a:gridCol w="2590920"/>
              </a:tblGrid>
              <a:tr h="30492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-организа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и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агог дополнительного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19320">
                <a:tc rowSpan="4"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ования к образованию и обуч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Высшее образовани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калавриа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рофессиональное образовани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 области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онно-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едагогической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ятельност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дополнительном образовании детей и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Высшее образование - бакалавриат и дополнительное профессиональное образовани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 области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етодической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ятельност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 дополнительном образовании детей и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Среднее профессиональное образовани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программы подготовки специалистов среднего звена или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шее образование - бакалавриа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направленность (профиль) которого, как правило, соответствует направленности дополнительной общеобразовательной программы, осваиваемой учащими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Высшее педагогическое образовани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гистратур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области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рганизационно-педагогической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ятельност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 дополнительном образовании детей и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Высшее педагогическое образование - магистратур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области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етодической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ятельности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 дополнительном образовании детей и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Дополнительное профессиональное образование - профессиональная переподготовка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направленность (профиль) которой соответствует направленности дополнительной общеобразовательной программы, осваиваемой учащими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ысшее образование - специалитет или магистратур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рекомендуется дополнительное профессиональное педагогическое образование в области </a:t>
                      </a: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рганизационно-педагогическо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и в дополнительном образовании детей и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ысшее образование - специалитет или магистратура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уется дополнительное профессиональное педагогическое образование в области </a:t>
                      </a: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етодическо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ятельности в дополнительном образовании детей и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При отсутствии педагогического образовани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рофессиональное педагогическое образование;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ополнительная профессиональная программа может быть освоена после трудоустройств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уется обучение по дополнительным профессиональным программам по профилю педагогической деятельности не реже чем один раз в три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ования к опыту практической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  <a:tc gridSpan="2"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наличии квалификации бакалавра работа педагогом дополнительного образования не менее дву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наличии квалификации магистра или специалиста требования к опыту работы не предъявля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старшего педагога дополнительного образования - стаж работы по специальности не менее двух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1066680"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ые условия допуска к рабо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  <a:tc gridSpan="3"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ие ограничений на занятие педагогической деятельностью, установленных законодательством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хождение обязательных предварительных (при поступлении на работу) и периодических медицинских осмотров (обследований), а также внеочередных медицинских осмотров (обследований) в порядке, установленном законодательством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хождение в установленном законодательством Российской Федерации порядке аттестации на соответствие занимаемой долж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Профессиональный станд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"/>
              </a:rPr>
              <a:t>«Педагог дополнительного образования детей и взросл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642960" y="1513800"/>
            <a:ext cx="8001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Шесть слабых сторон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умения и знания, связанные с информат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психолого-педагогические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знания и умения работы с детьми с особыми образовательными потреб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здоровьесберегающи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формирование компетент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неумение пользоваться системой оценивания процесса и результатов деятельност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9:16:46Z</dcterms:created>
  <dc:creator>Administrator</dc:creator>
  <dc:description/>
  <dc:language>en-US</dc:language>
  <cp:lastModifiedBy>Анастасия</cp:lastModifiedBy>
  <cp:lastPrinted>2018-06-06T08:16:49Z</cp:lastPrinted>
  <dcterms:modified xsi:type="dcterms:W3CDTF">2018-06-06T08:17:36Z</dcterms:modified>
  <cp:revision>393</cp:revision>
  <dc:subject/>
  <dc:title>Слайд 1</dc:title>
</cp:coreProperties>
</file>