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30A-4A48-485F-BC4B-82790FD4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578-F03E-4B66-B2C4-74621FE0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083-A546-4432-901A-10B3F591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E0E-A1A8-48BC-BF2C-4959670A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B4C3-53D3-4D8A-B46E-5B341545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9D41-EED1-4203-83A4-C377CB4B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E200-2351-4B08-87A0-091E3FAC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7913-F911-4CE3-A4C2-C87CF131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3BD7-3CB0-48F2-8041-D986616E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4A28-D5C2-49C9-9FE0-34DA6276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2279-A2DB-4744-9285-EC7D17C7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8F6-E028-4EDE-BF8A-6F520DB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E8A7-67E7-433F-8D98-13D5905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206F-CBAE-45B4-9057-63B9DC83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1452-3D69-4B54-893F-BAFC44E3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4713-0FF8-488A-91AE-AB705F94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71AE-58B3-4B5B-8D88-50883E56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900E-4601-466F-B5CA-2199D9D9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055C-6BDA-406D-8D77-16832628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6954-67C9-4AE4-ADC7-275CADCC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4D15-86AF-4DD1-A85B-5F98FD3A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0169-AF48-45D7-AB72-F3BCDC85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C9F-2E68-443D-9CBD-50B8C3B5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8B04-35BA-4CAE-993D-2B44F52A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9D07-9B21-460F-A65F-E90AD6E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F952-F3F8-4849-9CD0-1271F2E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D1D8-E16E-4B78-AF1B-E792B742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7614-F053-4D0B-9FF6-7722C3A2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46F63-24CE-4767-8A1D-B87B5DE1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49CA7-33FD-48D8-8C2A-3767CBA4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17B5-ED0A-4E39-94D7-2F68A2FD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05E92-6E60-4B76-8FF2-CC76F935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13F88-FB7B-47D0-9C4D-C8680AC1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9F9-6515-4C54-9BDD-C0F55D4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C916A-07A9-42C7-A8F0-53218926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4F54E-9879-4397-A626-B36A07F2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97B0-4519-4252-AD82-E0E95870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47D7-31FB-4090-B18A-7EFBFF7C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6E95-C693-4E9D-AD77-31435473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39AF6-F3DA-4B92-A292-889B0CDD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D1F9-5D05-490C-B3AC-762CA101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EABA-8604-410B-9C98-CD987BC4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B7B9-600E-4276-AE6C-EAA4D6F4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EB3-86F8-4DE9-BA65-8ED87673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CDC-B2B7-4001-BB2A-E61986D7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105-6FAE-412C-BA14-8C5FC9E3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711-C1AB-4F2E-9498-8A2F7F4B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42A-A292-4B51-B154-7C1D426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8BC5-57B3-4DA9-ADD0-83AE4B2601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48F0-2E9E-43C7-BD52-4EAD6E18D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55CF-3253-461C-A565-E016180874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3179-4F8B-44BD-B15A-27DFDEBC9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5030640" y="5946840"/>
            <a:ext cx="402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БДОУ Д/С «Калинка» группа №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: Хишко И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rcRect l="27802" t="5156" r="27995" b="38556"/>
          <a:stretch/>
        </p:blipFill>
        <p:spPr>
          <a:xfrm>
            <a:off x="4094280" y="185760"/>
            <a:ext cx="106344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244440" y="1806480"/>
            <a:ext cx="881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20 НОЯБРЯ- ВСЕРОССИЙСКИЙ ДЕНЬ ПРАВОВОЙ ПОМОЩИ ДЕ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6" descr=""/>
          <p:cNvPicPr/>
          <p:nvPr/>
        </p:nvPicPr>
        <p:blipFill>
          <a:blip r:embed="rId2"/>
          <a:stretch/>
        </p:blipFill>
        <p:spPr>
          <a:xfrm>
            <a:off x="490680" y="2997360"/>
            <a:ext cx="3892320" cy="25952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"/>
          <p:cNvPicPr/>
          <p:nvPr/>
        </p:nvPicPr>
        <p:blipFill>
          <a:blip r:embed="rId3"/>
          <a:stretch/>
        </p:blipFill>
        <p:spPr>
          <a:xfrm>
            <a:off x="4743360" y="2997360"/>
            <a:ext cx="4070520" cy="2516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rcRect l="27802" t="5156" r="27995" b="38556"/>
          <a:stretch/>
        </p:blipFill>
        <p:spPr>
          <a:xfrm>
            <a:off x="1166760" y="260280"/>
            <a:ext cx="1063800" cy="115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5"/>
          <a:srcRect l="27802" t="5156" r="27995" b="38556"/>
          <a:stretch/>
        </p:blipFill>
        <p:spPr>
          <a:xfrm>
            <a:off x="7032600" y="195120"/>
            <a:ext cx="10638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5000760"/>
            <a:ext cx="916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  <a:ea typeface="Arial"/>
              </a:rPr>
              <a:t>Каждый имеет право на образов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2" descr=""/>
          <p:cNvPicPr/>
          <p:nvPr/>
        </p:nvPicPr>
        <p:blipFill>
          <a:blip r:embed="rId1"/>
          <a:stretch/>
        </p:blipFill>
        <p:spPr>
          <a:xfrm>
            <a:off x="1236600" y="0"/>
            <a:ext cx="66708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138240" y="115920"/>
            <a:ext cx="894528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0" y="404640"/>
            <a:ext cx="925200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Цель и задачи мероприят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авовое просвещение, формирование в неформальной, игровой обстановке у школьников правовой культуры; воспитание гражданских качеств и чувства патриотизма; формирование базисных знаний о государстве, праве, общественных и государственных институтах, правах человека; формирование навыков практического использования знаний; развитие логического мышления, памяти, коммуникативных способностей; воспитание гражданских качеств и чувства патриот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"/>
          <p:cNvPicPr/>
          <p:nvPr/>
        </p:nvPicPr>
        <p:blipFill>
          <a:blip r:embed="rId2"/>
          <a:srcRect l="27802" t="5156" r="27995" b="38556"/>
          <a:stretch/>
        </p:blipFill>
        <p:spPr>
          <a:xfrm>
            <a:off x="3932280" y="189000"/>
            <a:ext cx="106344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7"/>
          <p:cNvSpPr/>
          <p:nvPr/>
        </p:nvSpPr>
        <p:spPr>
          <a:xfrm>
            <a:off x="806400" y="112536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 Ноября-Всероссийск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нь правовой помощи дет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2" descr=""/>
          <p:cNvPicPr/>
          <p:nvPr/>
        </p:nvPicPr>
        <p:blipFill>
          <a:blip r:embed="rId3"/>
          <a:stretch/>
        </p:blipFill>
        <p:spPr>
          <a:xfrm>
            <a:off x="1689120" y="2540160"/>
            <a:ext cx="554976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4549680" y="14572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человека – принципы, нормы и правила взаимоотношений между людьми и государствами, обеспечивающие возможность человеку действовать по своему усмотрению или получать определённые бла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человека предполагают законодательно закрепленную возможность получать человеком материальные, духовные и иные блага, свободы – действовать по своему решению без чьей-либо санк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человека – важнейшая  общечеловеческая цен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2" descr=""/>
          <p:cNvPicPr/>
          <p:nvPr/>
        </p:nvPicPr>
        <p:blipFill>
          <a:blip r:embed="rId1"/>
          <a:stretch/>
        </p:blipFill>
        <p:spPr>
          <a:xfrm>
            <a:off x="250920" y="268200"/>
            <a:ext cx="4189320" cy="31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"/>
          <p:cNvPicPr/>
          <p:nvPr/>
        </p:nvPicPr>
        <p:blipFill>
          <a:blip r:embed="rId2"/>
          <a:stretch/>
        </p:blipFill>
        <p:spPr>
          <a:xfrm>
            <a:off x="222120" y="3587760"/>
            <a:ext cx="41878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640" y="11556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 ноября 1989 года была принята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венция о правах ребёнка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67920"/>
            <a:ext cx="82296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конвенция ООН о правах ребёнк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венция» – это, по-русски,  международный Договор. Конвенция о правах ребёнка состоит из статей о правах ребёнка, которые обязаны соблюдать во всех странах. Следят за соблюдением Конвенции специальные люди – Уполномоченные по правам ребёнка, которые есть не только в столицах, но и в разных городах каждой страны. Так что, в любой момент, тебе есть кому заявить о нарушении твоих законных прав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права отражены в конститу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-144360" y="528948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  <a:ea typeface="Arial"/>
              </a:rPr>
              <a:t>Все имеют право на жизн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2" descr=""/>
          <p:cNvPicPr/>
          <p:nvPr/>
        </p:nvPicPr>
        <p:blipFill>
          <a:blip r:embed="rId1"/>
          <a:stretch/>
        </p:blipFill>
        <p:spPr>
          <a:xfrm>
            <a:off x="119160" y="103320"/>
            <a:ext cx="4308480" cy="33400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"/>
          <p:cNvPicPr/>
          <p:nvPr/>
        </p:nvPicPr>
        <p:blipFill>
          <a:blip r:embed="rId2"/>
          <a:stretch/>
        </p:blipFill>
        <p:spPr>
          <a:xfrm>
            <a:off x="4576680" y="1916280"/>
            <a:ext cx="455292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-108000" y="477828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ждый имеет право на охрану здоровья и медицинскую помощ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2" descr=""/>
          <p:cNvPicPr/>
          <p:nvPr/>
        </p:nvPicPr>
        <p:blipFill>
          <a:blip r:embed="rId1"/>
          <a:stretch/>
        </p:blipFill>
        <p:spPr>
          <a:xfrm>
            <a:off x="1481040" y="95400"/>
            <a:ext cx="58215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08000" y="4667400"/>
            <a:ext cx="90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ждому  гарантируется свобода литературного, художественного, научного, технического и других видов творчества, препода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1647720" y="166680"/>
            <a:ext cx="5956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4543560" y="1989000"/>
            <a:ext cx="389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onotype Corsiva"/>
                <a:ea typeface="Arial"/>
              </a:rPr>
              <a:t>Каждый имеет право на отды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Рисунок 3" descr=""/>
          <p:cNvPicPr/>
          <p:nvPr/>
        </p:nvPicPr>
        <p:blipFill>
          <a:blip r:embed="rId1"/>
          <a:stretch/>
        </p:blipFill>
        <p:spPr>
          <a:xfrm>
            <a:off x="311040" y="630360"/>
            <a:ext cx="42069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9:17:31Z</dcterms:created>
  <dc:creator>САФРЫГИН БОРИС БОРИСОВИЧ</dc:creator>
  <dc:description/>
  <dc:language>en-US</dc:language>
  <cp:lastModifiedBy>Анастасия Хишко</cp:lastModifiedBy>
  <cp:lastPrinted>2013-10-31T12:37:12Z</cp:lastPrinted>
  <dcterms:modified xsi:type="dcterms:W3CDTF">2019-12-11T19:49:42Z</dcterms:modified>
  <cp:revision>50</cp:revision>
  <dc:subject/>
  <dc:title>Презентация PowerPoint</dc:title>
</cp:coreProperties>
</file>