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2BA4-21DA-42D8-9F91-C6D686C7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67EE-089D-4896-B3F7-11D2DB32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3C9-FF34-4594-B0F8-0C2E338F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7D4-4BAD-44FC-BE50-CCD4B235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4C5-0029-400B-A3CA-9C5E6381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1F8-C2E9-4063-ACE6-B09B8202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C81-B2C2-4307-8527-AFBED961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CC0-9436-4945-B756-F4161636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7FF-4CF9-49D0-98B9-FE9208A4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D98A-EDE5-44A5-AC17-A72B4B14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B93-B8E2-46B5-B434-25B54FF2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CF4-ECE6-4C8F-9B1F-065CBA42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B9A6-306D-44C8-B852-4428450413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72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циальный прое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692360" y="1916280"/>
            <a:ext cx="712764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Arial"/>
              </a:rPr>
              <a:t>«Хочешь почувствовать себя человеком – помоги другому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Tat_yana-i-Sergey-Nikitiny-Иdi-moy-drug-vsegda-idi-dorogoyu-dobra(muzofon.com)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6840" y="1600200"/>
            <a:ext cx="76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выбор – стать опорой для друз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мне дороги сейчас, на этом све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наю точно, я за них в отве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 Богом, перед совестью сво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 трудный час подставлю им плеч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регу, не дам сорваться в бездн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, если я вдруг буду не приче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будет рядом, если я исчезн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8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8" descr="G:\фото для лидера\DSC04654.JPG"/>
          <p:cNvPicPr/>
          <p:nvPr/>
        </p:nvPicPr>
        <p:blipFill>
          <a:blip r:embed="rId3"/>
          <a:stretch/>
        </p:blipFill>
        <p:spPr>
          <a:xfrm>
            <a:off x="571680" y="4923000"/>
            <a:ext cx="1993680" cy="17827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9" descr="F:\участие\c9iIqR6DrVQ.jpg"/>
          <p:cNvPicPr/>
          <p:nvPr/>
        </p:nvPicPr>
        <p:blipFill>
          <a:blip r:embed="rId4"/>
          <a:stretch/>
        </p:blipFill>
        <p:spPr>
          <a:xfrm>
            <a:off x="6076800" y="2060640"/>
            <a:ext cx="2276640" cy="2232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0" descr="G:\школьные фото2014-2015\DCIM\100OLYMP\P5300152.JPG"/>
          <p:cNvPicPr/>
          <p:nvPr/>
        </p:nvPicPr>
        <p:blipFill>
          <a:blip r:embed="rId5"/>
          <a:stretch/>
        </p:blipFill>
        <p:spPr>
          <a:xfrm>
            <a:off x="5716440" y="77760"/>
            <a:ext cx="2637000" cy="17017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1" descr="G:\школьные фото2014-2015\DCIM\100OLYMP\P2190665.JPG"/>
          <p:cNvPicPr/>
          <p:nvPr/>
        </p:nvPicPr>
        <p:blipFill>
          <a:blip r:embed="rId6"/>
          <a:stretch/>
        </p:blipFill>
        <p:spPr>
          <a:xfrm>
            <a:off x="5716440" y="4653000"/>
            <a:ext cx="289908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9" descr=""/>
          <p:cNvPicPr/>
          <p:nvPr/>
        </p:nvPicPr>
        <p:blipFill>
          <a:blip r:embed="rId2"/>
          <a:stretch/>
        </p:blipFill>
        <p:spPr>
          <a:xfrm>
            <a:off x="5265720" y="5261040"/>
            <a:ext cx="2381400" cy="142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6786720" y="28584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4"/>
          <a:stretch/>
        </p:blipFill>
        <p:spPr>
          <a:xfrm>
            <a:off x="452520" y="4929120"/>
            <a:ext cx="1714320" cy="1785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5"/>
          <a:stretch/>
        </p:blipFill>
        <p:spPr>
          <a:xfrm>
            <a:off x="5508720" y="1413000"/>
            <a:ext cx="1790640" cy="1428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ы, лидеры, как волшебники, зажигаем звезды , помогая друг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4800" y="1864800"/>
            <a:ext cx="72342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уто – это быть умны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уто – это быть спортивны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уто – это быть творчески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уто – это быть полноценным гражданином нашего обществ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омнит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ыть здоровым – это круто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– за здоровое будуще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12" descr="G:\школьные фото2014-2015\DCIM\100OLYMP\P2200684.JPG"/>
          <p:cNvPicPr/>
          <p:nvPr/>
        </p:nvPicPr>
        <p:blipFill>
          <a:blip r:embed="rId6"/>
          <a:stretch/>
        </p:blipFill>
        <p:spPr>
          <a:xfrm>
            <a:off x="7053120" y="3357720"/>
            <a:ext cx="182880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alibri"/>
              </a:rPr>
              <a:t>Заключ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600200"/>
            <a:ext cx="76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социально - значимом проекте позволило обучающимся возродить лучшие отечественные традиции благотворительности, воспитать доброту, чуткость, сострадание к ветеран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8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9" descr=""/>
          <p:cNvPicPr/>
          <p:nvPr/>
        </p:nvPicPr>
        <p:blipFill>
          <a:blip r:embed="rId3"/>
          <a:stretch/>
        </p:blipFill>
        <p:spPr>
          <a:xfrm>
            <a:off x="6500880" y="4929120"/>
            <a:ext cx="2381040" cy="14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4"/>
          <a:stretch/>
        </p:blipFill>
        <p:spPr>
          <a:xfrm>
            <a:off x="6786720" y="28584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5"/>
          <a:stretch/>
        </p:blipFill>
        <p:spPr>
          <a:xfrm>
            <a:off x="428760" y="4572000"/>
            <a:ext cx="1714320" cy="1785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6"/>
          <a:stretch/>
        </p:blipFill>
        <p:spPr>
          <a:xfrm>
            <a:off x="7215120" y="3286080"/>
            <a:ext cx="179064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Calibri"/>
              </a:rPr>
              <a:t>Наш девиз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356840"/>
            <a:ext cx="7758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Мы молодежь 21 в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дорового видеть хотим челове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можем все вместе нашей отчизн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ы - за здоровый образ жизн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ряд «Позити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Объект 5" descr="G:\школьные фото2014-2015\DCIM\100OLYMP\P5300152.JPG"/>
          <p:cNvPicPr/>
          <p:nvPr/>
        </p:nvPicPr>
        <p:blipFill>
          <a:blip r:embed="rId2"/>
          <a:stretch/>
        </p:blipFill>
        <p:spPr>
          <a:xfrm>
            <a:off x="179280" y="1557360"/>
            <a:ext cx="4032360" cy="32050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G:\фото для лидера\DSC04654.JPG"/>
          <p:cNvPicPr/>
          <p:nvPr/>
        </p:nvPicPr>
        <p:blipFill>
          <a:blip r:embed="rId3"/>
          <a:stretch/>
        </p:blipFill>
        <p:spPr>
          <a:xfrm>
            <a:off x="4788000" y="2708280"/>
            <a:ext cx="4165560" cy="36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Calibri"/>
              </a:rPr>
              <a:t>Цель проек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9680" y="1714320"/>
            <a:ext cx="80010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действие включению обучающихся в решение социально значимых проблем в формировании гражданского  общества, содействие сбережению здоровья школьников, пропаганда здорового образа жиз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Проект включает в себя 4 бл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9680" y="1714320"/>
            <a:ext cx="80010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5400" spc="-1" strike="noStrike">
                <a:solidFill>
                  <a:srgbClr val="4f81bd"/>
                </a:solidFill>
                <a:latin typeface="Calibri"/>
              </a:rPr>
              <a:t>1 блок «Милосердие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5400" spc="-1" strike="noStrike">
                <a:solidFill>
                  <a:srgbClr val="7030a0"/>
                </a:solidFill>
                <a:latin typeface="Calibri"/>
              </a:rPr>
              <a:t>2 блок «Спорт и здоровый образ жизн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5400" spc="-1" strike="noStrike">
                <a:solidFill>
                  <a:srgbClr val="e46c0a"/>
                </a:solidFill>
                <a:latin typeface="Calibri"/>
              </a:rPr>
              <a:t>3 блок «Экология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5400" spc="-1" strike="noStrike">
                <a:solidFill>
                  <a:srgbClr val="00b050"/>
                </a:solidFill>
                <a:latin typeface="Calibri"/>
              </a:rPr>
              <a:t>4блок «Творчество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1 блок «Милосердие»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Возрождение лучших отечественных традиций благотворительности, воспитание доброты, чуткости, сострад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C:\Users\Галина Владимировна\Desktop\мои докуметы 2\УПБ 13\УПБ Литвинец\Лега Г.В\2013-09-13 16.01.54.jpg"/>
          <p:cNvPicPr/>
          <p:nvPr/>
        </p:nvPicPr>
        <p:blipFill>
          <a:blip r:embed="rId2"/>
          <a:stretch/>
        </p:blipFill>
        <p:spPr>
          <a:xfrm>
            <a:off x="357120" y="1571760"/>
            <a:ext cx="2500560" cy="2143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C:\Users\Галина Владимировна\Desktop\мои докуметы 2\УПБ 13\УПБ Литвинец\Лега Г.В\2013-09-13 16.04.10.jpg"/>
          <p:cNvPicPr/>
          <p:nvPr/>
        </p:nvPicPr>
        <p:blipFill>
          <a:blip r:embed="rId3"/>
          <a:stretch/>
        </p:blipFill>
        <p:spPr>
          <a:xfrm>
            <a:off x="3143160" y="1571760"/>
            <a:ext cx="2847960" cy="213516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3" descr="I:\фото\SSA51291.JPG"/>
          <p:cNvPicPr/>
          <p:nvPr/>
        </p:nvPicPr>
        <p:blipFill>
          <a:blip r:embed="rId4"/>
          <a:stretch/>
        </p:blipFill>
        <p:spPr>
          <a:xfrm>
            <a:off x="357120" y="400068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DSC01074"/>
          <p:cNvPicPr/>
          <p:nvPr/>
        </p:nvPicPr>
        <p:blipFill>
          <a:blip r:embed="rId5"/>
          <a:stretch/>
        </p:blipFill>
        <p:spPr>
          <a:xfrm>
            <a:off x="5643720" y="4000680"/>
            <a:ext cx="3143160" cy="24667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G:\школьные фото2014-2015\DCIM\100OLYMP\P5090093.JPG"/>
          <p:cNvPicPr/>
          <p:nvPr/>
        </p:nvPicPr>
        <p:blipFill>
          <a:blip r:embed="rId6"/>
          <a:stretch/>
        </p:blipFill>
        <p:spPr>
          <a:xfrm>
            <a:off x="6164280" y="1666800"/>
            <a:ext cx="2622600" cy="20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2 блок «Спорт и здоровый образ жизни»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Пропаганда, реклама здорового образа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I:\фото\DSC04444.JPG"/>
          <p:cNvPicPr/>
          <p:nvPr/>
        </p:nvPicPr>
        <p:blipFill>
          <a:blip r:embed="rId2"/>
          <a:stretch/>
        </p:blipFill>
        <p:spPr>
          <a:xfrm>
            <a:off x="214200" y="1357200"/>
            <a:ext cx="2660760" cy="2214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C:\Users\Галина Владимировна\Desktop\фото для печати\DSC04191.JPG"/>
          <p:cNvPicPr/>
          <p:nvPr/>
        </p:nvPicPr>
        <p:blipFill>
          <a:blip r:embed="rId3"/>
          <a:stretch/>
        </p:blipFill>
        <p:spPr>
          <a:xfrm>
            <a:off x="5857920" y="1214280"/>
            <a:ext cx="3009960" cy="22575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C:\Users\Галина Владимировна\Desktop\фото для печати\DSC04239.JPG"/>
          <p:cNvPicPr/>
          <p:nvPr/>
        </p:nvPicPr>
        <p:blipFill>
          <a:blip r:embed="rId4"/>
          <a:stretch/>
        </p:blipFill>
        <p:spPr>
          <a:xfrm>
            <a:off x="285840" y="4214880"/>
            <a:ext cx="295884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4" descr="C:\Users\Галина Владимировна\Desktop\документы 3\фото для печати\DSC04047.JPG"/>
          <p:cNvPicPr/>
          <p:nvPr/>
        </p:nvPicPr>
        <p:blipFill>
          <a:blip r:embed="rId5"/>
          <a:stretch/>
        </p:blipFill>
        <p:spPr>
          <a:xfrm>
            <a:off x="3000240" y="1428840"/>
            <a:ext cx="2540160" cy="19047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5" descr="C:\Users\Галина Владимировна\Pictures\Новая папка\DSC01901.JPG"/>
          <p:cNvPicPr/>
          <p:nvPr/>
        </p:nvPicPr>
        <p:blipFill>
          <a:blip r:embed="rId6"/>
          <a:stretch/>
        </p:blipFill>
        <p:spPr>
          <a:xfrm>
            <a:off x="5500800" y="3929040"/>
            <a:ext cx="307332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3 блок «Экология»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Воспитание бережного отношения к окружающей сре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C:\Users\Галина Владимировна\Desktop\фото для печати\DSCN0296.jpg"/>
          <p:cNvPicPr/>
          <p:nvPr/>
        </p:nvPicPr>
        <p:blipFill>
          <a:blip r:embed="rId2"/>
          <a:stretch/>
        </p:blipFill>
        <p:spPr>
          <a:xfrm>
            <a:off x="428760" y="1214280"/>
            <a:ext cx="2857320" cy="27147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C:\Users\Галина Владимировна\Desktop\фото для печати\DSCN0308.jpg"/>
          <p:cNvPicPr/>
          <p:nvPr/>
        </p:nvPicPr>
        <p:blipFill>
          <a:blip r:embed="rId3"/>
          <a:stretch/>
        </p:blipFill>
        <p:spPr>
          <a:xfrm>
            <a:off x="6929280" y="1357200"/>
            <a:ext cx="1963800" cy="26193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C:\Users\Галина Владимировна\Desktop\фото для печати\IMG_5504.jpg"/>
          <p:cNvPicPr/>
          <p:nvPr/>
        </p:nvPicPr>
        <p:blipFill>
          <a:blip r:embed="rId4"/>
          <a:stretch/>
        </p:blipFill>
        <p:spPr>
          <a:xfrm>
            <a:off x="214200" y="4071960"/>
            <a:ext cx="3213360" cy="2409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DSC01591"/>
          <p:cNvPicPr/>
          <p:nvPr/>
        </p:nvPicPr>
        <p:blipFill>
          <a:blip r:embed="rId5"/>
          <a:stretch/>
        </p:blipFill>
        <p:spPr>
          <a:xfrm>
            <a:off x="3429000" y="1285920"/>
            <a:ext cx="3389400" cy="22208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G:\школьные фото2014-2015\DCIM\100OLYMP\P4170015.JPG"/>
          <p:cNvPicPr/>
          <p:nvPr/>
        </p:nvPicPr>
        <p:blipFill>
          <a:blip r:embed="rId6"/>
          <a:stretch/>
        </p:blipFill>
        <p:spPr>
          <a:xfrm>
            <a:off x="5996160" y="4549680"/>
            <a:ext cx="3076560" cy="23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4 блок «Творчество»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Формирование социально –активной позиции детей и подростков, развитие творческих способнос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12" descr="C:\Users\Галина Владимировна\Desktop\лидер\P1010391.JPG"/>
          <p:cNvPicPr/>
          <p:nvPr/>
        </p:nvPicPr>
        <p:blipFill>
          <a:blip r:embed="rId2"/>
          <a:stretch/>
        </p:blipFill>
        <p:spPr>
          <a:xfrm>
            <a:off x="357120" y="1571760"/>
            <a:ext cx="2705040" cy="202860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3" descr="I:\фото\DSC03605.JPG"/>
          <p:cNvPicPr/>
          <p:nvPr/>
        </p:nvPicPr>
        <p:blipFill>
          <a:blip r:embed="rId3"/>
          <a:stretch/>
        </p:blipFill>
        <p:spPr>
          <a:xfrm>
            <a:off x="3357720" y="1643040"/>
            <a:ext cx="2303280" cy="19288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8" descr="I:\фото\Изображение 087.jpg"/>
          <p:cNvPicPr/>
          <p:nvPr/>
        </p:nvPicPr>
        <p:blipFill>
          <a:blip r:embed="rId4"/>
          <a:stretch/>
        </p:blipFill>
        <p:spPr>
          <a:xfrm>
            <a:off x="6072120" y="1643040"/>
            <a:ext cx="2752920" cy="20671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6" descr="I:\А ну-ка, Девочки\P3040046.JPG"/>
          <p:cNvPicPr/>
          <p:nvPr/>
        </p:nvPicPr>
        <p:blipFill>
          <a:blip r:embed="rId5"/>
          <a:stretch/>
        </p:blipFill>
        <p:spPr>
          <a:xfrm>
            <a:off x="214200" y="4143240"/>
            <a:ext cx="2428920" cy="23241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7" descr="C:\Users\Галина Владимировна\Desktop\лидер\DSC01582.JPG"/>
          <p:cNvPicPr/>
          <p:nvPr/>
        </p:nvPicPr>
        <p:blipFill>
          <a:blip r:embed="rId6"/>
          <a:stretch/>
        </p:blipFill>
        <p:spPr>
          <a:xfrm>
            <a:off x="6072120" y="4000680"/>
            <a:ext cx="2878200" cy="23572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" descr="C:\Users\1\Desktop\лидер район\а ну ка девушки\DSCF4320.JPG"/>
          <p:cNvPicPr/>
          <p:nvPr/>
        </p:nvPicPr>
        <p:blipFill>
          <a:blip r:embed="rId7"/>
          <a:stretch/>
        </p:blipFill>
        <p:spPr>
          <a:xfrm>
            <a:off x="2684520" y="4495680"/>
            <a:ext cx="3305160" cy="186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4T19:07:43Z</dcterms:created>
  <dc:creator>Кузнецова Л.А.</dc:creator>
  <dc:description/>
  <dc:language>en-US</dc:language>
  <cp:lastModifiedBy>Irina</cp:lastModifiedBy>
  <dcterms:modified xsi:type="dcterms:W3CDTF">2019-12-16T15:24:36Z</dcterms:modified>
  <cp:revision>16</cp:revision>
  <dc:subject/>
  <dc:title>Слайд 1</dc:title>
</cp:coreProperties>
</file>