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7.png" ContentType="image/png"/>
  <Override PartName="/ppt/media/image24.png" ContentType="image/png"/>
  <Override PartName="/ppt/media/image11.jpeg" ContentType="image/jpeg"/>
  <Override PartName="/ppt/media/image31.gif" ContentType="image/gi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2.png" ContentType="image/png"/>
  <Override PartName="/ppt/media/image17.gif" ContentType="image/gif"/>
  <Override PartName="/ppt/media/image29.gif" ContentType="image/gif"/>
  <Override PartName="/ppt/media/image34.png" ContentType="image/png"/>
  <Override PartName="/ppt/media/image9.png" ContentType="image/png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35.gif" ContentType="image/gif"/>
  <Override PartName="/ppt/media/image38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36.png" ContentType="image/png"/>
  <Override PartName="/ppt/media/image37.gif" ContentType="image/gif"/>
  <Override PartName="/ppt/media/image10.gif" ContentType="image/gif"/>
  <Override PartName="/ppt/media/image6.wmf" ContentType="image/x-wmf"/>
  <Override PartName="/ppt/media/image40.png" ContentType="image/png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2.gif" ContentType="image/gif"/>
  <Override PartName="/ppt/media/image3.png" ContentType="image/png"/>
  <Override PartName="/ppt/media/image33.gif" ContentType="image/gif"/>
  <Override PartName="/ppt/media/image26.png" ContentType="image/png"/>
  <Override PartName="/ppt/media/image14.png" ContentType="image/png"/>
  <Override PartName="/ppt/media/image15.png" ContentType="image/png"/>
  <Override PartName="/ppt/media/image39.gif" ContentType="image/gif"/>
  <Override PartName="/ppt/media/image1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2E9D-99C3-4E2F-B04A-32B686BFA5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9D8E-AD2A-45BE-87EC-CCB3D9E36A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792-CB67-47CE-A3A0-3E1FB3B8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D81-6EEF-4C70-969C-FE351F5D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850-BD8A-40AA-8329-A1411984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18C-7863-46B9-911B-0EC0E781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EFB1-724F-4C95-9EE7-F2D4C342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43DC-560F-47D0-A754-14DACE16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FA56-7202-4248-82B5-F782A6C8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AEC6-9AB1-4DB4-BBDB-9D866692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AEBE-C608-4052-97BD-C1EF9413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5946-8EEA-496B-B049-A4BF3325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3CD1-A084-4EB5-A1B3-901F9022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2EA-99FF-4674-BB72-1B317D52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9FE5-493E-431C-A402-D66787C5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8415-54A9-4891-82C6-2242B63D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B6F7-160C-4CD5-BE1F-D7BEBD54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C3E1-1D14-41D1-8EF0-BBFB0865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A050-8515-4FEC-8956-360D6604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947A-5794-42A8-B2A1-D2510F9C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AA65A-5817-403D-AD2A-74EEFDA0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7BE69-4D80-41EF-B60D-0CEC4154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F2142-5F7D-4242-9065-78FF0FCD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8A87D-1D5F-49A9-982B-A098EF1C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839-EEBB-4455-BC6D-700257E0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C0FBD-CBD0-46FD-8E99-33255B80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6BB57-7429-4CFB-9E5F-C758E9AD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9A5C7-3312-4BD0-AD45-7AD2821C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7D219-AA95-446E-B485-FAC6E508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85782-2CFB-4237-BE17-E29CDD62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C8AFC-944E-47B2-A845-3E58F959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28915-4CCA-49F4-A321-D1F94F34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C0F1B-C988-4596-B475-3642A23C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C2D5E-D681-429F-8DAB-D5838857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A25D3-D0FC-465B-AF76-E342B9DD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E43-CF37-4E30-A4FC-B6B8EA9B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5F936-135E-4E8A-9A89-FFC83CF7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1D6D0-A9E5-49B9-885D-6A51C94C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87CA7-5A55-418A-ABD4-A92AA206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AAA21-3510-4885-9E9B-5C3390C3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1084E-2874-43DB-BCC0-74A0ABF5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89DAF-5A10-4689-BD05-40E2B08C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C19B2-2641-4F27-8329-A9565651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ACC44-7464-4D80-9595-A458D5D2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64903-C13E-4EE0-9D36-A6159BFC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87E57-FD27-47DB-93A2-E87EB171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8755-13F1-446B-A679-6F303F88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6B94A-A205-4DCD-9F00-7F2671F5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4DF61-C709-49DF-90CD-7C2BD593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5827A-C8EB-4EA6-9C59-36344FA5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6B8D5-611F-4C6A-9B96-94FC02A9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15511-7AD7-4B1C-810C-8059924E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2ECB6-3FAE-4D56-8536-1B1A0CBB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A0909-9B34-458C-BCA6-CCD33BD6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DC47C-F184-45D4-9280-F131E7C4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CD384-3732-47AD-9D60-9B37DDBA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9590C-D394-4CC3-82B4-90F97048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7434-C800-4C9B-A73D-B2020BCD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F6C79-649E-4C3D-8AEB-9ED8E95C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A8AB-A5EC-4690-BEFF-9B2C62DC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626-06AE-404C-AD1D-4C04F4BF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EFB-CF3D-4254-B209-02FFA480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290E-C0CE-4CC3-BCA2-9D301ACC258F}" type="slidenum">
              <a:rPr b="0" lang="en-US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0929-A701-4D8C-9C17-834EAB883B5C}" type="slidenum">
              <a:rPr b="0" lang="en-US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84C3-220E-42AE-9BCD-845E38948AB0}" type="slidenum">
              <a:rPr b="0" lang="en-US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0086-62EF-4546-977B-F880436443EC}" type="slidenum">
              <a:rPr b="0" lang="en-US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EED6-4AC6-45A6-851E-1191CE53E36E}" type="slidenum">
              <a:rPr b="0" lang="en-US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b25196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54" name="Object 2"/>
          <p:cNvGraphicFramePr/>
          <p:nvPr/>
        </p:nvGraphicFramePr>
        <p:xfrm>
          <a:off x="0" y="0"/>
          <a:ext cx="9144000" cy="682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2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7"/>
          <p:cNvSpPr/>
          <p:nvPr/>
        </p:nvSpPr>
        <p:spPr>
          <a:xfrm>
            <a:off x="785880" y="642960"/>
            <a:ext cx="7559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Лесногород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деева Е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Calibri"/>
              </a:rPr>
              <a:t>Формирование навыков самоконтроля </a:t>
            </a: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82" name="Picture 2" descr="самоконтроль, саморегуляция"/>
          <p:cNvPicPr/>
          <p:nvPr/>
        </p:nvPicPr>
        <p:blipFill>
          <a:blip r:embed="rId2"/>
          <a:stretch/>
        </p:blipFill>
        <p:spPr>
          <a:xfrm>
            <a:off x="1643040" y="1785960"/>
            <a:ext cx="2548080" cy="2548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самоконтроль, саморегуляция"/>
          <p:cNvPicPr/>
          <p:nvPr/>
        </p:nvPicPr>
        <p:blipFill>
          <a:blip r:embed="rId3"/>
          <a:stretch/>
        </p:blipFill>
        <p:spPr>
          <a:xfrm>
            <a:off x="5143680" y="1714680"/>
            <a:ext cx="2581200" cy="2727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самоконтроль, саморегуляция"/>
          <p:cNvPicPr/>
          <p:nvPr/>
        </p:nvPicPr>
        <p:blipFill>
          <a:blip r:embed="rId4"/>
          <a:stretch/>
        </p:blipFill>
        <p:spPr>
          <a:xfrm>
            <a:off x="1714680" y="4643280"/>
            <a:ext cx="525456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самоконтроль, саморегуляция"/>
          <p:cNvPicPr/>
          <p:nvPr/>
        </p:nvPicPr>
        <p:blipFill>
          <a:blip r:embed="rId2"/>
          <a:stretch/>
        </p:blipFill>
        <p:spPr>
          <a:xfrm>
            <a:off x="1428840" y="78588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самоконтроль, саморегуляция"/>
          <p:cNvPicPr/>
          <p:nvPr/>
        </p:nvPicPr>
        <p:blipFill>
          <a:blip r:embed="rId3"/>
          <a:stretch/>
        </p:blipFill>
        <p:spPr>
          <a:xfrm>
            <a:off x="3500280" y="1928880"/>
            <a:ext cx="5143680" cy="1714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самоконтроль, саморегуляция"/>
          <p:cNvPicPr/>
          <p:nvPr/>
        </p:nvPicPr>
        <p:blipFill>
          <a:blip r:embed="rId4"/>
          <a:stretch/>
        </p:blipFill>
        <p:spPr>
          <a:xfrm>
            <a:off x="1428840" y="3857760"/>
            <a:ext cx="65944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самоконтроль, саморегуляция"/>
          <p:cNvPicPr/>
          <p:nvPr/>
        </p:nvPicPr>
        <p:blipFill>
          <a:blip r:embed="rId2"/>
          <a:stretch/>
        </p:blipFill>
        <p:spPr>
          <a:xfrm>
            <a:off x="714240" y="1214280"/>
            <a:ext cx="4794480" cy="15242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самоконтроль, саморегуляция"/>
          <p:cNvPicPr/>
          <p:nvPr/>
        </p:nvPicPr>
        <p:blipFill>
          <a:blip r:embed="rId3"/>
          <a:stretch/>
        </p:blipFill>
        <p:spPr>
          <a:xfrm>
            <a:off x="857160" y="3929040"/>
            <a:ext cx="6292800" cy="200016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5"/>
          <p:cNvSpPr/>
          <p:nvPr/>
        </p:nvSpPr>
        <p:spPr>
          <a:xfrm>
            <a:off x="6072120" y="2571840"/>
            <a:ext cx="192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- красный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- синий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- желтый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- коричневый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черны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самоконтроль, саморегуляция"/>
          <p:cNvPicPr/>
          <p:nvPr/>
        </p:nvPicPr>
        <p:blipFill>
          <a:blip r:embed="rId2"/>
          <a:stretch/>
        </p:blipFill>
        <p:spPr>
          <a:xfrm>
            <a:off x="1143000" y="1143000"/>
            <a:ext cx="6408720" cy="1714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самоконтроль, саморегуляция"/>
          <p:cNvPicPr/>
          <p:nvPr/>
        </p:nvPicPr>
        <p:blipFill>
          <a:blip r:embed="rId3"/>
          <a:stretch/>
        </p:blipFill>
        <p:spPr>
          <a:xfrm>
            <a:off x="1214280" y="3643200"/>
            <a:ext cx="6324840" cy="192888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7" descr="3FCAO6OOX3CAJQXLH9CARB5WZ0CA4ICI87CA56GVY0CAFMUO18CAJDHKR7CAV3Z2YOCA3Q3WA0CAP4ZXGZCAJ25ZAXCART13VNCA0YXFIJCADD37Y0CA26E734CAUFP8T5CA4JIW6LCAQQ9XK4CAS4U2NP.gif"/>
          <p:cNvPicPr/>
          <p:nvPr/>
        </p:nvPicPr>
        <p:blipFill>
          <a:blip r:embed="rId4"/>
          <a:stretch/>
        </p:blipFill>
        <p:spPr>
          <a:xfrm>
            <a:off x="4071960" y="3286080"/>
            <a:ext cx="681120" cy="64152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8" descr="44.gif"/>
          <p:cNvPicPr/>
          <p:nvPr/>
        </p:nvPicPr>
        <p:blipFill>
          <a:blip r:embed="rId5"/>
          <a:stretch/>
        </p:blipFill>
        <p:spPr>
          <a:xfrm>
            <a:off x="4143240" y="785880"/>
            <a:ext cx="414360" cy="571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самоконтроль, саморегуляция"/>
          <p:cNvPicPr/>
          <p:nvPr/>
        </p:nvPicPr>
        <p:blipFill>
          <a:blip r:embed="rId2"/>
          <a:stretch/>
        </p:blipFill>
        <p:spPr>
          <a:xfrm>
            <a:off x="642960" y="1785960"/>
            <a:ext cx="7000920" cy="92880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4"/>
          <p:cNvSpPr/>
          <p:nvPr/>
        </p:nvSpPr>
        <p:spPr>
          <a:xfrm>
            <a:off x="1857240" y="1000080"/>
            <a:ext cx="564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Игра   "Число-контролер"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1285920" y="321480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Игра "Сохрани слово в секрете"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857160" y="3857760"/>
            <a:ext cx="67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но, стул, ромашка, ириска, просо, плечо, шкаф, василёк, книга и т. д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Рисунок 7" descr="0b0f33b51db5.gif"/>
          <p:cNvPicPr/>
          <p:nvPr/>
        </p:nvPicPr>
        <p:blipFill>
          <a:blip r:embed="rId3"/>
          <a:stretch/>
        </p:blipFill>
        <p:spPr>
          <a:xfrm>
            <a:off x="6858000" y="435780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3"/>
          <p:cNvSpPr/>
          <p:nvPr/>
        </p:nvSpPr>
        <p:spPr>
          <a:xfrm>
            <a:off x="785880" y="114300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Игра "Спрячь букву от буквоежки"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4"/>
          <p:cNvSpPr/>
          <p:nvPr/>
        </p:nvSpPr>
        <p:spPr>
          <a:xfrm>
            <a:off x="500040" y="2000160"/>
            <a:ext cx="692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Наступила ранняя весн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5"/>
          <p:cNvSpPr/>
          <p:nvPr/>
        </p:nvSpPr>
        <p:spPr>
          <a:xfrm>
            <a:off x="500040" y="3000240"/>
            <a:ext cx="7858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 Рыжий кот спал на крыше. Из норки выскочили мышата. Они стали играть. Кот прыгнул к мышатам. Они быстро умчались в норку. Кот только рот раскрыл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Рисунок 6" descr="9baa37b09769.gif"/>
          <p:cNvPicPr/>
          <p:nvPr/>
        </p:nvPicPr>
        <p:blipFill>
          <a:blip r:embed="rId2"/>
          <a:stretch/>
        </p:blipFill>
        <p:spPr>
          <a:xfrm>
            <a:off x="6572160" y="4572000"/>
            <a:ext cx="1287720" cy="107172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7" descr="1a340419093817fdf9eddc82cd2aa2b8.gif"/>
          <p:cNvPicPr/>
          <p:nvPr/>
        </p:nvPicPr>
        <p:blipFill>
          <a:blip r:embed="rId3"/>
          <a:stretch/>
        </p:blipFill>
        <p:spPr>
          <a:xfrm>
            <a:off x="6357960" y="2071800"/>
            <a:ext cx="885960" cy="660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3"/>
          <p:cNvSpPr/>
          <p:nvPr/>
        </p:nvSpPr>
        <p:spPr>
          <a:xfrm>
            <a:off x="1571760" y="78588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Arial"/>
              </a:rPr>
              <a:t>Как превратить "о" в "и"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самоконтроль, саморегуляция"/>
          <p:cNvPicPr/>
          <p:nvPr/>
        </p:nvPicPr>
        <p:blipFill>
          <a:blip r:embed="rId2"/>
          <a:stretch/>
        </p:blipFill>
        <p:spPr>
          <a:xfrm>
            <a:off x="1571760" y="1571760"/>
            <a:ext cx="4643280" cy="412740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5" descr="60b6ab3594ef1cdc6d16f0b4c73e7197.gif"/>
          <p:cNvPicPr/>
          <p:nvPr/>
        </p:nvPicPr>
        <p:blipFill>
          <a:blip r:embed="rId3"/>
          <a:stretch/>
        </p:blipFill>
        <p:spPr>
          <a:xfrm flipH="1">
            <a:off x="6357960" y="3143160"/>
            <a:ext cx="161928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3"/>
          <p:cNvSpPr/>
          <p:nvPr/>
        </p:nvSpPr>
        <p:spPr>
          <a:xfrm>
            <a:off x="1428840" y="100008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Помоги пчёлке собрать урожа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самоконтроль, саморегуляция"/>
          <p:cNvPicPr/>
          <p:nvPr/>
        </p:nvPicPr>
        <p:blipFill>
          <a:blip r:embed="rId2"/>
          <a:stretch/>
        </p:blipFill>
        <p:spPr>
          <a:xfrm>
            <a:off x="1285920" y="1785960"/>
            <a:ext cx="4429080" cy="411480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5" descr="getImageCA5GTIHF.gif"/>
          <p:cNvPicPr/>
          <p:nvPr/>
        </p:nvPicPr>
        <p:blipFill>
          <a:blip r:embed="rId3"/>
          <a:stretch/>
        </p:blipFill>
        <p:spPr>
          <a:xfrm rot="918000">
            <a:off x="6057720" y="3573360"/>
            <a:ext cx="125064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3"/>
          <p:cNvSpPr/>
          <p:nvPr/>
        </p:nvSpPr>
        <p:spPr>
          <a:xfrm>
            <a:off x="214200" y="1071720"/>
            <a:ext cx="89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Как сказать слово, не произнося ни зву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самоконтроль, саморегуляция"/>
          <p:cNvPicPr/>
          <p:nvPr/>
        </p:nvPicPr>
        <p:blipFill>
          <a:blip r:embed="rId2"/>
          <a:stretch/>
        </p:blipFill>
        <p:spPr>
          <a:xfrm>
            <a:off x="1071720" y="2286000"/>
            <a:ext cx="7000560" cy="118584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6"/>
          <p:cNvSpPr/>
          <p:nvPr/>
        </p:nvSpPr>
        <p:spPr>
          <a:xfrm>
            <a:off x="428760" y="3571920"/>
            <a:ext cx="81439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Варианты сокращенных алфав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4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49e"/>
                </a:solidFill>
                <a:latin typeface="Arial"/>
              </a:rPr>
              <a:t>У  Д  Р  Б  М  О  Н          2. А  Л  В  С  Е  О  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49e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449e"/>
                </a:solidFill>
                <a:latin typeface="Arial"/>
              </a:rPr>
              <a:t>7   6   5  4   3   2   1             1   2  3   4  5   6   7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3920" y="713880"/>
            <a:ext cx="700092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00000"/>
                </a:solidFill>
                <a:latin typeface="Calibri"/>
              </a:rPr>
              <a:t>Успехов в работе!</a:t>
            </a:r>
            <a:endParaRPr b="0" lang="en-US" sz="66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315" name="Рисунок 11" descr="9MCATPOHKPCAE9CP38CA586P3SCAUKVSBSCAVZZJ4ECABSZ72KCAZWDG8ACAYO905MCA0Q2EWOCA52DYILCA0PRQ2WCAU4FNZCCACH6YHDCALNY1MMCAJKPCOVCA2VVL52CA1JYF2QCAQY29F5CAM8HPT1.gif"/>
          <p:cNvPicPr/>
          <p:nvPr/>
        </p:nvPicPr>
        <p:blipFill>
          <a:blip r:embed="rId2"/>
          <a:stretch/>
        </p:blipFill>
        <p:spPr>
          <a:xfrm>
            <a:off x="6286680" y="2500200"/>
            <a:ext cx="1025280" cy="92880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2" descr="укй.png"/>
          <p:cNvPicPr/>
          <p:nvPr/>
        </p:nvPicPr>
        <p:blipFill>
          <a:blip r:embed="rId3"/>
          <a:stretch/>
        </p:blipFill>
        <p:spPr>
          <a:xfrm>
            <a:off x="2643120" y="2643120"/>
            <a:ext cx="321480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58" name="Содержимое 4" descr="instrumenty_000.gif"/>
          <p:cNvPicPr/>
          <p:nvPr/>
        </p:nvPicPr>
        <p:blipFill>
          <a:blip r:embed="rId2"/>
          <a:stretch/>
        </p:blipFill>
        <p:spPr>
          <a:xfrm>
            <a:off x="4390920" y="3957480"/>
            <a:ext cx="362160" cy="343080"/>
          </a:xfrm>
          <a:prstGeom prst="rect">
            <a:avLst/>
          </a:prstGeom>
          <a:ln w="0">
            <a:noFill/>
          </a:ln>
        </p:spPr>
      </p:pic>
      <p:pic>
        <p:nvPicPr>
          <p:cNvPr id="259" name="Object 2" descr=""/>
          <p:cNvPicPr/>
          <p:nvPr/>
        </p:nvPicPr>
        <p:blipFill>
          <a:blip r:embed="rId3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Содержимое 10" descr=""/>
          <p:cNvPicPr/>
          <p:nvPr/>
        </p:nvPicPr>
        <p:blipFill>
          <a:blip r:embed="rId2"/>
          <a:stretch/>
        </p:blipFill>
        <p:spPr>
          <a:xfrm>
            <a:off x="371520" y="2114640"/>
            <a:ext cx="8186760" cy="382248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12"/>
          <p:cNvSpPr/>
          <p:nvPr/>
        </p:nvSpPr>
        <p:spPr>
          <a:xfrm>
            <a:off x="500040" y="928800"/>
            <a:ext cx="8143920" cy="92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nstantia"/>
              </a:rPr>
              <a:t>Компоненты самоконтрол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       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                </a:t>
            </a:r>
            <a:r>
              <a:rPr b="0" i="1" lang="en-US" sz="4500" spc="-1" strike="noStrike">
                <a:solidFill>
                  <a:srgbClr val="c00000"/>
                </a:solidFill>
                <a:latin typeface="Calibri"/>
              </a:rPr>
              <a:t>Виды самоконтроля.</a:t>
            </a:r>
            <a:br>
              <a:rPr sz="4500"/>
            </a:br>
            <a:endParaRPr b="0" lang="en-US" sz="45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28760" y="14288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ффективный и когнитив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еденческ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тогов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операционный (пошаговый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ланирующ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варяющий ( прогнозирующий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нстатирующий  и корректирующ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посредственный и опосредован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ышечно – двигатель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хов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бинирован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Рисунок 14" descr="getImageCA1U07CR.gif"/>
          <p:cNvPicPr/>
          <p:nvPr/>
        </p:nvPicPr>
        <p:blipFill>
          <a:blip r:embed="rId2"/>
          <a:stretch/>
        </p:blipFill>
        <p:spPr>
          <a:xfrm>
            <a:off x="6715080" y="5214960"/>
            <a:ext cx="1430280" cy="1033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2960" y="1357200"/>
            <a:ext cx="850104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70c0"/>
                </a:solidFill>
                <a:latin typeface="Arial"/>
                <a:ea typeface="Times New Roman"/>
              </a:rPr>
              <a:t>              </a:t>
            </a:r>
            <a:br>
              <a:rPr sz="4500"/>
            </a:br>
            <a:r>
              <a:rPr b="0" i="1" lang="en-US" sz="4500" spc="-1" strike="noStrike">
                <a:solidFill>
                  <a:srgbClr val="c00000"/>
                </a:solidFill>
                <a:latin typeface="Arial"/>
                <a:ea typeface="Times New Roman"/>
              </a:rPr>
              <a:t>Виды проверки самоконтроля:</a:t>
            </a:r>
            <a:br>
              <a:rPr sz="8600"/>
            </a:br>
            <a:endParaRPr b="0" lang="en-US" sz="45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85840" y="3214800"/>
            <a:ext cx="4039920" cy="3844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onstantia"/>
              </a:rPr>
              <a:t>коллективная проверк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onstantia"/>
              </a:rPr>
              <a:t>самопроверк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onstantia"/>
              </a:rPr>
              <a:t>в сочетании с контролем</a:t>
            </a:r>
            <a:r>
              <a:rPr b="0" lang="en-US" sz="2200" spc="-1" strike="noStrike">
                <a:solidFill>
                  <a:srgbClr val="c00000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c00000"/>
                </a:solidFill>
                <a:latin typeface="Constantia"/>
              </a:rPr>
              <a:t>учителя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785840" y="3214800"/>
            <a:ext cx="4041720" cy="3844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onstantia"/>
              </a:rPr>
              <a:t>взаимная проверка письменных  ответов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onstantia"/>
              </a:rPr>
              <a:t>взаимопроверка устных ответов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onstantia"/>
              </a:rPr>
              <a:t>взаимопроверка итоговых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onstantia"/>
              </a:rPr>
              <a:t>      </a:t>
            </a:r>
            <a:r>
              <a:rPr b="0" lang="en-US" sz="2200" spc="-1" strike="noStrike">
                <a:solidFill>
                  <a:srgbClr val="c00000"/>
                </a:solidFill>
                <a:latin typeface="Constantia"/>
              </a:rPr>
              <a:t>самостоятельных рабо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101920" y="2071800"/>
            <a:ext cx="4041720" cy="65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onstantia"/>
              </a:rPr>
              <a:t>             </a:t>
            </a:r>
            <a:r>
              <a:rPr b="1" i="1" lang="en-US" sz="2400" spc="-1" strike="noStrike">
                <a:solidFill>
                  <a:srgbClr val="c00000"/>
                </a:solidFill>
                <a:latin typeface="Constantia"/>
              </a:rPr>
              <a:t>Взаимна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856800" y="214308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onstantia"/>
              </a:rPr>
              <a:t>Фронтальн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onstantia"/>
              </a:rPr>
              <a:t>Индивидуальн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Рисунок 18" descr="уч.png"/>
          <p:cNvPicPr/>
          <p:nvPr/>
        </p:nvPicPr>
        <p:blipFill>
          <a:blip r:embed="rId2"/>
          <a:stretch/>
        </p:blipFill>
        <p:spPr>
          <a:xfrm>
            <a:off x="2928960" y="4572000"/>
            <a:ext cx="190800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045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                        </a:t>
            </a: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Уровни 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сформированности  самоконтроля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28760" y="2285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onstantia"/>
              </a:rPr>
              <a:t>ПЕРВЫЙ УРОВЕНЬ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 – отсутствие контрол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onstantia"/>
              </a:rPr>
              <a:t>ВТОРОЙ УРОВЕНЬ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 – контроль на уровне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                                            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непроизвольного вним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onstantia"/>
              </a:rPr>
              <a:t>ТРЕТИЙ УРОВЕНЬ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 – потенциальный контроль на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                                           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уровне произвольного вним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onstantia"/>
              </a:rPr>
              <a:t>ЧЕТВЕРТЫЙ УРОВЕНЬ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 – актуальный контроль 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                                          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уровне произвольного вним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onstantia"/>
              </a:rPr>
              <a:t>ПЯТЫЙ УРОВЕНЬ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 – потенциальный рефлексивный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                                            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onstantia"/>
              </a:rPr>
              <a:t>ШЕСТОЙ УРОВЕНЬ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 – актуальный рефлексивны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                                            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i="1" lang="en-US" sz="4500" spc="-1" strike="noStrike">
                <a:solidFill>
                  <a:srgbClr val="c00000"/>
                </a:solidFill>
                <a:latin typeface="Calibri"/>
              </a:rPr>
              <a:t>«Учись контролировать себя»</a:t>
            </a:r>
            <a:endParaRPr b="0" lang="en-US" sz="45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Внешний вид твоей работ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Выглядит ли она аккуратно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Есть ли у нее заголовок (если он необходим)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Пользуешься ли ты полям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Аккуратно ли ты подчеркиваешь заголовок и другие разделы работ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. Начинаешь ли ты каждый абзац с необходимого отступ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. Возможны ли какие-либо способы, с помощью которых ты мог бы улучшить внешний вид работ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Рисунок 9" descr="рр.gif"/>
          <p:cNvPicPr/>
          <p:nvPr/>
        </p:nvPicPr>
        <p:blipFill>
          <a:blip r:embed="rId2"/>
          <a:stretch/>
        </p:blipFill>
        <p:spPr>
          <a:xfrm rot="20876400">
            <a:off x="6445080" y="1647360"/>
            <a:ext cx="1513080" cy="990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      </a:t>
            </a:r>
            <a:r>
              <a:rPr b="0" i="1" lang="en-US" sz="5000" spc="-1" strike="noStrike">
                <a:solidFill>
                  <a:srgbClr val="c00000"/>
                </a:solidFill>
                <a:latin typeface="Calibri"/>
              </a:rPr>
              <a:t>Приемы самоконтроля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28760" y="171468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сверка с написанным образцо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e4005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взаимопроверка с товарище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e4005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сверка с готовым ответом или выполненным заданием в учебник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коллективное выполнение задания и коллективная провер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сочетание коллективной и индивидуальной работ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роверка по словесной инструк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самостоятельное придумывание задан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выполнение задания по алгоритм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выполнение задания по наводящим вопроса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выполнение задания по образ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роверка с помощью сигнальных карточек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одбор нескольких способов выполнения задания и выбор самого рационального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роговаривание “про себя” объяснения выбор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i="1" lang="en-US" sz="5000" spc="-1" strike="noStrike">
                <a:solidFill>
                  <a:srgbClr val="c00000"/>
                </a:solidFill>
                <a:latin typeface="Calibri"/>
              </a:rPr>
              <a:t>В  1 классе дети учатся: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сравнивать результат своей деятельности с образцом, заданным в материальной форм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воспроизводить состав контрольных действий и операций, заданных учителе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выполнять действия по развернутой инструкци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осуществлять самопроверку по плану, включающему 1-2 пунк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использовать для самоконтроля схемы-модели, составленные учител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Рисунок 4" descr="getImage12.gif"/>
          <p:cNvPicPr/>
          <p:nvPr/>
        </p:nvPicPr>
        <p:blipFill>
          <a:blip r:embed="rId2"/>
          <a:stretch/>
        </p:blipFill>
        <p:spPr>
          <a:xfrm rot="462000">
            <a:off x="5101920" y="5619600"/>
            <a:ext cx="745920" cy="505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08:25:03Z</dcterms:created>
  <dc:creator>User</dc:creator>
  <dc:description/>
  <dc:language>en-US</dc:language>
  <cp:lastModifiedBy>сергей</cp:lastModifiedBy>
  <dcterms:modified xsi:type="dcterms:W3CDTF">2015-11-24T13:27:37Z</dcterms:modified>
  <cp:revision>41</cp:revision>
  <dc:subject/>
  <dc:title>Слайд 1</dc:title>
</cp:coreProperties>
</file>