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89D-959C-43B9-83AA-0B4C0B07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D88-2ECE-4398-9998-85C3F9E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B9E-138B-4EBF-9E8E-00AB816F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2C8-1F0D-44FE-9651-96D8B3BE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3EC-391D-448B-895C-236EB6B9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55F-1E25-4E99-914E-BD98EB6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9624-96DC-470A-8B12-2E6929B3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02FC-02D1-4A50-91BB-F597F445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CAE8-A579-4539-A4D3-B4C5923A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7160-AAA3-46FD-933C-365C552D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AC21-0953-417D-A349-6661713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CE0-31BE-4BA3-BA4E-A9A09E8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80B-FE65-4C66-A2BE-5F07AE20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92FA-5D1D-4922-BA96-C8245BE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D67D-25FD-4314-9C07-DC2352EF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F2DF-82B0-4B2D-AB9C-63B0372F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A5AF-D5F4-47C1-A842-F292517E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8AC-729F-4973-ADC8-589747D8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C9A-5540-41AF-B439-1112940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9AB-6C79-4F80-BCCA-E00FDF77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E06-9525-4153-9224-811EABE6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AAB-96B4-4737-95DC-DD4DBCB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369-F669-43E4-8BC4-C5A23892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0E3-C850-479D-8AC8-D941C23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368D-E80E-46BA-B36A-D2E655B5FCA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A0DB-7845-42F9-AB81-8DBA31DB247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904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МАСТЕР-КЛАСС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40000" y="5516640"/>
            <a:ext cx="4896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857160" y="1370160"/>
            <a:ext cx="7993080" cy="35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КВЕЙН - ЭФФЕКТИВНОЕ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ЕДСТВО КОРРЕКЦИИ РЕЧИ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ШКОЛЬНИКОВ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5162400" y="3833640"/>
          <a:ext cx="3672000" cy="244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2400" y="3833640"/>
                    <a:ext cx="367200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11"/>
          <p:cNvSpPr/>
          <p:nvPr/>
        </p:nvSpPr>
        <p:spPr>
          <a:xfrm>
            <a:off x="826920" y="5656320"/>
            <a:ext cx="792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: Позднякова Е.В. учитель-логопед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БДОУ «Детский сад №65 «Рябинушка» комбинированного вида , г. Старая Купав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ррекция и совершенствование готового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6720" y="2276280"/>
            <a:ext cx="40672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жая, косолап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ыгает, скачет, во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нравится ловкая б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кое живот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47713_PICT8245d"/>
          <p:cNvPicPr/>
          <p:nvPr/>
        </p:nvPicPr>
        <p:blipFill>
          <a:blip r:embed="rId1"/>
          <a:stretch/>
        </p:blipFill>
        <p:spPr>
          <a:xfrm>
            <a:off x="928800" y="2286000"/>
            <a:ext cx="40748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ИНКВЕЙН - ЗАГАД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1.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2. Cерый, колюч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3. Фыркает, спит, сворачи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4.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  <a:ea typeface="Calibri"/>
              </a:rPr>
              <a:t>Мне нравится этот зверек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5. Л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нализ неполного синквейна для определения отсутствующей част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49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лоствольная, стройная, русск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тет, кач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 любуюсь стройной  ___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ре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Берёзаjpg"/>
          <p:cNvPicPr/>
          <p:nvPr/>
        </p:nvPicPr>
        <p:blipFill>
          <a:blip r:embed="rId1"/>
          <a:stretch/>
        </p:blipFill>
        <p:spPr>
          <a:xfrm>
            <a:off x="5364000" y="1916280"/>
            <a:ext cx="360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оставление синквейна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 прослушанному рассказу, сказ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932360" y="2633400"/>
            <a:ext cx="396072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ушок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елый, храбрый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ёт, несёт, выгнал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м нравится смелый петушок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зочный герой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1240406696_1237096287_artlib_gallery-125659-b"/>
          <p:cNvPicPr/>
          <p:nvPr/>
        </p:nvPicPr>
        <p:blipFill>
          <a:blip r:embed="rId1"/>
          <a:stretch/>
        </p:blipFill>
        <p:spPr>
          <a:xfrm>
            <a:off x="1042920" y="234936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одержимое 2"/>
          <p:cNvSpPr/>
          <p:nvPr/>
        </p:nvSpPr>
        <p:spPr>
          <a:xfrm>
            <a:off x="900000" y="1844640"/>
            <a:ext cx="79520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. Конкурс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2. Творческий, активизирующий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3. Волнует, сближает, развивает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4. Это смотр педагогического мастерства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5. Испытание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1103400" y="476280"/>
            <a:ext cx="75438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инквейн о конкурс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476280"/>
            <a:ext cx="7710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инквейн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лово французск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переводе означает «стихотво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 пяти стро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рма синквейна была разработана американской поэтессой Аделаидой Крэпси, которая опиралась на японские стихи — хоку (хайку),  маленький стих, без рифмы, отличающееся краткостью, которое читается очень медл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2360" y="487080"/>
            <a:ext cx="683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авила написания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инквейн состоит из 5 ст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го форма напоминает ёлочк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547640" y="3213000"/>
            <a:ext cx="21607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1 слов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2 слова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3 слова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4 слова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1 слов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Равнобедренный треугольник 6"/>
          <p:cNvSpPr/>
          <p:nvPr/>
        </p:nvSpPr>
        <p:spPr>
          <a:xfrm>
            <a:off x="5106960" y="3213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Равнобедренный треугольник 7"/>
          <p:cNvSpPr/>
          <p:nvPr/>
        </p:nvSpPr>
        <p:spPr>
          <a:xfrm>
            <a:off x="4788000" y="371628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Равнобедренный треугольник 8"/>
          <p:cNvSpPr/>
          <p:nvPr/>
        </p:nvSpPr>
        <p:spPr>
          <a:xfrm>
            <a:off x="5437080" y="371628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Равнобедренный треугольник 9"/>
          <p:cNvSpPr/>
          <p:nvPr/>
        </p:nvSpPr>
        <p:spPr>
          <a:xfrm>
            <a:off x="5148360" y="4292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Равнобедренный треугольник 10"/>
          <p:cNvSpPr/>
          <p:nvPr/>
        </p:nvSpPr>
        <p:spPr>
          <a:xfrm>
            <a:off x="4427640" y="4292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Равнобедренный треугольник 11"/>
          <p:cNvSpPr/>
          <p:nvPr/>
        </p:nvSpPr>
        <p:spPr>
          <a:xfrm>
            <a:off x="5796000" y="4292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Равнобедренный треугольник 12"/>
          <p:cNvSpPr/>
          <p:nvPr/>
        </p:nvSpPr>
        <p:spPr>
          <a:xfrm>
            <a:off x="5435640" y="486900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Равнобедренный треугольник 13"/>
          <p:cNvSpPr/>
          <p:nvPr/>
        </p:nvSpPr>
        <p:spPr>
          <a:xfrm>
            <a:off x="4716360" y="486900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Равнобедренный треугольник 14"/>
          <p:cNvSpPr/>
          <p:nvPr/>
        </p:nvSpPr>
        <p:spPr>
          <a:xfrm>
            <a:off x="6084720" y="4869000"/>
            <a:ext cx="64800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Равнобедренный треугольник 15"/>
          <p:cNvSpPr/>
          <p:nvPr/>
        </p:nvSpPr>
        <p:spPr>
          <a:xfrm>
            <a:off x="4067280" y="486900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Равнобедренный треугольник 16"/>
          <p:cNvSpPr/>
          <p:nvPr/>
        </p:nvSpPr>
        <p:spPr>
          <a:xfrm>
            <a:off x="5106960" y="5516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оставления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15" descr="C:\Users\HOTREIN\Desktop\схема.JPG"/>
          <p:cNvPicPr/>
          <p:nvPr/>
        </p:nvPicPr>
        <p:blipFill>
          <a:blip r:embed="rId1"/>
          <a:stretch/>
        </p:blipFill>
        <p:spPr>
          <a:xfrm>
            <a:off x="1903320" y="1981080"/>
            <a:ext cx="5870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имеры синквейн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ля закрепления изученной лексической темы «Деревья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ябин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онкая, кудрява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Растет, зеленеет, цвет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Ягоды рябины любят снегир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Дере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00000" y="404280"/>
            <a:ext cx="7710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ля закрепления понятий, усвоенных на занятиях по подготовке к обучени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рамо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Звуки реч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Гласные, согласны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лышим, произносим, выделяе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Звуки складываются в слог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спользуя слова из синквейна, придумать рассказ.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0720"/>
            <a:ext cx="77533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Бел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ушистая, рыж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ыгает, скачет, заготавли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Белка живет в дуп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Дикое живот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лесу живет рыжий, пушистый зверек. Это белка. Жизнь у белки хлопотливая, она заготавливает себе пищу на зиму. Ловко прыгает и скачет по веткам. На большом дереве у нее дупло. Зимой диким животным жить трудно. Мы подкармливаем белку орешками, семеч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инквейн передаёт  эмоциональный настрой автора, можно сравнит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ень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ечная, тёпла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рит, светится, раду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арке осыпаются листь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олото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ень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Ветреная, холодна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Дождит, шуршит, хмуритс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Люди смотрят в ок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Грус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оставление синквейна по предметной картинк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3640" y="1916280"/>
            <a:ext cx="414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6" descr="http://presentway.com/wp-content/uploads/2014/11/maxresdefault-600x337.jpg"/>
          <p:cNvPicPr/>
          <p:nvPr/>
        </p:nvPicPr>
        <p:blipFill>
          <a:blip r:embed="rId1"/>
          <a:stretch/>
        </p:blipFill>
        <p:spPr>
          <a:xfrm>
            <a:off x="4859280" y="1916280"/>
            <a:ext cx="3889440" cy="2184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900000" y="4100400"/>
            <a:ext cx="6048360" cy="2288520"/>
          </a:xfrm>
          <a:prstGeom prst="rect">
            <a:avLst/>
          </a:prstGeom>
          <a:solidFill>
            <a:srgbClr val="589aff"/>
          </a:solidFill>
          <a:ln w="9360">
            <a:solidFill>
              <a:srgbClr val="004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ен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сёлая, разноцветная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крашает, восхищает, волнует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ивое время года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авица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1:33:17Z</dcterms:created>
  <dc:creator>User</dc:creator>
  <dc:description/>
  <dc:language>en-US</dc:language>
  <cp:lastModifiedBy>gypnorion</cp:lastModifiedBy>
  <dcterms:modified xsi:type="dcterms:W3CDTF">2016-11-08T18:28:22Z</dcterms:modified>
  <cp:revision>35</cp:revision>
  <dc:subject/>
  <dc:title>Слайд 1</dc:title>
</cp:coreProperties>
</file>