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4D7-7641-40D0-8292-C3430A44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C3E-F0B0-4917-BC1D-A979C710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3B8-0940-41DA-9456-FFEB5186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77E-288C-4855-AE22-3E6463C2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6810-394E-447E-8679-AC2F50A3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4153-4151-4BD5-9235-85DD3DC4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6F9E-4AF9-40FF-9D9E-FBDFFEEC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B78C-7E12-4281-85DC-07D9C8C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1356-8F39-41D8-8F8C-8C3F6ED3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8A5-587A-421A-98D8-897E36AE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8E3A-1D09-4FB3-A009-5AAD088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9A4-EAEB-4BC1-84D8-7030F9F8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74A7-87D7-4A02-88CF-C3436DBB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C9A2-6C79-4E41-9168-3F903FA7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2A7C-8FB2-44F2-9AD1-E585B1DF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5B9C-D145-4536-81D8-54B7396D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F35F-AB7D-49AF-AAA2-B99BEF24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5B2-DFCE-4593-AA31-64EE0AC1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ECD-DC8D-48A8-B5F7-32F86A4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0D3-B535-42F6-BC0E-5FF0735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372-6F57-40DE-9219-804AD05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B8C-5F4B-4EB8-B497-1AE432E4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2F6-3B72-427D-8076-7AD7FAD5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E6A-CCE1-40B4-8FA0-02B3C4DB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608-5FC8-48E9-A9ED-C6A98FD7618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E528-3231-4CB2-B201-72A81536F53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904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МАСТЕР-КЛАСС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40000" y="5516640"/>
            <a:ext cx="4896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857160" y="1370160"/>
            <a:ext cx="7993080" cy="35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КВЕЙН - ЭФФЕКТИВНОЕ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РЕДСТВО КОРРЕКЦИИ РЕЧИ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ШКОЛЬНИКОВ 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5162400" y="3833640"/>
          <a:ext cx="3672000" cy="244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2400" y="3833640"/>
                    <a:ext cx="367200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11"/>
          <p:cNvSpPr/>
          <p:nvPr/>
        </p:nvSpPr>
        <p:spPr>
          <a:xfrm>
            <a:off x="826920" y="5656320"/>
            <a:ext cx="7921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: Позднякова Е.В. учитель-логопед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БДОУ «Детский сад №65 «Рябинушка» комбинированного вида , г. Старая Купав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ррекция и совершенствование готового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6720" y="2276280"/>
            <a:ext cx="40672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жая, косолап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ыгает, скачет, во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нравится ловкая бел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кое живот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47713_PICT8245d"/>
          <p:cNvPicPr/>
          <p:nvPr/>
        </p:nvPicPr>
        <p:blipFill>
          <a:blip r:embed="rId1"/>
          <a:stretch/>
        </p:blipFill>
        <p:spPr>
          <a:xfrm>
            <a:off x="928800" y="2286000"/>
            <a:ext cx="40748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ИНКВЕЙН - ЗАГАД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1.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2. Cерый, колюч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3. Фыркает, спит, сворачи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4.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  <a:ea typeface="Calibri"/>
              </a:rPr>
              <a:t>Мне нравится этот зверек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Calibri"/>
              </a:rPr>
              <a:t>5. Л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нализ неполного синквейна для определения отсутствующей част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49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лоствольная, стройная, русск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тет, кач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 любуюсь стройной  ___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ре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Берёзаjpg"/>
          <p:cNvPicPr/>
          <p:nvPr/>
        </p:nvPicPr>
        <p:blipFill>
          <a:blip r:embed="rId1"/>
          <a:stretch/>
        </p:blipFill>
        <p:spPr>
          <a:xfrm>
            <a:off x="5364000" y="1916280"/>
            <a:ext cx="360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оставление синквейна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 прослушанному рассказу, сказк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932360" y="2633400"/>
            <a:ext cx="396072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ушок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елый, храбрый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ёт, несёт, выгнал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м нравится смелый петушок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зочный герой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1240406696_1237096287_artlib_gallery-125659-b"/>
          <p:cNvPicPr/>
          <p:nvPr/>
        </p:nvPicPr>
        <p:blipFill>
          <a:blip r:embed="rId1"/>
          <a:stretch/>
        </p:blipFill>
        <p:spPr>
          <a:xfrm>
            <a:off x="1042920" y="234936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одержимое 2"/>
          <p:cNvSpPr/>
          <p:nvPr/>
        </p:nvSpPr>
        <p:spPr>
          <a:xfrm>
            <a:off x="900000" y="1844640"/>
            <a:ext cx="79520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. Конкурс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2. Творческий, активизирующий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3. Волнует, сближает, развивает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4. Это смотр педагогического мастерства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5. Испытание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1103400" y="476280"/>
            <a:ext cx="75438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инквейн о конкурс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476280"/>
            <a:ext cx="7710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инквейн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лово французско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переводе означает «стихотвор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 пяти стро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рма синквейна была разработана американской поэтессой Аделаидой Крэпси, которая опиралась на японские стихи — хоку (хайку),  маленький стих, без рифмы, отличающееся краткостью, которое читается очень медлен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2360" y="487080"/>
            <a:ext cx="6832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авила написания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инквейн состоит из 5 ст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го форма напоминает ёлочк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547640" y="3213000"/>
            <a:ext cx="21607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1 слов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2 слова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3 слова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4 слова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1 слов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Равнобедренный треугольник 6"/>
          <p:cNvSpPr/>
          <p:nvPr/>
        </p:nvSpPr>
        <p:spPr>
          <a:xfrm>
            <a:off x="5106960" y="3213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Равнобедренный треугольник 7"/>
          <p:cNvSpPr/>
          <p:nvPr/>
        </p:nvSpPr>
        <p:spPr>
          <a:xfrm>
            <a:off x="4788000" y="371628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Равнобедренный треугольник 8"/>
          <p:cNvSpPr/>
          <p:nvPr/>
        </p:nvSpPr>
        <p:spPr>
          <a:xfrm>
            <a:off x="5437080" y="371628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Равнобедренный треугольник 9"/>
          <p:cNvSpPr/>
          <p:nvPr/>
        </p:nvSpPr>
        <p:spPr>
          <a:xfrm>
            <a:off x="5148360" y="4292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Равнобедренный треугольник 10"/>
          <p:cNvSpPr/>
          <p:nvPr/>
        </p:nvSpPr>
        <p:spPr>
          <a:xfrm>
            <a:off x="4427640" y="4292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Равнобедренный треугольник 11"/>
          <p:cNvSpPr/>
          <p:nvPr/>
        </p:nvSpPr>
        <p:spPr>
          <a:xfrm>
            <a:off x="5796000" y="4292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Равнобедренный треугольник 12"/>
          <p:cNvSpPr/>
          <p:nvPr/>
        </p:nvSpPr>
        <p:spPr>
          <a:xfrm>
            <a:off x="5435640" y="486900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Равнобедренный треугольник 13"/>
          <p:cNvSpPr/>
          <p:nvPr/>
        </p:nvSpPr>
        <p:spPr>
          <a:xfrm>
            <a:off x="4716360" y="486900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Равнобедренный треугольник 14"/>
          <p:cNvSpPr/>
          <p:nvPr/>
        </p:nvSpPr>
        <p:spPr>
          <a:xfrm>
            <a:off x="6084720" y="4869000"/>
            <a:ext cx="64800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Равнобедренный треугольник 15"/>
          <p:cNvSpPr/>
          <p:nvPr/>
        </p:nvSpPr>
        <p:spPr>
          <a:xfrm>
            <a:off x="4067280" y="486900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Равнобедренный треугольник 16"/>
          <p:cNvSpPr/>
          <p:nvPr/>
        </p:nvSpPr>
        <p:spPr>
          <a:xfrm>
            <a:off x="5106960" y="551664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оставления синквейн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15" descr="C:\Users\HOTREIN\Desktop\схема.JPG"/>
          <p:cNvPicPr/>
          <p:nvPr/>
        </p:nvPicPr>
        <p:blipFill>
          <a:blip r:embed="rId1"/>
          <a:stretch/>
        </p:blipFill>
        <p:spPr>
          <a:xfrm>
            <a:off x="1903320" y="1981080"/>
            <a:ext cx="5870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имеры синквейн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ля закрепления изученной лексической темы «Деревья»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ябин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онкая, кудрява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Растет, зеленеет, цвет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Ягоды рябины любят снегир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Дере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00000" y="404280"/>
            <a:ext cx="7710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Для закрепления понятий, усвоенных на занятиях по подготовке к обучени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рамо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Звуки реч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Гласные, согласные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лышим, произносим, выделяе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Звуки складываются в слог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спользуя слова из синквейна, придумать рассказ.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0720"/>
            <a:ext cx="77533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Бел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ушистая, рыж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ыгает, скачет, заготавли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Белка живет в дуп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Дикое живот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лесу живет рыжий, пушистый зверек. Это белка. Жизнь у белки хлопотливая, она заготавливает себе пищу на зиму. Ловко прыгает и скачет по веткам. На большом дереве у нее дупло. Зимой диким животным жить трудно. Мы подкармливаем белку орешками, семеч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инквейн передаёт  эмоциональный настрой автора, можно сравнит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0720"/>
            <a:ext cx="76820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ень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ечная, тёпла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рит, светится, раду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арке осыпаются листь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олото!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ень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Ветреная, холодна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Дождит, шуршит, хмуритс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Люди смотрят в ок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Грус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оставление синквейна по предметной картинк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3640" y="1916280"/>
            <a:ext cx="414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6" descr="http://presentway.com/wp-content/uploads/2014/11/maxresdefault-600x337.jpg"/>
          <p:cNvPicPr/>
          <p:nvPr/>
        </p:nvPicPr>
        <p:blipFill>
          <a:blip r:embed="rId1"/>
          <a:stretch/>
        </p:blipFill>
        <p:spPr>
          <a:xfrm>
            <a:off x="4859280" y="1916280"/>
            <a:ext cx="3889440" cy="2184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900000" y="4100400"/>
            <a:ext cx="6048360" cy="2288520"/>
          </a:xfrm>
          <a:prstGeom prst="rect">
            <a:avLst/>
          </a:prstGeom>
          <a:solidFill>
            <a:srgbClr val="589aff"/>
          </a:solidFill>
          <a:ln w="9360">
            <a:solidFill>
              <a:srgbClr val="004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ен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сёлая, разноцветная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крашает, восхищает, волнует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ивое время года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асавица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1:33:17Z</dcterms:created>
  <dc:creator>User</dc:creator>
  <dc:description/>
  <dc:language>en-US</dc:language>
  <cp:lastModifiedBy>gypnorion</cp:lastModifiedBy>
  <dcterms:modified xsi:type="dcterms:W3CDTF">2016-11-08T18:28:22Z</dcterms:modified>
  <cp:revision>35</cp:revision>
  <dc:subject/>
  <dc:title>Слайд 1</dc:title>
</cp:coreProperties>
</file>