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8A3B-FA5E-418D-8153-FAA0C9BD6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7C6A-1073-49E4-95C3-00193FDD36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F7AA-E23F-4B4D-A7BC-592EAD8893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D70-6A4D-4A97-BE80-BE531196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461-14AF-4BD0-B799-3B575BAF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9AB-73C1-419A-9FEB-A52C5D71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714-9058-4156-B0E4-EF2D22EA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AA1-6DCC-4B20-9812-22EA1CDE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43B-91BE-4F80-8091-9E849B7C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F7F-942F-4D71-A988-A52244CC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732-482C-4C77-A9B3-3620C8C7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762B-9647-4157-AE8F-A1F63147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178-2B1C-481B-B9C5-3012FD34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37F-652E-492A-9917-DBE04929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18E2-0D26-4477-9B44-84ECFA6A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A5D1-34DB-483B-8673-8285E14E07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наки препинания в СПП с несколькими придаточным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000680" y="5000760"/>
            <a:ext cx="492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85840" y="214200"/>
            <a:ext cx="183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214200"/>
            <a:ext cx="8713800" cy="6383520"/>
          </a:xfrm>
          <a:prstGeom prst="rect">
            <a:avLst/>
          </a:prstGeom>
          <a:solidFill>
            <a:srgbClr val="ffffa7"/>
          </a:solidFill>
          <a:ln w="19080">
            <a:solidFill>
              <a:srgbClr val="cc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щин вспоминал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(что,  (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</a:rPr>
              <a:t>когда он приехал навестить поэ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Пушкин бурно радовался его неожиданному приезд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[    ]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(чт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 когда )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щин вспоминал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(что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</a:rPr>
              <a:t>__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</a:rPr>
              <a:t>когда он приехал навестить поэ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3200" spc="-1" strike="noStrike" u="sng">
                <a:solidFill>
                  <a:srgbClr val="cc0066"/>
                </a:solidFill>
                <a:uFillTx/>
                <a:latin typeface="Times New Roman"/>
              </a:rPr>
              <a:t> то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шкин бурно радовался его неожиданному приезд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[    ]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(что_  ( когда )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о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5"/>
          <p:cNvSpPr/>
          <p:nvPr/>
        </p:nvSpPr>
        <p:spPr>
          <a:xfrm rot="18562200">
            <a:off x="1946160" y="1787040"/>
            <a:ext cx="2089080" cy="234000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2340000"/>
              <a:gd name="textAreaBottom" fmla="*/ 2340360 h 2340000"/>
            </a:gdLst>
            <a:ahLst/>
            <a:rect l="textAreaLeft" t="textAreaTop" r="textAreaRight" b="textAreaBottom"/>
            <a:pathLst>
              <a:path fill="none" w="21600" h="27216">
                <a:moveTo>
                  <a:pt x="1598" y="0"/>
                </a:moveTo>
                <a:cubicBezTo>
                  <a:pt x="12876" y="837"/>
                  <a:pt x="21600" y="10231"/>
                  <a:pt x="21600" y="21541"/>
                </a:cubicBezTo>
                <a:cubicBezTo>
                  <a:pt x="21600" y="23457"/>
                  <a:pt x="21344" y="25366"/>
                  <a:pt x="20841" y="27216"/>
                </a:cubicBezTo>
              </a:path>
              <a:path stroke="0" w="21600" h="27216">
                <a:moveTo>
                  <a:pt x="1598" y="0"/>
                </a:moveTo>
                <a:cubicBezTo>
                  <a:pt x="12876" y="837"/>
                  <a:pt x="21600" y="10231"/>
                  <a:pt x="21600" y="21541"/>
                </a:cubicBezTo>
                <a:cubicBezTo>
                  <a:pt x="21600" y="23457"/>
                  <a:pt x="21344" y="25366"/>
                  <a:pt x="20841" y="27216"/>
                </a:cubicBezTo>
                <a:lnTo>
                  <a:pt x="0" y="21541"/>
                </a:lnTo>
                <a:lnTo>
                  <a:pt x="1598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rc 6"/>
          <p:cNvSpPr/>
          <p:nvPr/>
        </p:nvSpPr>
        <p:spPr>
          <a:xfrm rot="18944400">
            <a:off x="3492000" y="24210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rc 11"/>
          <p:cNvSpPr/>
          <p:nvPr/>
        </p:nvSpPr>
        <p:spPr>
          <a:xfrm rot="18528600">
            <a:off x="1698480" y="4546440"/>
            <a:ext cx="2260800" cy="2664000"/>
          </a:xfrm>
          <a:custGeom>
            <a:avLst/>
            <a:gdLst>
              <a:gd name="textAreaLeft" fmla="*/ 0 w 2260800"/>
              <a:gd name="textAreaRight" fmla="*/ 2261160 w 2260800"/>
              <a:gd name="textAreaTop" fmla="*/ 0 h 2664000"/>
              <a:gd name="textAreaBottom" fmla="*/ 2664360 h 2664000"/>
            </a:gdLst>
            <a:ahLst/>
            <a:rect l="textAreaLeft" t="textAreaTop" r="textAreaRight" b="textAreaBottom"/>
            <a:pathLst>
              <a:path fill="none" w="23320" h="28625">
                <a:moveTo>
                  <a:pt x="-1" y="68"/>
                </a:moveTo>
                <a:cubicBezTo>
                  <a:pt x="572" y="22"/>
                  <a:pt x="1145" y="-1"/>
                  <a:pt x="1720" y="0"/>
                </a:cubicBezTo>
                <a:cubicBezTo>
                  <a:pt x="13649" y="0"/>
                  <a:pt x="23320" y="9670"/>
                  <a:pt x="23320" y="21600"/>
                </a:cubicBezTo>
                <a:cubicBezTo>
                  <a:pt x="23320" y="23990"/>
                  <a:pt x="22923" y="26364"/>
                  <a:pt x="22145" y="28624"/>
                </a:cubicBezTo>
              </a:path>
              <a:path stroke="0" w="23320" h="28625">
                <a:moveTo>
                  <a:pt x="-1" y="68"/>
                </a:moveTo>
                <a:cubicBezTo>
                  <a:pt x="572" y="22"/>
                  <a:pt x="1145" y="-1"/>
                  <a:pt x="1720" y="0"/>
                </a:cubicBezTo>
                <a:cubicBezTo>
                  <a:pt x="13649" y="0"/>
                  <a:pt x="23320" y="9670"/>
                  <a:pt x="23320" y="21600"/>
                </a:cubicBezTo>
                <a:cubicBezTo>
                  <a:pt x="23320" y="23990"/>
                  <a:pt x="22923" y="26364"/>
                  <a:pt x="22145" y="28624"/>
                </a:cubicBezTo>
                <a:lnTo>
                  <a:pt x="1720" y="21600"/>
                </a:lnTo>
                <a:lnTo>
                  <a:pt x="-1" y="68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rc 12"/>
          <p:cNvSpPr/>
          <p:nvPr/>
        </p:nvSpPr>
        <p:spPr>
          <a:xfrm rot="18933600">
            <a:off x="3708000" y="544464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Times New Roman"/>
              </a:rPr>
              <a:t>Домашнее задание</a:t>
            </a:r>
            <a:r>
              <a:rPr b="0" lang="ru-RU" sz="3600" spc="-1" strike="noStrike">
                <a:solidFill>
                  <a:srgbClr val="cc00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19080">
            <a:solidFill>
              <a:srgbClr val="cc0066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ь параграф №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ить упр. № 135 ( 4-8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делать схемы СПП, указать вид подчинения и тип придаточных пред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Сложноподчинённое предложение с несколькими придаточны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Цели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Закрепить знания классификации СПП с несколькими придаточны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Показать особенности пунктуации таких предлож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Продолжить отработку пунктуацио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выков в СПП данной струк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imes New Roman"/>
              </a:rPr>
              <a:t>Виды подчин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920" y="1557000"/>
            <a:ext cx="8316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Однородное             Параллельное        Последов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     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(     )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    ).         (     )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     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(     ).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    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(    ), (    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знаю, что скоро           Когда наступит весна,           Я услышу, как зап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ступит  весна, что        я услышу, как запоют           ют птицы, что жив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тицы начнут песни        птицы.                                     у меня за ок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rc 7"/>
          <p:cNvSpPr/>
          <p:nvPr/>
        </p:nvSpPr>
        <p:spPr>
          <a:xfrm rot="19645200">
            <a:off x="3634920" y="2708280"/>
            <a:ext cx="720720" cy="909720"/>
          </a:xfrm>
          <a:custGeom>
            <a:avLst/>
            <a:gdLst>
              <a:gd name="textAreaLeft" fmla="*/ 0 w 720720"/>
              <a:gd name="textAreaRight" fmla="*/ 720720 w 72072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fill="none" w="18451" h="21487">
                <a:moveTo>
                  <a:pt x="2205" y="-1"/>
                </a:moveTo>
                <a:cubicBezTo>
                  <a:pt x="8926" y="689"/>
                  <a:pt x="14938" y="4485"/>
                  <a:pt x="18451" y="10256"/>
                </a:cubicBezTo>
              </a:path>
              <a:path stroke="0" w="18451" h="21487">
                <a:moveTo>
                  <a:pt x="2205" y="-1"/>
                </a:moveTo>
                <a:cubicBezTo>
                  <a:pt x="8926" y="689"/>
                  <a:pt x="14938" y="4485"/>
                  <a:pt x="18451" y="10256"/>
                </a:cubicBezTo>
                <a:lnTo>
                  <a:pt x="0" y="21487"/>
                </a:lnTo>
                <a:lnTo>
                  <a:pt x="2205" y="-1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rc 8"/>
          <p:cNvSpPr/>
          <p:nvPr/>
        </p:nvSpPr>
        <p:spPr>
          <a:xfrm rot="20784000">
            <a:off x="4427640" y="2781360"/>
            <a:ext cx="868320" cy="539640"/>
          </a:xfrm>
          <a:custGeom>
            <a:avLst/>
            <a:gdLst>
              <a:gd name="textAreaLeft" fmla="*/ 0 w 868320"/>
              <a:gd name="textAreaRight" fmla="*/ 868680 w 8683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fill="none" w="28951" h="21600">
                <a:moveTo>
                  <a:pt x="-1" y="2244"/>
                </a:moveTo>
                <a:cubicBezTo>
                  <a:pt x="2980" y="768"/>
                  <a:pt x="6261" y="-1"/>
                  <a:pt x="9588" y="0"/>
                </a:cubicBezTo>
                <a:cubicBezTo>
                  <a:pt x="17804" y="0"/>
                  <a:pt x="25309" y="4661"/>
                  <a:pt x="28951" y="12027"/>
                </a:cubicBezTo>
              </a:path>
              <a:path stroke="0" w="28951" h="21600">
                <a:moveTo>
                  <a:pt x="-1" y="2244"/>
                </a:moveTo>
                <a:cubicBezTo>
                  <a:pt x="2980" y="768"/>
                  <a:pt x="6261" y="-1"/>
                  <a:pt x="9588" y="0"/>
                </a:cubicBezTo>
                <a:cubicBezTo>
                  <a:pt x="17804" y="0"/>
                  <a:pt x="25309" y="4661"/>
                  <a:pt x="28951" y="12027"/>
                </a:cubicBezTo>
                <a:lnTo>
                  <a:pt x="9588" y="21600"/>
                </a:lnTo>
                <a:lnTo>
                  <a:pt x="-1" y="2244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rc 9"/>
          <p:cNvSpPr/>
          <p:nvPr/>
        </p:nvSpPr>
        <p:spPr>
          <a:xfrm rot="19000800">
            <a:off x="6516360" y="2852280"/>
            <a:ext cx="866880" cy="677880"/>
          </a:xfrm>
          <a:custGeom>
            <a:avLst/>
            <a:gdLst>
              <a:gd name="textAreaLeft" fmla="*/ 0 w 866880"/>
              <a:gd name="textAreaRight" fmla="*/ 867240 w 86688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fill="none" w="20462" h="20132">
                <a:moveTo>
                  <a:pt x="7826" y="-1"/>
                </a:moveTo>
                <a:cubicBezTo>
                  <a:pt x="13786" y="2316"/>
                  <a:pt x="18413" y="7155"/>
                  <a:pt x="20461" y="13213"/>
                </a:cubicBezTo>
              </a:path>
              <a:path stroke="0" w="20462" h="20132">
                <a:moveTo>
                  <a:pt x="7826" y="-1"/>
                </a:moveTo>
                <a:cubicBezTo>
                  <a:pt x="13786" y="2316"/>
                  <a:pt x="18413" y="7155"/>
                  <a:pt x="20461" y="13213"/>
                </a:cubicBezTo>
                <a:lnTo>
                  <a:pt x="0" y="20132"/>
                </a:lnTo>
                <a:lnTo>
                  <a:pt x="7826" y="-1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rc 10"/>
          <p:cNvSpPr/>
          <p:nvPr/>
        </p:nvSpPr>
        <p:spPr>
          <a:xfrm rot="20060400">
            <a:off x="7602480" y="2817720"/>
            <a:ext cx="574560" cy="914400"/>
          </a:xfrm>
          <a:custGeom>
            <a:avLst/>
            <a:gdLst>
              <a:gd name="textAreaLeft" fmla="*/ 0 w 574560"/>
              <a:gd name="textAreaRight" fmla="*/ 574920 w 574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16472" h="21600">
                <a:moveTo>
                  <a:pt x="0" y="0"/>
                </a:moveTo>
                <a:cubicBezTo>
                  <a:pt x="14" y="0"/>
                  <a:pt x="28" y="-1"/>
                  <a:pt x="42" y="0"/>
                </a:cubicBezTo>
                <a:cubicBezTo>
                  <a:pt x="6363" y="0"/>
                  <a:pt x="12368" y="2769"/>
                  <a:pt x="16472" y="7578"/>
                </a:cubicBezTo>
              </a:path>
              <a:path stroke="0" w="16472" h="21600">
                <a:moveTo>
                  <a:pt x="0" y="0"/>
                </a:moveTo>
                <a:cubicBezTo>
                  <a:pt x="14" y="0"/>
                  <a:pt x="28" y="-1"/>
                  <a:pt x="42" y="0"/>
                </a:cubicBezTo>
                <a:cubicBezTo>
                  <a:pt x="6363" y="0"/>
                  <a:pt x="12368" y="2769"/>
                  <a:pt x="16472" y="7578"/>
                </a:cubicBezTo>
                <a:lnTo>
                  <a:pt x="42" y="21600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rc 11"/>
          <p:cNvSpPr/>
          <p:nvPr/>
        </p:nvSpPr>
        <p:spPr>
          <a:xfrm rot="18765000">
            <a:off x="1071720" y="2465280"/>
            <a:ext cx="924120" cy="1123920"/>
          </a:xfrm>
          <a:custGeom>
            <a:avLst/>
            <a:gdLst>
              <a:gd name="textAreaLeft" fmla="*/ 0 w 924120"/>
              <a:gd name="textAreaRight" fmla="*/ 924480 w 92412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fill="none" w="21821" h="26563">
                <a:moveTo>
                  <a:pt x="0" y="1"/>
                </a:moveTo>
                <a:cubicBezTo>
                  <a:pt x="73" y="0"/>
                  <a:pt x="147" y="-1"/>
                  <a:pt x="221" y="0"/>
                </a:cubicBezTo>
                <a:cubicBezTo>
                  <a:pt x="12150" y="0"/>
                  <a:pt x="21821" y="9670"/>
                  <a:pt x="21821" y="21600"/>
                </a:cubicBezTo>
                <a:cubicBezTo>
                  <a:pt x="21821" y="23271"/>
                  <a:pt x="21627" y="24936"/>
                  <a:pt x="21243" y="26563"/>
                </a:cubicBezTo>
              </a:path>
              <a:path stroke="0" w="21821" h="26563">
                <a:moveTo>
                  <a:pt x="0" y="1"/>
                </a:moveTo>
                <a:cubicBezTo>
                  <a:pt x="73" y="0"/>
                  <a:pt x="147" y="-1"/>
                  <a:pt x="221" y="0"/>
                </a:cubicBezTo>
                <a:cubicBezTo>
                  <a:pt x="12150" y="0"/>
                  <a:pt x="21821" y="9670"/>
                  <a:pt x="21821" y="21600"/>
                </a:cubicBezTo>
                <a:cubicBezTo>
                  <a:pt x="21821" y="23271"/>
                  <a:pt x="21627" y="24936"/>
                  <a:pt x="21243" y="26563"/>
                </a:cubicBezTo>
                <a:lnTo>
                  <a:pt x="221" y="21600"/>
                </a:lnTo>
                <a:lnTo>
                  <a:pt x="0" y="1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rc 12"/>
          <p:cNvSpPr/>
          <p:nvPr/>
        </p:nvSpPr>
        <p:spPr>
          <a:xfrm rot="17711400">
            <a:off x="384120" y="2856960"/>
            <a:ext cx="1058760" cy="7891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fill="none" w="21600" h="18609">
                <a:moveTo>
                  <a:pt x="13850" y="-1"/>
                </a:moveTo>
                <a:cubicBezTo>
                  <a:pt x="18761" y="4103"/>
                  <a:pt x="21600" y="10174"/>
                  <a:pt x="21600" y="16575"/>
                </a:cubicBezTo>
                <a:cubicBezTo>
                  <a:pt x="21600" y="17254"/>
                  <a:pt x="21567" y="17932"/>
                  <a:pt x="21504" y="18609"/>
                </a:cubicBezTo>
              </a:path>
              <a:path stroke="0" w="21600" h="18609">
                <a:moveTo>
                  <a:pt x="13850" y="-1"/>
                </a:moveTo>
                <a:cubicBezTo>
                  <a:pt x="18761" y="4103"/>
                  <a:pt x="21600" y="10174"/>
                  <a:pt x="21600" y="16575"/>
                </a:cubicBezTo>
                <a:cubicBezTo>
                  <a:pt x="21600" y="17254"/>
                  <a:pt x="21567" y="17932"/>
                  <a:pt x="21504" y="18609"/>
                </a:cubicBezTo>
                <a:lnTo>
                  <a:pt x="0" y="16575"/>
                </a:lnTo>
                <a:lnTo>
                  <a:pt x="13850" y="-1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179280" y="115920"/>
            <a:ext cx="8856720" cy="6626160"/>
          </a:xfrm>
          <a:prstGeom prst="rect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00880"/>
          </a:xfrm>
          <a:prstGeom prst="rect">
            <a:avLst/>
          </a:prstGeom>
          <a:noFill/>
          <a:ln w="38160">
            <a:solidFill>
              <a:srgbClr val="cc0066"/>
            </a:solidFill>
            <a:miter/>
          </a:ln>
        </p:spPr>
        <p:txBody>
          <a:bodyPr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По схеме определите виды подчинения в пред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[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, (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) ,   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]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 (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, (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) ,   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]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 (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.    (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) , 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[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]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 (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), (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    (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),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), </a:t>
            </a: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[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, (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) ,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]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, (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rc 6"/>
          <p:cNvSpPr/>
          <p:nvPr/>
        </p:nvSpPr>
        <p:spPr>
          <a:xfrm rot="18681000">
            <a:off x="3423240" y="1265760"/>
            <a:ext cx="807840" cy="669960"/>
          </a:xfrm>
          <a:custGeom>
            <a:avLst/>
            <a:gdLst>
              <a:gd name="textAreaLeft" fmla="*/ 0 w 807840"/>
              <a:gd name="textAreaRight" fmla="*/ 808200 w 80784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fill="none" w="21600" h="20621">
                <a:moveTo>
                  <a:pt x="6429" y="-1"/>
                </a:moveTo>
                <a:cubicBezTo>
                  <a:pt x="15453" y="2813"/>
                  <a:pt x="21600" y="11168"/>
                  <a:pt x="21600" y="20621"/>
                </a:cubicBezTo>
              </a:path>
              <a:path stroke="0" w="21600" h="20621">
                <a:moveTo>
                  <a:pt x="6429" y="-1"/>
                </a:moveTo>
                <a:cubicBezTo>
                  <a:pt x="15453" y="2813"/>
                  <a:pt x="21600" y="11168"/>
                  <a:pt x="21600" y="20621"/>
                </a:cubicBezTo>
                <a:lnTo>
                  <a:pt x="0" y="20621"/>
                </a:lnTo>
                <a:lnTo>
                  <a:pt x="6429" y="-1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rc 7"/>
          <p:cNvSpPr/>
          <p:nvPr/>
        </p:nvSpPr>
        <p:spPr>
          <a:xfrm rot="19731000">
            <a:off x="4594320" y="1207800"/>
            <a:ext cx="1444680" cy="62712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fill="none" w="35683" h="30771">
                <a:moveTo>
                  <a:pt x="0" y="5222"/>
                </a:moveTo>
                <a:cubicBezTo>
                  <a:pt x="3918" y="1852"/>
                  <a:pt x="8915" y="-1"/>
                  <a:pt x="14083" y="0"/>
                </a:cubicBezTo>
                <a:cubicBezTo>
                  <a:pt x="26012" y="0"/>
                  <a:pt x="35683" y="9670"/>
                  <a:pt x="35683" y="21600"/>
                </a:cubicBezTo>
                <a:cubicBezTo>
                  <a:pt x="35683" y="24769"/>
                  <a:pt x="34985" y="27901"/>
                  <a:pt x="33639" y="30771"/>
                </a:cubicBezTo>
              </a:path>
              <a:path stroke="0" w="35683" h="30771">
                <a:moveTo>
                  <a:pt x="0" y="5222"/>
                </a:moveTo>
                <a:cubicBezTo>
                  <a:pt x="3918" y="1852"/>
                  <a:pt x="8915" y="-1"/>
                  <a:pt x="14083" y="0"/>
                </a:cubicBezTo>
                <a:cubicBezTo>
                  <a:pt x="26012" y="0"/>
                  <a:pt x="35683" y="9670"/>
                  <a:pt x="35683" y="21600"/>
                </a:cubicBezTo>
                <a:cubicBezTo>
                  <a:pt x="35683" y="24769"/>
                  <a:pt x="34985" y="27901"/>
                  <a:pt x="33639" y="30771"/>
                </a:cubicBezTo>
                <a:lnTo>
                  <a:pt x="14083" y="21600"/>
                </a:lnTo>
                <a:lnTo>
                  <a:pt x="0" y="5222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rc 14"/>
          <p:cNvSpPr/>
          <p:nvPr/>
        </p:nvSpPr>
        <p:spPr>
          <a:xfrm flipV="1" rot="11887200">
            <a:off x="3779280" y="2781000"/>
            <a:ext cx="795240" cy="506520"/>
          </a:xfrm>
          <a:custGeom>
            <a:avLst/>
            <a:gdLst>
              <a:gd name="textAreaLeft" fmla="*/ 0 w 795240"/>
              <a:gd name="textAreaRight" fmla="*/ 795600 w 795240"/>
              <a:gd name="textAreaTop" fmla="*/ 0 h 506520"/>
              <a:gd name="textAreaBottom" fmla="*/ 506520 h 506520"/>
            </a:gdLst>
            <a:ahLst/>
            <a:rect l="textAreaLeft" t="textAreaTop" r="textAreaRight" b="textAreaBottom"/>
            <a:pathLst>
              <a:path fill="none" w="32243" h="21600">
                <a:moveTo>
                  <a:pt x="-1" y="3443"/>
                </a:moveTo>
                <a:cubicBezTo>
                  <a:pt x="3488" y="1195"/>
                  <a:pt x="7550" y="-1"/>
                  <a:pt x="11701" y="0"/>
                </a:cubicBezTo>
                <a:cubicBezTo>
                  <a:pt x="21057" y="0"/>
                  <a:pt x="29350" y="6024"/>
                  <a:pt x="32243" y="14922"/>
                </a:cubicBezTo>
              </a:path>
              <a:path stroke="0" w="32243" h="21600">
                <a:moveTo>
                  <a:pt x="-1" y="3443"/>
                </a:moveTo>
                <a:cubicBezTo>
                  <a:pt x="3488" y="1195"/>
                  <a:pt x="7550" y="-1"/>
                  <a:pt x="11701" y="0"/>
                </a:cubicBezTo>
                <a:cubicBezTo>
                  <a:pt x="21057" y="0"/>
                  <a:pt x="29350" y="6024"/>
                  <a:pt x="32243" y="14922"/>
                </a:cubicBezTo>
                <a:lnTo>
                  <a:pt x="11701" y="21600"/>
                </a:lnTo>
                <a:lnTo>
                  <a:pt x="-1" y="34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rc 18"/>
          <p:cNvSpPr/>
          <p:nvPr/>
        </p:nvSpPr>
        <p:spPr>
          <a:xfrm rot="18686400">
            <a:off x="5472360" y="2671200"/>
            <a:ext cx="647640" cy="720720"/>
          </a:xfrm>
          <a:custGeom>
            <a:avLst/>
            <a:gdLst>
              <a:gd name="textAreaLeft" fmla="*/ 0 w 647640"/>
              <a:gd name="textAreaRight" fmla="*/ 648000 w 6476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rc 20"/>
          <p:cNvSpPr/>
          <p:nvPr/>
        </p:nvSpPr>
        <p:spPr>
          <a:xfrm rot="19028400">
            <a:off x="4067280" y="4005000"/>
            <a:ext cx="785880" cy="863640"/>
          </a:xfrm>
          <a:custGeom>
            <a:avLst/>
            <a:gdLst>
              <a:gd name="textAreaLeft" fmla="*/ 0 w 785880"/>
              <a:gd name="textAreaRight" fmla="*/ 786240 w 7858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21423" h="21600">
                <a:moveTo>
                  <a:pt x="-1" y="0"/>
                </a:moveTo>
                <a:cubicBezTo>
                  <a:pt x="10862" y="0"/>
                  <a:pt x="20034" y="8066"/>
                  <a:pt x="21422" y="18840"/>
                </a:cubicBezTo>
              </a:path>
              <a:path stroke="0" w="21423" h="21600">
                <a:moveTo>
                  <a:pt x="-1" y="0"/>
                </a:moveTo>
                <a:cubicBezTo>
                  <a:pt x="10862" y="0"/>
                  <a:pt x="20034" y="8066"/>
                  <a:pt x="21422" y="1884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rc 21"/>
          <p:cNvSpPr/>
          <p:nvPr/>
        </p:nvSpPr>
        <p:spPr>
          <a:xfrm flipV="1" rot="12822000">
            <a:off x="5435280" y="4076280"/>
            <a:ext cx="863640" cy="658440"/>
          </a:xfrm>
          <a:custGeom>
            <a:avLst/>
            <a:gdLst>
              <a:gd name="textAreaLeft" fmla="*/ 0 w 863640"/>
              <a:gd name="textAreaRight" fmla="*/ 864000 w 863640"/>
              <a:gd name="textAreaTop" fmla="*/ -360 h 658440"/>
              <a:gd name="textAreaBottom" fmla="*/ 658440 h 658440"/>
            </a:gdLst>
            <a:ahLst/>
            <a:rect l="textAreaLeft" t="textAreaTop" r="textAreaRight" b="textAreaBottom"/>
            <a:pathLst>
              <a:path fill="none" w="30978" h="21600">
                <a:moveTo>
                  <a:pt x="0" y="2155"/>
                </a:moveTo>
                <a:cubicBezTo>
                  <a:pt x="2932" y="736"/>
                  <a:pt x="6147" y="-1"/>
                  <a:pt x="9405" y="0"/>
                </a:cubicBezTo>
                <a:cubicBezTo>
                  <a:pt x="20914" y="0"/>
                  <a:pt x="30403" y="9025"/>
                  <a:pt x="30978" y="20520"/>
                </a:cubicBezTo>
              </a:path>
              <a:path stroke="0" w="30978" h="21600">
                <a:moveTo>
                  <a:pt x="0" y="2155"/>
                </a:moveTo>
                <a:cubicBezTo>
                  <a:pt x="2932" y="736"/>
                  <a:pt x="6147" y="-1"/>
                  <a:pt x="9405" y="0"/>
                </a:cubicBezTo>
                <a:cubicBezTo>
                  <a:pt x="20914" y="0"/>
                  <a:pt x="30403" y="9025"/>
                  <a:pt x="30978" y="20520"/>
                </a:cubicBezTo>
                <a:lnTo>
                  <a:pt x="9405" y="21600"/>
                </a:lnTo>
                <a:lnTo>
                  <a:pt x="0" y="2155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rc 22"/>
          <p:cNvSpPr/>
          <p:nvPr/>
        </p:nvSpPr>
        <p:spPr>
          <a:xfrm flipV="1" rot="14382000">
            <a:off x="5757480" y="3539160"/>
            <a:ext cx="1008360" cy="1795680"/>
          </a:xfrm>
          <a:custGeom>
            <a:avLst/>
            <a:gdLst>
              <a:gd name="textAreaLeft" fmla="*/ 0 w 1008360"/>
              <a:gd name="textAreaRight" fmla="*/ 1008720 w 1008360"/>
              <a:gd name="textAreaTop" fmla="*/ 360 h 1795680"/>
              <a:gd name="textAreaBottom" fmla="*/ 1796400 h 1795680"/>
            </a:gdLst>
            <a:ahLst/>
            <a:rect l="textAreaLeft" t="textAreaTop" r="textAreaRight" b="textAreaBottom"/>
            <a:pathLst>
              <a:path fill="none" w="24027" h="21600">
                <a:moveTo>
                  <a:pt x="-1" y="141"/>
                </a:moveTo>
                <a:cubicBezTo>
                  <a:pt x="819" y="47"/>
                  <a:pt x="1643" y="-1"/>
                  <a:pt x="2469" y="0"/>
                </a:cubicBezTo>
                <a:cubicBezTo>
                  <a:pt x="13877" y="0"/>
                  <a:pt x="23319" y="8872"/>
                  <a:pt x="24027" y="20258"/>
                </a:cubicBezTo>
              </a:path>
              <a:path stroke="0" w="24027" h="21600">
                <a:moveTo>
                  <a:pt x="-1" y="141"/>
                </a:moveTo>
                <a:cubicBezTo>
                  <a:pt x="819" y="47"/>
                  <a:pt x="1643" y="-1"/>
                  <a:pt x="2469" y="0"/>
                </a:cubicBezTo>
                <a:cubicBezTo>
                  <a:pt x="13877" y="0"/>
                  <a:pt x="23319" y="8872"/>
                  <a:pt x="24027" y="20258"/>
                </a:cubicBezTo>
                <a:lnTo>
                  <a:pt x="2469" y="21600"/>
                </a:lnTo>
                <a:lnTo>
                  <a:pt x="-1" y="141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rc 25"/>
          <p:cNvSpPr/>
          <p:nvPr/>
        </p:nvSpPr>
        <p:spPr>
          <a:xfrm rot="19155600">
            <a:off x="5866920" y="5516280"/>
            <a:ext cx="600120" cy="874800"/>
          </a:xfrm>
          <a:custGeom>
            <a:avLst/>
            <a:gdLst>
              <a:gd name="textAreaLeft" fmla="*/ 0 w 600120"/>
              <a:gd name="textAreaRight" fmla="*/ 600480 w 60012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fill="none" w="20011" h="21600">
                <a:moveTo>
                  <a:pt x="-1" y="0"/>
                </a:moveTo>
                <a:cubicBezTo>
                  <a:pt x="8789" y="0"/>
                  <a:pt x="16702" y="5325"/>
                  <a:pt x="20011" y="13468"/>
                </a:cubicBezTo>
              </a:path>
              <a:path stroke="0" w="20011" h="21600">
                <a:moveTo>
                  <a:pt x="-1" y="0"/>
                </a:moveTo>
                <a:cubicBezTo>
                  <a:pt x="8789" y="0"/>
                  <a:pt x="16702" y="5325"/>
                  <a:pt x="20011" y="1346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rc 35"/>
          <p:cNvSpPr/>
          <p:nvPr/>
        </p:nvSpPr>
        <p:spPr>
          <a:xfrm rot="20685600">
            <a:off x="3851280" y="5300640"/>
            <a:ext cx="1695600" cy="914400"/>
          </a:xfrm>
          <a:custGeom>
            <a:avLst/>
            <a:gdLst>
              <a:gd name="textAreaLeft" fmla="*/ 0 w 1695600"/>
              <a:gd name="textAreaRight" fmla="*/ 1695960 w 16956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40054" h="21600">
                <a:moveTo>
                  <a:pt x="-1" y="10374"/>
                </a:moveTo>
                <a:cubicBezTo>
                  <a:pt x="3918" y="3932"/>
                  <a:pt x="10913" y="-1"/>
                  <a:pt x="18454" y="0"/>
                </a:cubicBezTo>
                <a:cubicBezTo>
                  <a:pt x="30383" y="0"/>
                  <a:pt x="40054" y="9670"/>
                  <a:pt x="40054" y="21600"/>
                </a:cubicBezTo>
              </a:path>
              <a:path stroke="0" w="40054" h="21600">
                <a:moveTo>
                  <a:pt x="-1" y="10374"/>
                </a:moveTo>
                <a:cubicBezTo>
                  <a:pt x="3918" y="3932"/>
                  <a:pt x="10913" y="-1"/>
                  <a:pt x="18454" y="0"/>
                </a:cubicBezTo>
                <a:cubicBezTo>
                  <a:pt x="30383" y="0"/>
                  <a:pt x="40054" y="9670"/>
                  <a:pt x="40054" y="21600"/>
                </a:cubicBezTo>
                <a:lnTo>
                  <a:pt x="18454" y="21600"/>
                </a:lnTo>
                <a:lnTo>
                  <a:pt x="-1" y="10374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rc 36"/>
          <p:cNvSpPr/>
          <p:nvPr/>
        </p:nvSpPr>
        <p:spPr>
          <a:xfrm rot="19239000">
            <a:off x="7029360" y="5435280"/>
            <a:ext cx="895320" cy="914400"/>
          </a:xfrm>
          <a:custGeom>
            <a:avLst/>
            <a:gdLst>
              <a:gd name="textAreaLeft" fmla="*/ 0 w 895320"/>
              <a:gd name="textAreaRight" fmla="*/ 895680 w 8953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144" h="21600">
                <a:moveTo>
                  <a:pt x="-1" y="0"/>
                </a:moveTo>
                <a:cubicBezTo>
                  <a:pt x="10227" y="0"/>
                  <a:pt x="19052" y="7172"/>
                  <a:pt x="21143" y="17184"/>
                </a:cubicBezTo>
              </a:path>
              <a:path stroke="0" w="21144" h="21600">
                <a:moveTo>
                  <a:pt x="-1" y="0"/>
                </a:moveTo>
                <a:cubicBezTo>
                  <a:pt x="10227" y="0"/>
                  <a:pt x="19052" y="7172"/>
                  <a:pt x="21143" y="1718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rc 37"/>
          <p:cNvSpPr/>
          <p:nvPr/>
        </p:nvSpPr>
        <p:spPr>
          <a:xfrm rot="19517400">
            <a:off x="3924000" y="5516640"/>
            <a:ext cx="888840" cy="914400"/>
          </a:xfrm>
          <a:custGeom>
            <a:avLst/>
            <a:gdLst>
              <a:gd name="textAreaLeft" fmla="*/ 0 w 888840"/>
              <a:gd name="textAreaRight" fmla="*/ 889200 w 888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0990" h="21600">
                <a:moveTo>
                  <a:pt x="-1" y="0"/>
                </a:moveTo>
                <a:cubicBezTo>
                  <a:pt x="9965" y="0"/>
                  <a:pt x="18637" y="6817"/>
                  <a:pt x="20989" y="16501"/>
                </a:cubicBezTo>
              </a:path>
              <a:path stroke="0" w="20990" h="21600">
                <a:moveTo>
                  <a:pt x="-1" y="0"/>
                </a:moveTo>
                <a:cubicBezTo>
                  <a:pt x="9965" y="0"/>
                  <a:pt x="18637" y="6817"/>
                  <a:pt x="20989" y="1650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71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solidFill>
            <a:srgbClr val="ffffa7"/>
          </a:solidFill>
          <a:ln w="19080">
            <a:solidFill>
              <a:srgbClr val="cc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Укажите, какая из схем соответствует предложению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 задумался так, что даже не заметил, как село солнце, как стало смерк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так</a:t>
            </a:r>
            <a:r>
              <a:rPr b="0" lang="ru-RU" sz="36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( что ), ( как ), ( как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[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а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( что ), ( как ), ( как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та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( что ), ( как ), ( как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rc 5"/>
          <p:cNvSpPr/>
          <p:nvPr/>
        </p:nvSpPr>
        <p:spPr>
          <a:xfrm rot="18692400">
            <a:off x="2268000" y="27079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rc 6"/>
          <p:cNvSpPr/>
          <p:nvPr/>
        </p:nvSpPr>
        <p:spPr>
          <a:xfrm rot="18933600">
            <a:off x="3779640" y="27079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rc 8"/>
          <p:cNvSpPr/>
          <p:nvPr/>
        </p:nvSpPr>
        <p:spPr>
          <a:xfrm rot="20010000">
            <a:off x="3719160" y="2612880"/>
            <a:ext cx="2232000" cy="9144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rc 9"/>
          <p:cNvSpPr/>
          <p:nvPr/>
        </p:nvSpPr>
        <p:spPr>
          <a:xfrm rot="18722400">
            <a:off x="2307240" y="3916800"/>
            <a:ext cx="914400" cy="1017720"/>
          </a:xfrm>
          <a:custGeom>
            <a:avLst/>
            <a:gdLst>
              <a:gd name="textAreaLeft" fmla="*/ 0 w 914400"/>
              <a:gd name="textAreaRight" fmla="*/ 914760 w 914400"/>
              <a:gd name="textAreaTop" fmla="*/ 0 h 1017720"/>
              <a:gd name="textAreaBottom" fmla="*/ 1018080 h 1017720"/>
            </a:gdLst>
            <a:ahLst/>
            <a:rect l="textAreaLeft" t="textAreaTop" r="textAreaRight" b="textAreaBottom"/>
            <a:pathLst>
              <a:path fill="none" w="21600" h="2404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17"/>
                  <a:pt x="21553" y="23233"/>
                  <a:pt x="21461" y="24046"/>
                </a:cubicBezTo>
              </a:path>
              <a:path stroke="0" w="21600" h="2404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17"/>
                  <a:pt x="21553" y="23233"/>
                  <a:pt x="21461" y="2404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rc 10"/>
          <p:cNvSpPr/>
          <p:nvPr/>
        </p:nvSpPr>
        <p:spPr>
          <a:xfrm rot="18722400">
            <a:off x="3840840" y="3906000"/>
            <a:ext cx="914400" cy="1077840"/>
          </a:xfrm>
          <a:custGeom>
            <a:avLst/>
            <a:gdLst>
              <a:gd name="textAreaLeft" fmla="*/ 0 w 914400"/>
              <a:gd name="textAreaRight" fmla="*/ 914760 w 91440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fill="none" w="21600" h="2545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891"/>
                  <a:pt x="21484" y="24179"/>
                  <a:pt x="21254" y="25450"/>
                </a:cubicBezTo>
              </a:path>
              <a:path stroke="0" w="21600" h="2545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891"/>
                  <a:pt x="21484" y="24179"/>
                  <a:pt x="21254" y="2545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rc 11"/>
          <p:cNvSpPr/>
          <p:nvPr/>
        </p:nvSpPr>
        <p:spPr>
          <a:xfrm rot="18900000">
            <a:off x="5292720" y="39337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rc 12"/>
          <p:cNvSpPr/>
          <p:nvPr/>
        </p:nvSpPr>
        <p:spPr>
          <a:xfrm rot="19039200">
            <a:off x="2339640" y="530028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rc 13"/>
          <p:cNvSpPr/>
          <p:nvPr/>
        </p:nvSpPr>
        <p:spPr>
          <a:xfrm rot="17873400">
            <a:off x="2931120" y="4567680"/>
            <a:ext cx="1058760" cy="234324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343240"/>
              <a:gd name="textAreaBottom" fmla="*/ 2343600 h 23432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rc 14"/>
          <p:cNvSpPr/>
          <p:nvPr/>
        </p:nvSpPr>
        <p:spPr>
          <a:xfrm rot="19254000">
            <a:off x="2771280" y="4292640"/>
            <a:ext cx="3060720" cy="330372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3303720"/>
              <a:gd name="textAreaBottom" fmla="*/ 3304080 h 3303720"/>
            </a:gdLst>
            <a:ahLst/>
            <a:rect l="textAreaLeft" t="textAreaTop" r="textAreaRight" b="textAreaBottom"/>
            <a:pathLst>
              <a:path fill="none" w="21216" h="21600">
                <a:moveTo>
                  <a:pt x="-1" y="0"/>
                </a:moveTo>
                <a:cubicBezTo>
                  <a:pt x="10366" y="0"/>
                  <a:pt x="19271" y="7365"/>
                  <a:pt x="21216" y="17547"/>
                </a:cubicBezTo>
              </a:path>
              <a:path stroke="0" w="21216" h="21600">
                <a:moveTo>
                  <a:pt x="-1" y="0"/>
                </a:moveTo>
                <a:cubicBezTo>
                  <a:pt x="10366" y="0"/>
                  <a:pt x="19271" y="7365"/>
                  <a:pt x="21216" y="1754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6335640"/>
          </a:xfrm>
          <a:prstGeom prst="rect">
            <a:avLst/>
          </a:prstGeom>
          <a:solidFill>
            <a:srgbClr val="ffffa7"/>
          </a:solidFill>
          <a:ln w="19080">
            <a:solidFill>
              <a:srgbClr val="cc0066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оставить схему предложения, указать вид подчинения придаточ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сли бы каждый человек на куске земли своей сделал всё, что он может, как прекрасна была бы земля наш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наки препинания при однородных членах              </a:t>
            </a:r>
            <a:br>
              <a:rPr sz="2800"/>
            </a:br>
            <a:r>
              <a:rPr b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                                                               предложения</a:t>
            </a: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5480" y="1071360"/>
            <a:ext cx="8358120" cy="5500440"/>
          </a:xfrm>
          <a:prstGeom prst="rect">
            <a:avLst/>
          </a:prstGeom>
          <a:noFill/>
          <a:ln w="12600">
            <a:solidFill>
              <a:srgbClr val="cc0066"/>
            </a:solidFill>
            <a:miter/>
          </a:ln>
        </p:spPr>
        <p:txBody>
          <a:bodyPr anchor="t">
            <a:normAutofit fontScale="91000"/>
          </a:bodyPr>
          <a:p>
            <a:pPr marL="55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       ,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         , н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         , 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        ,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"/>
          <p:cNvSpPr/>
          <p:nvPr/>
        </p:nvSpPr>
        <p:spPr>
          <a:xfrm>
            <a:off x="1143000" y="1785960"/>
            <a:ext cx="662040" cy="662040"/>
          </a:xfrm>
          <a:prstGeom prst="ellipse">
            <a:avLst/>
          </a:prstGeom>
          <a:solidFill>
            <a:srgbClr val="9933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5"/>
          <p:cNvSpPr/>
          <p:nvPr/>
        </p:nvSpPr>
        <p:spPr>
          <a:xfrm>
            <a:off x="2357280" y="1785960"/>
            <a:ext cx="662040" cy="662040"/>
          </a:xfrm>
          <a:prstGeom prst="ellipse">
            <a:avLst/>
          </a:prstGeom>
          <a:solidFill>
            <a:srgbClr val="9933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6"/>
          <p:cNvSpPr/>
          <p:nvPr/>
        </p:nvSpPr>
        <p:spPr>
          <a:xfrm>
            <a:off x="3357720" y="1785960"/>
            <a:ext cx="661680" cy="662040"/>
          </a:xfrm>
          <a:prstGeom prst="ellipse">
            <a:avLst/>
          </a:prstGeom>
          <a:solidFill>
            <a:srgbClr val="9933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7"/>
          <p:cNvSpPr/>
          <p:nvPr/>
        </p:nvSpPr>
        <p:spPr>
          <a:xfrm>
            <a:off x="1071720" y="3071880"/>
            <a:ext cx="661680" cy="662040"/>
          </a:xfrm>
          <a:prstGeom prst="ellipse">
            <a:avLst/>
          </a:prstGeom>
          <a:solidFill>
            <a:srgbClr val="9933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8"/>
          <p:cNvSpPr/>
          <p:nvPr/>
        </p:nvSpPr>
        <p:spPr>
          <a:xfrm>
            <a:off x="2286000" y="3071880"/>
            <a:ext cx="662040" cy="662040"/>
          </a:xfrm>
          <a:prstGeom prst="ellipse">
            <a:avLst/>
          </a:prstGeom>
          <a:solidFill>
            <a:srgbClr val="9933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1071720" y="4643280"/>
            <a:ext cx="661680" cy="662040"/>
          </a:xfrm>
          <a:prstGeom prst="ellipse">
            <a:avLst/>
          </a:prstGeom>
          <a:solidFill>
            <a:srgbClr val="9933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11"/>
          <p:cNvSpPr/>
          <p:nvPr/>
        </p:nvSpPr>
        <p:spPr>
          <a:xfrm>
            <a:off x="2643120" y="4643280"/>
            <a:ext cx="662040" cy="662040"/>
          </a:xfrm>
          <a:prstGeom prst="ellipse">
            <a:avLst/>
          </a:prstGeom>
          <a:solidFill>
            <a:srgbClr val="9933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928800" y="5786280"/>
            <a:ext cx="662040" cy="662040"/>
          </a:xfrm>
          <a:prstGeom prst="ellipse">
            <a:avLst/>
          </a:prstGeom>
          <a:solidFill>
            <a:srgbClr val="9933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3"/>
          <p:cNvSpPr/>
          <p:nvPr/>
        </p:nvSpPr>
        <p:spPr>
          <a:xfrm>
            <a:off x="2286000" y="5786280"/>
            <a:ext cx="662040" cy="662040"/>
          </a:xfrm>
          <a:prstGeom prst="ellipse">
            <a:avLst/>
          </a:prstGeom>
          <a:solidFill>
            <a:srgbClr val="9933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4"/>
          <p:cNvSpPr/>
          <p:nvPr/>
        </p:nvSpPr>
        <p:spPr>
          <a:xfrm>
            <a:off x="5857920" y="4071960"/>
            <a:ext cx="662040" cy="662040"/>
          </a:xfrm>
          <a:prstGeom prst="ellipse">
            <a:avLst/>
          </a:prstGeom>
          <a:solidFill>
            <a:srgbClr val="9933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5"/>
          <p:cNvSpPr/>
          <p:nvPr/>
        </p:nvSpPr>
        <p:spPr>
          <a:xfrm>
            <a:off x="7358040" y="4000680"/>
            <a:ext cx="662040" cy="661680"/>
          </a:xfrm>
          <a:prstGeom prst="ellipse">
            <a:avLst/>
          </a:prstGeom>
          <a:solidFill>
            <a:srgbClr val="9933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7"/>
          <p:cNvSpPr/>
          <p:nvPr/>
        </p:nvSpPr>
        <p:spPr>
          <a:xfrm>
            <a:off x="7358040" y="5214960"/>
            <a:ext cx="662040" cy="662040"/>
          </a:xfrm>
          <a:prstGeom prst="ellipse">
            <a:avLst/>
          </a:prstGeom>
          <a:solidFill>
            <a:srgbClr val="9933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8"/>
          <p:cNvSpPr/>
          <p:nvPr/>
        </p:nvSpPr>
        <p:spPr>
          <a:xfrm>
            <a:off x="3500280" y="5786280"/>
            <a:ext cx="662040" cy="662040"/>
          </a:xfrm>
          <a:prstGeom prst="ellipse">
            <a:avLst/>
          </a:prstGeom>
          <a:solidFill>
            <a:srgbClr val="9933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5857920" y="5286240"/>
            <a:ext cx="662040" cy="662040"/>
          </a:xfrm>
          <a:prstGeom prst="ellipse">
            <a:avLst/>
          </a:prstGeom>
          <a:solidFill>
            <a:srgbClr val="9933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408720"/>
          </a:xfrm>
          <a:prstGeom prst="rect">
            <a:avLst/>
          </a:prstGeom>
          <a:solidFill>
            <a:srgbClr val="ffffa7"/>
          </a:solidFill>
          <a:ln w="19080">
            <a:solidFill>
              <a:srgbClr val="cc0066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( как ) и ( как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[    ]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( что ) и ( как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[    ]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( когда ) и (   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[    ]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(      ), и (     ), и ( 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[    ]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(      ) или ( 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[    ]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( что ), а ( что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rc 6"/>
          <p:cNvSpPr/>
          <p:nvPr/>
        </p:nvSpPr>
        <p:spPr>
          <a:xfrm rot="18678000">
            <a:off x="2556000" y="47628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rc 7"/>
          <p:cNvSpPr/>
          <p:nvPr/>
        </p:nvSpPr>
        <p:spPr>
          <a:xfrm rot="20114400">
            <a:off x="2625840" y="4145040"/>
            <a:ext cx="2246040" cy="14907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fill="none" w="28783" h="21600">
                <a:moveTo>
                  <a:pt x="-1" y="1492"/>
                </a:moveTo>
                <a:cubicBezTo>
                  <a:pt x="2513" y="506"/>
                  <a:pt x="5189" y="-1"/>
                  <a:pt x="7890" y="0"/>
                </a:cubicBezTo>
                <a:cubicBezTo>
                  <a:pt x="17708" y="0"/>
                  <a:pt x="26291" y="6621"/>
                  <a:pt x="28782" y="16118"/>
                </a:cubicBezTo>
              </a:path>
              <a:path stroke="0" w="28783" h="21600">
                <a:moveTo>
                  <a:pt x="-1" y="1492"/>
                </a:moveTo>
                <a:cubicBezTo>
                  <a:pt x="2513" y="506"/>
                  <a:pt x="5189" y="-1"/>
                  <a:pt x="7890" y="0"/>
                </a:cubicBezTo>
                <a:cubicBezTo>
                  <a:pt x="17708" y="0"/>
                  <a:pt x="26291" y="6621"/>
                  <a:pt x="28782" y="16118"/>
                </a:cubicBezTo>
                <a:lnTo>
                  <a:pt x="7890" y="21600"/>
                </a:lnTo>
                <a:lnTo>
                  <a:pt x="-1" y="1492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rc 8"/>
          <p:cNvSpPr/>
          <p:nvPr/>
        </p:nvSpPr>
        <p:spPr>
          <a:xfrm rot="18678000">
            <a:off x="2556000" y="43657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rc 9"/>
          <p:cNvSpPr/>
          <p:nvPr/>
        </p:nvSpPr>
        <p:spPr>
          <a:xfrm rot="20114400">
            <a:off x="2631600" y="277560"/>
            <a:ext cx="2219400" cy="1490400"/>
          </a:xfrm>
          <a:custGeom>
            <a:avLst/>
            <a:gdLst>
              <a:gd name="textAreaLeft" fmla="*/ 0 w 2219400"/>
              <a:gd name="textAreaRight" fmla="*/ 2219760 w 2219400"/>
              <a:gd name="textAreaTop" fmla="*/ 0 h 1490400"/>
              <a:gd name="textAreaBottom" fmla="*/ 1490760 h 1490400"/>
            </a:gdLst>
            <a:ahLst/>
            <a:rect l="textAreaLeft" t="textAreaTop" r="textAreaRight" b="textAreaBottom"/>
            <a:pathLst>
              <a:path fill="none" w="28432" h="21600">
                <a:moveTo>
                  <a:pt x="-1" y="1492"/>
                </a:moveTo>
                <a:cubicBezTo>
                  <a:pt x="2513" y="506"/>
                  <a:pt x="5189" y="-1"/>
                  <a:pt x="7890" y="0"/>
                </a:cubicBezTo>
                <a:cubicBezTo>
                  <a:pt x="17247" y="0"/>
                  <a:pt x="25540" y="6024"/>
                  <a:pt x="28432" y="14923"/>
                </a:cubicBezTo>
              </a:path>
              <a:path stroke="0" w="28432" h="21600">
                <a:moveTo>
                  <a:pt x="-1" y="1492"/>
                </a:moveTo>
                <a:cubicBezTo>
                  <a:pt x="2513" y="506"/>
                  <a:pt x="5189" y="-1"/>
                  <a:pt x="7890" y="0"/>
                </a:cubicBezTo>
                <a:cubicBezTo>
                  <a:pt x="17247" y="0"/>
                  <a:pt x="25540" y="6024"/>
                  <a:pt x="28432" y="14923"/>
                </a:cubicBezTo>
                <a:lnTo>
                  <a:pt x="7890" y="21600"/>
                </a:lnTo>
                <a:lnTo>
                  <a:pt x="-1" y="1492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rc 10"/>
          <p:cNvSpPr/>
          <p:nvPr/>
        </p:nvSpPr>
        <p:spPr>
          <a:xfrm rot="20114400">
            <a:off x="2771280" y="2204640"/>
            <a:ext cx="2219400" cy="1490760"/>
          </a:xfrm>
          <a:custGeom>
            <a:avLst/>
            <a:gdLst>
              <a:gd name="textAreaLeft" fmla="*/ 0 w 2219400"/>
              <a:gd name="textAreaRight" fmla="*/ 2219760 w 221940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fill="none" w="28432" h="21600">
                <a:moveTo>
                  <a:pt x="-1" y="1492"/>
                </a:moveTo>
                <a:cubicBezTo>
                  <a:pt x="2513" y="506"/>
                  <a:pt x="5189" y="-1"/>
                  <a:pt x="7890" y="0"/>
                </a:cubicBezTo>
                <a:cubicBezTo>
                  <a:pt x="17247" y="0"/>
                  <a:pt x="25540" y="6024"/>
                  <a:pt x="28432" y="14923"/>
                </a:cubicBezTo>
              </a:path>
              <a:path stroke="0" w="28432" h="21600">
                <a:moveTo>
                  <a:pt x="-1" y="1492"/>
                </a:moveTo>
                <a:cubicBezTo>
                  <a:pt x="2513" y="506"/>
                  <a:pt x="5189" y="-1"/>
                  <a:pt x="7890" y="0"/>
                </a:cubicBezTo>
                <a:cubicBezTo>
                  <a:pt x="17247" y="0"/>
                  <a:pt x="25540" y="6024"/>
                  <a:pt x="28432" y="14923"/>
                </a:cubicBezTo>
                <a:lnTo>
                  <a:pt x="7890" y="21600"/>
                </a:lnTo>
                <a:lnTo>
                  <a:pt x="-1" y="1492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rc 11"/>
          <p:cNvSpPr/>
          <p:nvPr/>
        </p:nvSpPr>
        <p:spPr>
          <a:xfrm rot="18678000">
            <a:off x="2627280" y="14130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rc 12"/>
          <p:cNvSpPr/>
          <p:nvPr/>
        </p:nvSpPr>
        <p:spPr>
          <a:xfrm rot="20114400">
            <a:off x="2555640" y="3212640"/>
            <a:ext cx="2219040" cy="1490760"/>
          </a:xfrm>
          <a:custGeom>
            <a:avLst/>
            <a:gdLst>
              <a:gd name="textAreaLeft" fmla="*/ 0 w 2219040"/>
              <a:gd name="textAreaRight" fmla="*/ 2219400 w 221904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fill="none" w="28432" h="21600">
                <a:moveTo>
                  <a:pt x="-1" y="1492"/>
                </a:moveTo>
                <a:cubicBezTo>
                  <a:pt x="2513" y="506"/>
                  <a:pt x="5189" y="-1"/>
                  <a:pt x="7890" y="0"/>
                </a:cubicBezTo>
                <a:cubicBezTo>
                  <a:pt x="17247" y="0"/>
                  <a:pt x="25540" y="6024"/>
                  <a:pt x="28432" y="14923"/>
                </a:cubicBezTo>
              </a:path>
              <a:path stroke="0" w="28432" h="21600">
                <a:moveTo>
                  <a:pt x="-1" y="1492"/>
                </a:moveTo>
                <a:cubicBezTo>
                  <a:pt x="2513" y="506"/>
                  <a:pt x="5189" y="-1"/>
                  <a:pt x="7890" y="0"/>
                </a:cubicBezTo>
                <a:cubicBezTo>
                  <a:pt x="17247" y="0"/>
                  <a:pt x="25540" y="6024"/>
                  <a:pt x="28432" y="14923"/>
                </a:cubicBezTo>
                <a:lnTo>
                  <a:pt x="7890" y="21600"/>
                </a:lnTo>
                <a:lnTo>
                  <a:pt x="-1" y="1492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rc 13"/>
          <p:cNvSpPr/>
          <p:nvPr/>
        </p:nvSpPr>
        <p:spPr>
          <a:xfrm rot="18678000">
            <a:off x="2771640" y="234936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rc 14"/>
          <p:cNvSpPr/>
          <p:nvPr/>
        </p:nvSpPr>
        <p:spPr>
          <a:xfrm rot="20890200">
            <a:off x="2620440" y="3309840"/>
            <a:ext cx="3240360" cy="914400"/>
          </a:xfrm>
          <a:custGeom>
            <a:avLst/>
            <a:gdLst>
              <a:gd name="textAreaLeft" fmla="*/ 0 w 3240360"/>
              <a:gd name="textAreaRight" fmla="*/ 3240720 w 32403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rc 16"/>
          <p:cNvSpPr/>
          <p:nvPr/>
        </p:nvSpPr>
        <p:spPr>
          <a:xfrm rot="18678000">
            <a:off x="2556000" y="33577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rc 17"/>
          <p:cNvSpPr/>
          <p:nvPr/>
        </p:nvSpPr>
        <p:spPr>
          <a:xfrm rot="20114400">
            <a:off x="2700000" y="1196640"/>
            <a:ext cx="2219400" cy="1490760"/>
          </a:xfrm>
          <a:custGeom>
            <a:avLst/>
            <a:gdLst>
              <a:gd name="textAreaLeft" fmla="*/ 0 w 2219400"/>
              <a:gd name="textAreaRight" fmla="*/ 2219760 w 221940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fill="none" w="28432" h="21600">
                <a:moveTo>
                  <a:pt x="-1" y="1492"/>
                </a:moveTo>
                <a:cubicBezTo>
                  <a:pt x="2513" y="506"/>
                  <a:pt x="5189" y="-1"/>
                  <a:pt x="7890" y="0"/>
                </a:cubicBezTo>
                <a:cubicBezTo>
                  <a:pt x="17247" y="0"/>
                  <a:pt x="25540" y="6024"/>
                  <a:pt x="28432" y="14923"/>
                </a:cubicBezTo>
              </a:path>
              <a:path stroke="0" w="28432" h="21600">
                <a:moveTo>
                  <a:pt x="-1" y="1492"/>
                </a:moveTo>
                <a:cubicBezTo>
                  <a:pt x="2513" y="506"/>
                  <a:pt x="5189" y="-1"/>
                  <a:pt x="7890" y="0"/>
                </a:cubicBezTo>
                <a:cubicBezTo>
                  <a:pt x="17247" y="0"/>
                  <a:pt x="25540" y="6024"/>
                  <a:pt x="28432" y="14923"/>
                </a:cubicBezTo>
                <a:lnTo>
                  <a:pt x="7890" y="21600"/>
                </a:lnTo>
                <a:lnTo>
                  <a:pt x="-1" y="1492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rc 18"/>
          <p:cNvSpPr/>
          <p:nvPr/>
        </p:nvSpPr>
        <p:spPr>
          <a:xfrm rot="18678000">
            <a:off x="2627280" y="530064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rc 19"/>
          <p:cNvSpPr/>
          <p:nvPr/>
        </p:nvSpPr>
        <p:spPr>
          <a:xfrm rot="20114400">
            <a:off x="2555640" y="5157360"/>
            <a:ext cx="2219040" cy="1490760"/>
          </a:xfrm>
          <a:custGeom>
            <a:avLst/>
            <a:gdLst>
              <a:gd name="textAreaLeft" fmla="*/ 0 w 2219040"/>
              <a:gd name="textAreaRight" fmla="*/ 2219400 w 221904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fill="none" w="28432" h="21600">
                <a:moveTo>
                  <a:pt x="-1" y="1492"/>
                </a:moveTo>
                <a:cubicBezTo>
                  <a:pt x="2513" y="506"/>
                  <a:pt x="5189" y="-1"/>
                  <a:pt x="7890" y="0"/>
                </a:cubicBezTo>
                <a:cubicBezTo>
                  <a:pt x="17247" y="0"/>
                  <a:pt x="25540" y="6024"/>
                  <a:pt x="28432" y="14923"/>
                </a:cubicBezTo>
              </a:path>
              <a:path stroke="0" w="28432" h="21600">
                <a:moveTo>
                  <a:pt x="-1" y="1492"/>
                </a:moveTo>
                <a:cubicBezTo>
                  <a:pt x="2513" y="506"/>
                  <a:pt x="5189" y="-1"/>
                  <a:pt x="7890" y="0"/>
                </a:cubicBezTo>
                <a:cubicBezTo>
                  <a:pt x="17247" y="0"/>
                  <a:pt x="25540" y="6024"/>
                  <a:pt x="28432" y="14923"/>
                </a:cubicBezTo>
                <a:lnTo>
                  <a:pt x="7890" y="21600"/>
                </a:lnTo>
                <a:lnTo>
                  <a:pt x="-1" y="1492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8920" y="214200"/>
            <a:ext cx="8750520" cy="6454800"/>
          </a:xfrm>
          <a:prstGeom prst="rect">
            <a:avLst/>
          </a:prstGeom>
          <a:noFill/>
          <a:ln w="19080">
            <a:solidFill>
              <a:srgbClr val="cc0066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, (     ), и , (      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 просили узнать, ( в сохранности ли вещи), и , ( если будет возможность ), перевезти их в другое место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[     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, ( что ), и 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[     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закатное солнце горело над степью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, (когда Петя в плаще появился на тропинке),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[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го тень была очень длинной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5"/>
          <p:cNvSpPr/>
          <p:nvPr/>
        </p:nvSpPr>
        <p:spPr>
          <a:xfrm rot="18823800">
            <a:off x="1331640" y="328464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rc 6"/>
          <p:cNvSpPr/>
          <p:nvPr/>
        </p:nvSpPr>
        <p:spPr>
          <a:xfrm rot="20359800">
            <a:off x="1258920" y="836280"/>
            <a:ext cx="792000" cy="985680"/>
          </a:xfrm>
          <a:custGeom>
            <a:avLst/>
            <a:gdLst>
              <a:gd name="textAreaLeft" fmla="*/ 0 w 792000"/>
              <a:gd name="textAreaRight" fmla="*/ 792360 w 79200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fill="none" w="16912" h="21600">
                <a:moveTo>
                  <a:pt x="-1" y="0"/>
                </a:moveTo>
                <a:cubicBezTo>
                  <a:pt x="6587" y="0"/>
                  <a:pt x="12814" y="3005"/>
                  <a:pt x="16912" y="8163"/>
                </a:cubicBezTo>
              </a:path>
              <a:path stroke="0" w="16912" h="21600">
                <a:moveTo>
                  <a:pt x="-1" y="0"/>
                </a:moveTo>
                <a:cubicBezTo>
                  <a:pt x="6587" y="0"/>
                  <a:pt x="12814" y="3005"/>
                  <a:pt x="16912" y="816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rc 7"/>
          <p:cNvSpPr/>
          <p:nvPr/>
        </p:nvSpPr>
        <p:spPr>
          <a:xfrm rot="19677600">
            <a:off x="3347640" y="764640"/>
            <a:ext cx="809640" cy="914400"/>
          </a:xfrm>
          <a:custGeom>
            <a:avLst/>
            <a:gdLst>
              <a:gd name="textAreaLeft" fmla="*/ 0 w 809640"/>
              <a:gd name="textAreaRight" fmla="*/ 810000 w 80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19108" h="21600">
                <a:moveTo>
                  <a:pt x="-1" y="0"/>
                </a:moveTo>
                <a:cubicBezTo>
                  <a:pt x="8014" y="0"/>
                  <a:pt x="15370" y="4437"/>
                  <a:pt x="19107" y="11527"/>
                </a:cubicBezTo>
              </a:path>
              <a:path stroke="0" w="19108" h="21600">
                <a:moveTo>
                  <a:pt x="-1" y="0"/>
                </a:moveTo>
                <a:cubicBezTo>
                  <a:pt x="8014" y="0"/>
                  <a:pt x="15370" y="4437"/>
                  <a:pt x="19107" y="1152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3:42:46Z</dcterms:created>
  <dc:creator>Геля</dc:creator>
  <dc:description/>
  <dc:language>en-US</dc:language>
  <cp:lastModifiedBy>Sony</cp:lastModifiedBy>
  <dcterms:modified xsi:type="dcterms:W3CDTF">2012-05-29T18:01:10Z</dcterms:modified>
  <cp:revision>15</cp:revision>
  <dc:subject/>
  <dc:title>Слайд 1</dc:title>
</cp:coreProperties>
</file>