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0AF7-1690-480F-AA91-E3DF276C0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E88E-2C71-49B0-B624-FA59829F0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F58-FD02-4E51-894E-A92AA15C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53A-1E63-48AB-A595-425FEA0D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602-4C10-42D6-93F0-FD2D6636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5BD-0566-432A-AF53-991F9D15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386-B74C-4A5E-8FC6-86BD8660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B87-87C7-41D1-BF43-03EA704A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306-46D5-4D1A-80A9-E338898F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195-3872-4093-9CE8-C12026D9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2EC-6F7B-4BCF-998F-9953EE06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87C-F931-44AF-B001-147CE45F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79A-C491-4339-B623-92FF6FF2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DCC-1F17-4896-99F9-B14FD41A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F0D9-DB18-4D94-8CB7-31729D4D59D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424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Degrees of Comparisons</a:t>
            </a:r>
            <a:br>
              <a:rPr sz="49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епени сравнения прилагательных </a:t>
            </a:r>
            <a:br>
              <a:rPr sz="4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Positive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Degree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Comparative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Degr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Superlative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Degr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Exercise 1</a:t>
            </a:r>
            <a:br>
              <a:rPr sz="2900"/>
            </a:br>
            <a:r>
              <a:rPr b="1" lang="en-US" sz="2500" spc="-1" strike="noStrike">
                <a:solidFill>
                  <a:srgbClr val="990033"/>
                </a:solidFill>
                <a:latin typeface="Calibri"/>
              </a:rPr>
              <a:t>Complete the table with the right form of  the adjectiv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987560"/>
          <a:ext cx="8785440" cy="410688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ositive Deg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mparative Deg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perlative Deg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s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fam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st fam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mall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st fam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ot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inter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st inter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all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26"/>
          <p:cNvSpPr/>
          <p:nvPr/>
        </p:nvSpPr>
        <p:spPr>
          <a:xfrm>
            <a:off x="3132000" y="2779560"/>
            <a:ext cx="2880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4"/>
          <p:cNvSpPr/>
          <p:nvPr/>
        </p:nvSpPr>
        <p:spPr>
          <a:xfrm>
            <a:off x="6012000" y="2779560"/>
            <a:ext cx="2916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5"/>
          <p:cNvSpPr/>
          <p:nvPr/>
        </p:nvSpPr>
        <p:spPr>
          <a:xfrm>
            <a:off x="179280" y="3213000"/>
            <a:ext cx="2952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6"/>
          <p:cNvSpPr/>
          <p:nvPr/>
        </p:nvSpPr>
        <p:spPr>
          <a:xfrm>
            <a:off x="6012000" y="3213000"/>
            <a:ext cx="2916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7"/>
          <p:cNvSpPr/>
          <p:nvPr/>
        </p:nvSpPr>
        <p:spPr>
          <a:xfrm>
            <a:off x="3132000" y="3573360"/>
            <a:ext cx="2880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8"/>
          <p:cNvSpPr/>
          <p:nvPr/>
        </p:nvSpPr>
        <p:spPr>
          <a:xfrm>
            <a:off x="6048360" y="4005360"/>
            <a:ext cx="2916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9"/>
          <p:cNvSpPr/>
          <p:nvPr/>
        </p:nvSpPr>
        <p:spPr>
          <a:xfrm>
            <a:off x="179280" y="4005360"/>
            <a:ext cx="29527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0"/>
          <p:cNvSpPr/>
          <p:nvPr/>
        </p:nvSpPr>
        <p:spPr>
          <a:xfrm>
            <a:off x="3060720" y="4437000"/>
            <a:ext cx="2951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1"/>
          <p:cNvSpPr/>
          <p:nvPr/>
        </p:nvSpPr>
        <p:spPr>
          <a:xfrm>
            <a:off x="179280" y="4437000"/>
            <a:ext cx="2952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2"/>
          <p:cNvSpPr/>
          <p:nvPr/>
        </p:nvSpPr>
        <p:spPr>
          <a:xfrm>
            <a:off x="3132000" y="4867200"/>
            <a:ext cx="2880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3"/>
          <p:cNvSpPr/>
          <p:nvPr/>
        </p:nvSpPr>
        <p:spPr>
          <a:xfrm>
            <a:off x="6012000" y="4795920"/>
            <a:ext cx="291600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4"/>
          <p:cNvSpPr/>
          <p:nvPr/>
        </p:nvSpPr>
        <p:spPr>
          <a:xfrm>
            <a:off x="179280" y="5229360"/>
            <a:ext cx="29527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5"/>
          <p:cNvSpPr/>
          <p:nvPr/>
        </p:nvSpPr>
        <p:spPr>
          <a:xfrm>
            <a:off x="3132000" y="5302080"/>
            <a:ext cx="2880000" cy="3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6"/>
          <p:cNvSpPr/>
          <p:nvPr/>
        </p:nvSpPr>
        <p:spPr>
          <a:xfrm>
            <a:off x="6012000" y="5659560"/>
            <a:ext cx="2916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7"/>
          <p:cNvSpPr/>
          <p:nvPr/>
        </p:nvSpPr>
        <p:spPr>
          <a:xfrm>
            <a:off x="179280" y="5659560"/>
            <a:ext cx="295272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xercise 2</a:t>
            </a:r>
            <a:br>
              <a:rPr sz="3200"/>
            </a:br>
            <a:r>
              <a:rPr b="1" i="1" lang="en-US" sz="3200" spc="-1" strike="noStrike">
                <a:solidFill>
                  <a:srgbClr val="990033"/>
                </a:solidFill>
                <a:latin typeface="Calibri"/>
              </a:rPr>
              <a:t>Choose the right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teve  is the (good) pupil in our cl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) gooder     b) best         c)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2. Ted is (tall) than his fri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) taller         b) the tallest    c) more ta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3. This cake is the ( tasty) I have ever ea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)  tastier      b) tastiest       c) tasty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4. Travelling by plane is (expensive) than travelling by tr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) expensiver    b) most expensive  c) more expen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5. Mary’s English is (bad) than her Itali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)  worse       b) badder     c) the wor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Exercise 3</a:t>
            </a:r>
            <a:br>
              <a:rPr sz="4000"/>
            </a:br>
            <a:r>
              <a:rPr b="1" i="1" lang="en-US" sz="4000" spc="-1" strike="noStrike">
                <a:solidFill>
                  <a:srgbClr val="990033"/>
                </a:solidFill>
                <a:latin typeface="Calibri"/>
              </a:rPr>
              <a:t>Choose the right answ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ed is  (happier, the happiest) boy that I k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o my mind, this film is  (more interesting, the most interesting) than that 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Do you feel  (better, the best) today than yesterd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Of the four bags, I like the blue one  (better, the best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I think, Ulan-Ude is  ( beautiful, more beautiful) than Chi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emembe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 передаче зависимости одного качества от другого используется конструкция 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The … the</a:t>
            </a: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–  чем …тем.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more you rea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more you kno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 longer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I stay here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 better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I like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 сравнении двух предметов или лиц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ладающих одинаковыми качествами, часто употребляется конструкция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as…as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 –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такой…ка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Ted is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as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tall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 as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Bob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 сравнении двух предметов или лиц, обладающих неодинаковыми качествами, употребляется конструкция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ot so …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Ted is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ot so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tall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 as </a:t>
            </a:r>
            <a:r>
              <a:rPr b="1" lang="en-US" sz="2600" spc="-1" strike="noStrike">
                <a:solidFill>
                  <a:srgbClr val="254061"/>
                </a:solidFill>
                <a:latin typeface="Calibri"/>
              </a:rPr>
              <a:t>Bob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This house is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not so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ig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s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that one</a:t>
            </a:r>
            <a:r>
              <a:rPr b="1" lang="en-US" sz="40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95280" y="2238480"/>
            <a:ext cx="3097080" cy="30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  <p:pic>
        <p:nvPicPr>
          <p:cNvPr id="111" name="Picture 4" descr="https://twin-star.ru/wp-content/uploads/risunki-doma-detskie_7.jpg"/>
          <p:cNvPicPr/>
          <p:nvPr/>
        </p:nvPicPr>
        <p:blipFill>
          <a:blip r:embed="rId2"/>
          <a:stretch/>
        </p:blipFill>
        <p:spPr>
          <a:xfrm>
            <a:off x="3924360" y="1700280"/>
            <a:ext cx="4824360" cy="38466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1039320" y="57326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254061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При сравнении одного предмета с другим после прилагательного употребляется союз 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чем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. </a:t>
            </a:r>
            <a:br>
              <a:rPr sz="32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his house is bigger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han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hat 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2160360" cy="216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  <p:pic>
        <p:nvPicPr>
          <p:cNvPr id="115" name="Picture 4" descr="https://twin-star.ru/wp-content/uploads/risunki-doma-detskie_7.jpg"/>
          <p:cNvPicPr/>
          <p:nvPr/>
        </p:nvPicPr>
        <p:blipFill>
          <a:blip r:embed="rId2"/>
          <a:stretch/>
        </p:blipFill>
        <p:spPr>
          <a:xfrm>
            <a:off x="4716360" y="2205000"/>
            <a:ext cx="3888000" cy="244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324000" y="450864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меньшение или увеличение качества выражается с помощью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less…than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more …th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is book i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ore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nteresting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than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at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is subject i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less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mportant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than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at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1.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ичные разработки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еподават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2. http:// images.google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ренировать студентов в употреблении степеней сравнения прилагательны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ознакомить студентов  с некоторыми сравнительными конструкция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he positive Deg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0" descr="MC900229357[1]"/>
          <p:cNvPicPr/>
          <p:nvPr/>
        </p:nvPicPr>
        <p:blipFill>
          <a:blip r:embed="rId1"/>
          <a:stretch/>
        </p:blipFill>
        <p:spPr>
          <a:xfrm>
            <a:off x="6156360" y="5805360"/>
            <a:ext cx="2519280" cy="432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Как нарисовать собаку карандашом поэтапно для детей 5-9 лет"/>
          <p:cNvPicPr/>
          <p:nvPr/>
        </p:nvPicPr>
        <p:blipFill>
          <a:blip r:embed="rId2"/>
          <a:stretch/>
        </p:blipFill>
        <p:spPr>
          <a:xfrm>
            <a:off x="6143760" y="3500280"/>
            <a:ext cx="2022480" cy="202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Картинки по запросу кукла картинки барби"/>
          <p:cNvPicPr/>
          <p:nvPr/>
        </p:nvPicPr>
        <p:blipFill>
          <a:blip r:embed="rId3"/>
          <a:stretch/>
        </p:blipFill>
        <p:spPr>
          <a:xfrm>
            <a:off x="6227640" y="1197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1"/>
          <p:cNvSpPr/>
          <p:nvPr/>
        </p:nvSpPr>
        <p:spPr>
          <a:xfrm>
            <a:off x="0" y="580536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 long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468360" y="1916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 beautiful d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0" y="386064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 big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21387E-006 L -0.33073 0.02104 E">
                                      <p:cBhvr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he comparative Deg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1074"/>
              </a:spcBef>
              <a:buClr>
                <a:srgbClr val="99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long - long</a:t>
            </a:r>
            <a:r>
              <a:rPr b="1" lang="en-US" sz="4300" spc="-1" strike="noStrike">
                <a:solidFill>
                  <a:srgbClr val="002060"/>
                </a:solidFill>
                <a:latin typeface="Calibri"/>
              </a:rPr>
              <a:t>er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       </a:t>
            </a: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big - bigg</a:t>
            </a:r>
            <a:r>
              <a:rPr b="1" lang="en-US" sz="4300" spc="-1" strike="noStrike">
                <a:solidFill>
                  <a:srgbClr val="002060"/>
                </a:solidFill>
                <a:latin typeface="Calibri"/>
              </a:rPr>
              <a:t>er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       </a:t>
            </a: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large - larg</a:t>
            </a:r>
            <a:r>
              <a:rPr b="1" lang="en-US" sz="4300" spc="-1" strike="noStrike">
                <a:solidFill>
                  <a:srgbClr val="002060"/>
                </a:solidFill>
                <a:latin typeface="Calibri"/>
              </a:rPr>
              <a:t>er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       </a:t>
            </a: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happy - happi</a:t>
            </a:r>
            <a:r>
              <a:rPr b="1" lang="en-US" sz="4300" spc="-1" strike="noStrike">
                <a:solidFill>
                  <a:srgbClr val="002060"/>
                </a:solidFill>
                <a:latin typeface="Calibri"/>
              </a:rPr>
              <a:t>er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2060"/>
                </a:solidFill>
                <a:latin typeface="Calibri"/>
              </a:rPr>
              <a:t>II.   interesting – more interesting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7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uperlative Degr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52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10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mall – small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 small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autiful – more beautiful –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 most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beautif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Картинки по запросу кофе картинка чашка"/>
          <p:cNvPicPr/>
          <p:nvPr/>
        </p:nvPicPr>
        <p:blipFill>
          <a:blip r:embed="rId1"/>
          <a:stretch/>
        </p:blipFill>
        <p:spPr>
          <a:xfrm>
            <a:off x="274680" y="3933720"/>
            <a:ext cx="3328920" cy="1871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Картинки по запросу костер картинки для детей"/>
          <p:cNvPicPr/>
          <p:nvPr/>
        </p:nvPicPr>
        <p:blipFill>
          <a:blip r:embed="rId2"/>
          <a:stretch/>
        </p:blipFill>
        <p:spPr>
          <a:xfrm>
            <a:off x="3639960" y="3860640"/>
            <a:ext cx="3019680" cy="187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Картинки по запросу солнце рисунок для детей"/>
          <p:cNvPicPr/>
          <p:nvPr/>
        </p:nvPicPr>
        <p:blipFill>
          <a:blip r:embed="rId3"/>
          <a:stretch/>
        </p:blipFill>
        <p:spPr>
          <a:xfrm>
            <a:off x="6012000" y="3645000"/>
            <a:ext cx="2697120" cy="2232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>
            <a:off x="97164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4140360" y="602136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6372360" y="5950080"/>
            <a:ext cx="24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he ho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1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III.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склю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Good- better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he 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Little-less –the lea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Many-more – the mo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Much –more -  the mo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ad –worse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he wor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Old –older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-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the oldest (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о возраст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Old –elder –the eldest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(по старшинству в семь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склю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ar – f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ther - the f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thest (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алекий-дальше-самый далекий – о расстоян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ar –f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ther- the f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thest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далекий-далее-дальнейший – о времен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Late –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ter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(позже)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test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самый последн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Late-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tter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(последний из ранее упомянутых)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–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st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(последний по порядк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Near- nearer - 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arest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ближайший – о расстоян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Near – nearer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-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xt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следующий – по порядк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авопис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авило №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ечная гласная е (немое е) опускается перед фиксами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er, -e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te – lat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r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the lat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rge – larg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r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the larg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авило №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Если слово оканчивается на одну согласную букву, а перед ней стоит одна гласная буква (закрытый слог), то согласная буква удваива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bi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gg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the bi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gg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ho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tt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the ho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tt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авило №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слово оканчивается на букв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y,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а перед ней стоит согласная буква, то буква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меняется на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pp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happ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 – the happ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s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bus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 – the bus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(занятой – более занятый – самый занято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30Z</dcterms:created>
  <dc:creator>Admin</dc:creator>
  <dc:description/>
  <dc:language>en-US</dc:language>
  <cp:lastModifiedBy>Пользователь Windows</cp:lastModifiedBy>
  <dcterms:modified xsi:type="dcterms:W3CDTF">2019-12-16T12:34:27Z</dcterms:modified>
  <cp:revision>58</cp:revision>
  <dc:subject/>
  <dc:title>Слайд 1</dc:title>
</cp:coreProperties>
</file>