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D69-F28D-4AA9-97CB-8C473CFCB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ECF-D35C-46FF-8585-E1844CA5C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2FB-4FF4-4886-805F-310F90DA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BA6-3601-4B77-B3FE-21B8B9F4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6FD-AAED-4F46-A066-1A0CC8FE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2EC-B821-45B6-B4FE-4DC2D372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3A8-F114-400B-8631-4B33B14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732-2652-4033-AE3E-35187526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833-D43D-42AD-8728-9FD93107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771-EEF0-4AD6-87C6-826682FB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45F-27A6-495D-8478-B4C7E91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337-D3CC-4A20-A454-248D64F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4BD-53CA-422A-A225-7DC383C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DA6-8711-4656-A063-0137064D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0DF-54F7-4FC9-B8DD-86738643FC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424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Degrees of Comparisons</a:t>
            </a:r>
            <a:br>
              <a:rPr sz="49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епени сравнения прилагательных </a:t>
            </a:r>
            <a:br>
              <a:rPr sz="4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Posi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Compara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Superlativ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Deg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Exercise 1</a:t>
            </a:r>
            <a:br>
              <a:rPr sz="2900"/>
            </a:br>
            <a:r>
              <a:rPr b="1" lang="en-US" sz="2500" spc="-1" strike="noStrike">
                <a:solidFill>
                  <a:srgbClr val="990033"/>
                </a:solidFill>
                <a:latin typeface="Calibri"/>
              </a:rPr>
              <a:t>Complete the table with the right form of  the adjectiv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987560"/>
          <a:ext cx="8785440" cy="41068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osi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mpara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perlative Deg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mall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fam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ot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st 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all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26"/>
          <p:cNvSpPr/>
          <p:nvPr/>
        </p:nvSpPr>
        <p:spPr>
          <a:xfrm>
            <a:off x="3132000" y="2779560"/>
            <a:ext cx="288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4"/>
          <p:cNvSpPr/>
          <p:nvPr/>
        </p:nvSpPr>
        <p:spPr>
          <a:xfrm>
            <a:off x="6012000" y="2779560"/>
            <a:ext cx="2916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5"/>
          <p:cNvSpPr/>
          <p:nvPr/>
        </p:nvSpPr>
        <p:spPr>
          <a:xfrm>
            <a:off x="179280" y="321300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6"/>
          <p:cNvSpPr/>
          <p:nvPr/>
        </p:nvSpPr>
        <p:spPr>
          <a:xfrm>
            <a:off x="6012000" y="3213000"/>
            <a:ext cx="2916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7"/>
          <p:cNvSpPr/>
          <p:nvPr/>
        </p:nvSpPr>
        <p:spPr>
          <a:xfrm>
            <a:off x="3132000" y="3573360"/>
            <a:ext cx="288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8"/>
          <p:cNvSpPr/>
          <p:nvPr/>
        </p:nvSpPr>
        <p:spPr>
          <a:xfrm>
            <a:off x="6048360" y="4005360"/>
            <a:ext cx="291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9"/>
          <p:cNvSpPr/>
          <p:nvPr/>
        </p:nvSpPr>
        <p:spPr>
          <a:xfrm>
            <a:off x="179280" y="4005360"/>
            <a:ext cx="29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0"/>
          <p:cNvSpPr/>
          <p:nvPr/>
        </p:nvSpPr>
        <p:spPr>
          <a:xfrm>
            <a:off x="3060720" y="4437000"/>
            <a:ext cx="2951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1"/>
          <p:cNvSpPr/>
          <p:nvPr/>
        </p:nvSpPr>
        <p:spPr>
          <a:xfrm>
            <a:off x="179280" y="4437000"/>
            <a:ext cx="2952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2"/>
          <p:cNvSpPr/>
          <p:nvPr/>
        </p:nvSpPr>
        <p:spPr>
          <a:xfrm>
            <a:off x="3132000" y="4867200"/>
            <a:ext cx="2880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3"/>
          <p:cNvSpPr/>
          <p:nvPr/>
        </p:nvSpPr>
        <p:spPr>
          <a:xfrm>
            <a:off x="6012000" y="4795920"/>
            <a:ext cx="2916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4"/>
          <p:cNvSpPr/>
          <p:nvPr/>
        </p:nvSpPr>
        <p:spPr>
          <a:xfrm>
            <a:off x="179280" y="5229360"/>
            <a:ext cx="2952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5"/>
          <p:cNvSpPr/>
          <p:nvPr/>
        </p:nvSpPr>
        <p:spPr>
          <a:xfrm>
            <a:off x="3132000" y="5302080"/>
            <a:ext cx="288000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6"/>
          <p:cNvSpPr/>
          <p:nvPr/>
        </p:nvSpPr>
        <p:spPr>
          <a:xfrm>
            <a:off x="6012000" y="5659560"/>
            <a:ext cx="2916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7"/>
          <p:cNvSpPr/>
          <p:nvPr/>
        </p:nvSpPr>
        <p:spPr>
          <a:xfrm>
            <a:off x="179280" y="5659560"/>
            <a:ext cx="295272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ercise 2</a:t>
            </a:r>
            <a:br>
              <a:rPr sz="3200"/>
            </a:br>
            <a:r>
              <a:rPr b="1" i="1" lang="en-US" sz="3200" spc="-1" strike="noStrike">
                <a:solidFill>
                  <a:srgbClr val="990033"/>
                </a:solidFill>
                <a:latin typeface="Calibri"/>
              </a:rPr>
              <a:t>Choose the righ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teve  is the (good) pupil in our cl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gooder     b) best         c)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2. Ted is (tall) than his fri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taller         b) the tallest    c) more ta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3. This cake is the ( tasty) I have ever e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 tastier      b) tastiest       c) tasty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4. Travelling by plane is (expensive) than travelling by tr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expensiver    b) most expensive  c) more exp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5. Mary’s English is (bad) than her Itali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)  worse       b) badder     c) the wor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xercise 3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Calibri"/>
              </a:rPr>
              <a:t>Choose the right answ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ed is  (happier, the happiest) boy that I k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o my mind, this film is  (more interesting, the most interesting) than that 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Do you feel  (better, the best) today than yesterd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Of the four bags, I like the blue one  (better, the bes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I think, Ulan-Ude is  ( beautiful, more beautiful) than Chi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membe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передаче зависимости одного качества от другого используется конструкция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The … the</a:t>
            </a: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–  чем …тем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more you rea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more you kn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longer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I stay he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better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I lik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сравнении двух предметов или лиц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ладающих одинаковыми качествами, часто употребляется конструкция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as…as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–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такой…ка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ed is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s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all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as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Bob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 сравнении двух предметов или лиц, обладающих неодинаковыми качествами, употребляется конструкция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 so …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ed is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 so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all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as </a:t>
            </a:r>
            <a:r>
              <a:rPr b="1" lang="en-US" sz="2600" spc="-1" strike="noStrike">
                <a:solidFill>
                  <a:srgbClr val="254061"/>
                </a:solidFill>
                <a:latin typeface="Calibri"/>
              </a:rPr>
              <a:t>Bo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his house i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not so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ig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s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that one</a:t>
            </a:r>
            <a:r>
              <a:rPr b="1" lang="en-US" sz="40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5280" y="2238480"/>
            <a:ext cx="3097080" cy="30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111" name="Picture 4" descr="https://twin-star.ru/wp-content/uploads/risunki-doma-detskie_7.jpg"/>
          <p:cNvPicPr/>
          <p:nvPr/>
        </p:nvPicPr>
        <p:blipFill>
          <a:blip r:embed="rId2"/>
          <a:stretch/>
        </p:blipFill>
        <p:spPr>
          <a:xfrm>
            <a:off x="3924360" y="1700280"/>
            <a:ext cx="4824360" cy="38466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039320" y="5732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254061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ри сравнении одного предмета с другим после прилагательного употребляется союз 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ем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2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is house is bigge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han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at 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2160360" cy="21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</p:pic>
      <p:pic>
        <p:nvPicPr>
          <p:cNvPr id="115" name="Picture 4" descr="https://twin-star.ru/wp-content/uploads/risunki-doma-detskie_7.jpg"/>
          <p:cNvPicPr/>
          <p:nvPr/>
        </p:nvPicPr>
        <p:blipFill>
          <a:blip r:embed="rId2"/>
          <a:stretch/>
        </p:blipFill>
        <p:spPr>
          <a:xfrm>
            <a:off x="4716360" y="2205000"/>
            <a:ext cx="3888000" cy="244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324000" y="450864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меньшение или увеличение качества выражается с помощью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ess…than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ore …th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is book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nteresting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than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at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is subject i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less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mportant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than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at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ичные разработки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еподава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http:// images.google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ренировать студентов в употреблении степеней сравнения прилагатель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познакомить студентов  с некоторыми сравнительными конструкция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positive De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MC900229357[1]"/>
          <p:cNvPicPr/>
          <p:nvPr/>
        </p:nvPicPr>
        <p:blipFill>
          <a:blip r:embed="rId1"/>
          <a:stretch/>
        </p:blipFill>
        <p:spPr>
          <a:xfrm>
            <a:off x="6156360" y="5805360"/>
            <a:ext cx="2519280" cy="432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Как нарисовать собаку карандашом поэтапно для детей 5-9 лет"/>
          <p:cNvPicPr/>
          <p:nvPr/>
        </p:nvPicPr>
        <p:blipFill>
          <a:blip r:embed="rId2"/>
          <a:stretch/>
        </p:blipFill>
        <p:spPr>
          <a:xfrm>
            <a:off x="6143760" y="350028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Картинки по запросу кукла картинки барби"/>
          <p:cNvPicPr/>
          <p:nvPr/>
        </p:nvPicPr>
        <p:blipFill>
          <a:blip r:embed="rId3"/>
          <a:stretch/>
        </p:blipFill>
        <p:spPr>
          <a:xfrm>
            <a:off x="6227640" y="1197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0" y="580536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long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68360" y="1916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beautiful d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0" y="386064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 big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L -0.33073 0.02104 E">
                                      <p:cBhvr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omparative De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1074"/>
              </a:spcBef>
              <a:buClr>
                <a:srgbClr val="99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long - lon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big - big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large - larg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1" lang="en-US" sz="4300" spc="-1" strike="noStrike">
                <a:solidFill>
                  <a:srgbClr val="990000"/>
                </a:solidFill>
                <a:latin typeface="Calibri"/>
              </a:rPr>
              <a:t>happy - happi</a:t>
            </a: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er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2060"/>
                </a:solidFill>
                <a:latin typeface="Calibri"/>
              </a:rPr>
              <a:t>II.   interesting – more interesting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7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perlative Deg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52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10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mall – small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small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autiful – more beautiful –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most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beauti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Картинки по запросу кофе картинка чашка"/>
          <p:cNvPicPr/>
          <p:nvPr/>
        </p:nvPicPr>
        <p:blipFill>
          <a:blip r:embed="rId1"/>
          <a:stretch/>
        </p:blipFill>
        <p:spPr>
          <a:xfrm>
            <a:off x="274680" y="3933720"/>
            <a:ext cx="332892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Картинки по запросу костер картинки для детей"/>
          <p:cNvPicPr/>
          <p:nvPr/>
        </p:nvPicPr>
        <p:blipFill>
          <a:blip r:embed="rId2"/>
          <a:stretch/>
        </p:blipFill>
        <p:spPr>
          <a:xfrm>
            <a:off x="3639960" y="3860640"/>
            <a:ext cx="3019680" cy="187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Картинки по запросу солнце рисунок для детей"/>
          <p:cNvPicPr/>
          <p:nvPr/>
        </p:nvPicPr>
        <p:blipFill>
          <a:blip r:embed="rId3"/>
          <a:stretch/>
        </p:blipFill>
        <p:spPr>
          <a:xfrm>
            <a:off x="6012000" y="3645000"/>
            <a:ext cx="269712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97164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4140360" y="60213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372360" y="5950080"/>
            <a:ext cx="24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ho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1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III.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Good- better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b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Little-less –the le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any-more – the m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Much –more -  the m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ad –worse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the wo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Old –old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the oldest (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 возраст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Old –elder –the eldest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(по старшинству в семь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склю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ar –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r - the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st (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алекий-дальше-самый далекий – о расстоя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ar –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r- the 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thest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далекий-далее-дальнейший – о време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Late –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зже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est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амый послед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Late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tt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следний из ранее упомянутых)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–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ast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(последний по порядк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Near- nearer - 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arest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ближайший – о расстоя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Near – nearer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xt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(следующий – по порядк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опис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авило №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ечная гласная е (немое е) опускается перед фиксами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–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er, -e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te – la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the la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rge – lar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the lar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авило №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Если слово оканчивается на одну согласную букву, а перед ней стоит одна гласная буква (закрытый слог), то согласная буква удваив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bi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g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the ho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tt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ило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слово оканчивается на букв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y,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а перед ней стоит согласная буква, то буква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меняется на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 – the happ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 – the bus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(занятой – более занятый – самый занято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00:30Z</dcterms:created>
  <dc:creator>Admin</dc:creator>
  <dc:description/>
  <dc:language>en-US</dc:language>
  <cp:lastModifiedBy>Пользователь Windows</cp:lastModifiedBy>
  <dcterms:modified xsi:type="dcterms:W3CDTF">2019-12-16T12:34:27Z</dcterms:modified>
  <cp:revision>58</cp:revision>
  <dc:subject/>
  <dc:title>Слайд 1</dc:title>
</cp:coreProperties>
</file>