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76EC-CD1C-40F0-9932-9F3321ABB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рушит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рушит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рушит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рушит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533-71CE-4706-B68F-F5D5E5A9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986-D59D-41D8-A61E-41F5B4D3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A36-4D65-4F24-9D4C-098BC4D9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A69-5861-4D68-9900-60385ED2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0F98-A3FE-4EA5-82AC-A98230D6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EB7E-9044-4A48-A765-BB8531DF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3017-3086-4085-90B9-39E26170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0134-34BC-4FB0-8FE4-2C1EC3A0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9D9A-363C-4E52-A48B-B78B3FFF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E83C-01C3-4B89-B4A3-AA5D6F77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77E0-96C6-4049-AEB1-6C91E4B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5D6-94EE-422A-BD7D-236E943C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B77F-E6BB-4358-89BA-F1DBEBC4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1356-8B78-4D6A-AFAB-826B6614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37CE-C4A4-41E8-AFEA-B986C4E7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4832-4D56-413F-87E4-E0CD82E1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381C-F052-47EC-A3A6-AF5B46AD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97C-B67B-4AAB-98D1-CB0280DF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03A-87E7-4541-9DDC-985492E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A42-4264-4E1D-9967-47E522AB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07A-5A44-43A8-B1F2-9A54922E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F8E-E32B-4E15-8BEC-9125DD0A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AE3-9B6C-4488-87D1-4C71DD18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3A1-B31B-4FE0-ACC0-D293B43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FF7E-D106-4E81-B984-BF649C4DE6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1E6E-F859-4A8B-9D18-F7FE4B6CBA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aslovka.org/images/111/RES-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ahoma"/>
              </a:rPr>
              <a:t>Сочинения – описания Ф.П. решетниковонь «Тага кафта» картинастонза репродукциять коряс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79280" y="4005000"/>
            <a:ext cx="67071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оклазе и ётафтозе: мокшень кялень и литературань тонафтысь Моисеева Л.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«Переэкзаменовка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ÐÐ°ÑÑÐ¸Ð½ÐºÐ¸ Ð¿Ð¾ Ð·Ð°Ð¿ÑÐ¾ÑÑ ÐÑÐ·ÐµÐ¹ Ð¤.Ð.Ð ÐµÑÐµÑÐ½Ð¸ÐºÐ¾Ð²Ð° ÐºÐ°ÑÑÐ¸Ð½ÐºÐ¸"/>
          <p:cNvPicPr/>
          <p:nvPr/>
        </p:nvPicPr>
        <p:blipFill>
          <a:blip r:embed="rId2"/>
          <a:stretch/>
        </p:blipFill>
        <p:spPr>
          <a:xfrm>
            <a:off x="1332000" y="1700280"/>
            <a:ext cx="6048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549360"/>
            <a:ext cx="828036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ahoma"/>
              </a:rPr>
              <a:t>«Нарушитель»              «За урокам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6" descr="http://s005.radikal.ru/i212/1208/0c/9668b6246c80.jpg"/>
          <p:cNvPicPr/>
          <p:nvPr/>
        </p:nvPicPr>
        <p:blipFill>
          <a:blip r:embed="rId2"/>
          <a:stretch/>
        </p:blipFill>
        <p:spPr>
          <a:xfrm>
            <a:off x="250920" y="1700280"/>
            <a:ext cx="4039920" cy="388944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7" descr="http://img-fotki.yandex.ru/get/9648/121447594.7b6/0_173cbe_4b9da728_XL.jpg"/>
          <p:cNvPicPr/>
          <p:nvPr/>
        </p:nvPicPr>
        <p:blipFill>
          <a:blip r:embed="rId3"/>
          <a:stretch/>
        </p:blipFill>
        <p:spPr>
          <a:xfrm>
            <a:off x="4788000" y="1773360"/>
            <a:ext cx="4041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остали языка»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Содержимое 7" descr="http://www.palitra.co/wp-content/uploads/2012/08/img-UHJdxM.jpg"/>
          <p:cNvPicPr/>
          <p:nvPr/>
        </p:nvPicPr>
        <p:blipFill>
          <a:blip r:embed="rId2"/>
          <a:stretch/>
        </p:blipFill>
        <p:spPr>
          <a:xfrm>
            <a:off x="1116000" y="1197000"/>
            <a:ext cx="6985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Дачас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артинась «Тага кафта» 1952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87640" y="1052640"/>
            <a:ext cx="4105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ahoma"/>
              </a:rPr>
              <a:t>Картинать сёрмадомань история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никсь лятфтазе: «Мяльсь сёрмадомс тя картинать сась прязон  школаса, мзярда улень урокса и ванондонь фкя тонафнить мельге, конанди доскать инголе ашезь решандав задачась. Монь эстокиге прясон эвондась картина, кода кудса васьфтьсазь цёранять, кда сон получай кафта, и ёрань сёрмадомс тянь колга картин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ÐÐ°ÑÑÐ¸Ð½ÐºÐ¸ Ð¿Ð¾ Ð·Ð°Ð¿ÑÐ¾ÑÑ ÐÑÐ·ÐµÐ¹ Ð¤.Ð.Ð ÐµÑÐµÑÐ½Ð¸ÐºÐ¾Ð²Ð° ÐºÐ°ÑÑÐ¸Ð½ÐºÐ¸"/>
          <p:cNvPicPr/>
          <p:nvPr/>
        </p:nvPicPr>
        <p:blipFill>
          <a:blip r:embed="rId2"/>
          <a:stretch/>
        </p:blipFill>
        <p:spPr>
          <a:xfrm>
            <a:off x="324000" y="1413000"/>
            <a:ext cx="4319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ага кафт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Содержимое 13" descr="Опять двойка.jpg"/>
          <p:cNvPicPr/>
          <p:nvPr/>
        </p:nvPicPr>
        <p:blipFill>
          <a:blip r:embed="rId2"/>
          <a:stretch/>
        </p:blipFill>
        <p:spPr>
          <a:xfrm>
            <a:off x="2195640" y="1628640"/>
            <a:ext cx="4402080" cy="4969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одама жанраса сёрматф тя картинась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1194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тинась сёрматф эрямань коень жанра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рямань коень жанрас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зонды ломатнень эрь шинь эряфснон, трудснон, обуцяснон колг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ода художниксь няфтезе, што картинаса главнай геройсь тонафни?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922120"/>
            <a:ext cx="822960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сенце планца художниксь няфтсь цёраня, кона сась школаста. Тядяц, сазороц и ёмла браткац ваныхть лангозон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инать ингольце и фталце планоц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0" y="1628280"/>
            <a:ext cx="3970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я, мезе картинаса няфтьф сяда инголе, видеста ваныть инголе – картинать ингольце плано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я, мезе картинаса няфтьф сяда фтала, ваныть эзда ичкозе – картинать фталце плано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Содержимое 13" descr="Опять двойка.jpg"/>
          <p:cNvPicPr/>
          <p:nvPr/>
        </p:nvPicPr>
        <p:blipFill>
          <a:blip r:embed="rId2"/>
          <a:stretch/>
        </p:blipFill>
        <p:spPr>
          <a:xfrm>
            <a:off x="324000" y="1989000"/>
            <a:ext cx="4038480" cy="45212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Tahoma"/>
              </a:rPr>
              <a:t>Урокть целенз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дафтомс шабатнень Ф.П. Решетниковонь творчестванц марх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нжемс картинать основной мяленц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надомс картина коряс сочинениянь сёрмадо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здомс тонафнихненди сяда кемоста шарьхкодемс, содамс, кельгомс мокшень и рузонь кяльхнен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яфтемс, мезе может улемс. Кда получат каф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зость, мзяра кизодонза цёранять?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2. Мезьса наряжаф цёранясь?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3. Мезе можна азомс сонь ванфонц и шамаликонц колга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92000" y="2565360"/>
            <a:ext cx="5040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Цёраняти 10-11 киз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Цёранять лангса аф коряванза пальта меховой воротник мархта. Пильгсонза од пиндолды галошат и школьнай форма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яц нолдаф алу, ваны шири, улема, сон пели варжакстомс кудстоннетнень ланг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Содержимое 13" descr="Опять двойка.jpg"/>
          <p:cNvPicPr/>
          <p:nvPr/>
        </p:nvPicPr>
        <p:blipFill>
          <a:blip r:embed="rId2"/>
          <a:stretch/>
        </p:blipFill>
        <p:spPr>
          <a:xfrm>
            <a:off x="324000" y="2060640"/>
            <a:ext cx="2627280" cy="45212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езень колга корхтай сонь шоваф портфелец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19280" y="1916280"/>
            <a:ext cx="54212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ёранять кядьса шоваф и сязентьф портфель. Тялонда, улема, сон арни лангсонза пандоня пряста, а кизонда мархтонза налхки футболса. Замокоц кунара ни тапаф и сотнеф кувака пикскаса. Книга вастс портфельста няевихть конькат. Улема, сон урокта меле якась канькаса курьксне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Содержимое 13" descr="Опять двойка.jpg"/>
          <p:cNvPicPr/>
          <p:nvPr/>
        </p:nvPicPr>
        <p:blipFill>
          <a:blip r:embed="rId2"/>
          <a:stretch/>
        </p:blipFill>
        <p:spPr>
          <a:xfrm>
            <a:off x="324000" y="2060640"/>
            <a:ext cx="2627280" cy="45212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ие васьфтезе цёранять кенярдезь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48000" y="1980720"/>
            <a:ext cx="5338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ненясь кенярдсь цёранять саманцты. Сон нльне ингольце пильгонзон путозень цёранять мяштьс и ёразе ноламс шаманц. Арьси, што туйхть азоронц мархта ульцяв налхксе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Содержимое 13" descr="Опять двойка.jpg"/>
          <p:cNvPicPr/>
          <p:nvPr/>
        </p:nvPicPr>
        <p:blipFill>
          <a:blip r:embed="rId2"/>
          <a:stretch/>
        </p:blipFill>
        <p:spPr>
          <a:xfrm>
            <a:off x="684360" y="1773360"/>
            <a:ext cx="2087280" cy="46083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ода ваны тядясь эсь цёранянц лангс, кона получась тага кафта? Мезьса сон наряжаф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19280" y="1988640"/>
            <a:ext cx="5545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ядясь кядензон путозень плманжанзон лангс и ужяльдезь ваны цёранять лангс. Тядять мяштьса  якстерь фартук, пильгсонза тапочкат, а прясонза сенеме руц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Рисунок 8" descr="мама.jpg"/>
          <p:cNvPicPr/>
          <p:nvPr/>
        </p:nvPicPr>
        <p:blipFill>
          <a:blip r:embed="rId2"/>
          <a:stretch/>
        </p:blipFill>
        <p:spPr>
          <a:xfrm>
            <a:off x="684360" y="1700280"/>
            <a:ext cx="24476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да ваны цёранять лангс ёмла браткац? 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19280" y="1981080"/>
            <a:ext cx="52671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 арни велосипедса и пеетькшни кафтонь каннить лангс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Содержимое 13" descr="Опять двойка.jpg"/>
          <p:cNvPicPr/>
          <p:nvPr/>
        </p:nvPicPr>
        <p:blipFill>
          <a:blip r:embed="rId2"/>
          <a:srcRect l="0" t="-2461" r="0" b="0"/>
          <a:stretch/>
        </p:blipFill>
        <p:spPr>
          <a:xfrm>
            <a:off x="539640" y="1413000"/>
            <a:ext cx="2087640" cy="5256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зень колга корхтай стирнять сельмованфоц? Кода сон тонафни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79640" y="1268280"/>
            <a:ext cx="511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nformal Roman"/>
                <a:ea typeface="Times New Roman"/>
              </a:rPr>
              <a:t>Стирнясь цёранять лангс ваны кяжиста, бта ёрай азомс: «Эх тон, мезе тиендят? Тядяньконь ёфси аф ужяльдьсак. Фалу куду каннят аньцек кафтт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nformal Roman"/>
                <a:ea typeface="Times New Roman"/>
              </a:rPr>
              <a:t>Няеви, што стирнясь пяк аккуратнай и тонафни аньцек ветес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nformal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Informal Roman"/>
                <a:ea typeface="Times New Roman"/>
              </a:rPr>
              <a:t>Сон тиезень уроконзон и вандыенди кочкай портфеленц э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Содержимое 13" descr="Опять двойка.jpg"/>
          <p:cNvPicPr/>
          <p:nvPr/>
        </p:nvPicPr>
        <p:blipFill>
          <a:blip r:embed="rId2"/>
          <a:stretch/>
        </p:blipFill>
        <p:spPr>
          <a:xfrm>
            <a:off x="1042920" y="1773360"/>
            <a:ext cx="2233800" cy="4680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да няфтьф квартирась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16000" y="1241280"/>
            <a:ext cx="3970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натне ватьфт сенеме тюссонь краскаса. Кияксти ацаф кавёр. Ужети путф ш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талдонь планца художниксь няфтсь нинге фкя комната. Вальмялангса няйхтяма панчф, а стеса повфтаф географиянь кар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Содержимое 13" descr="Опять двойка.jpg"/>
          <p:cNvPicPr/>
          <p:nvPr/>
        </p:nvPicPr>
        <p:blipFill>
          <a:blip r:embed="rId2"/>
          <a:stretch/>
        </p:blipFill>
        <p:spPr>
          <a:xfrm>
            <a:off x="324000" y="1125360"/>
            <a:ext cx="4176720" cy="5329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зость картинать основной мяленц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льдяв ся, кда куду каннят кафтт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одама краскат авторсь сявондсь картинаса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249228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Художниксь сявондсь разнай тюссонь краскат: сенеме, якстере, коричневай, сянгяряза. Вдь сон азонды аф кодамовок ила колга, а сявсь и няфтсь эряень фкя ш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арнай те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…ртина, кв…ртира, ц…раня, п…льта, п…ртфель , р…бота, к…ток, к…нькат, ул…ц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.П. Решетников «Тага кафт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Содержимое 13" descr="Опять двойка.jpg"/>
          <p:cNvPicPr/>
          <p:nvPr/>
        </p:nvPicPr>
        <p:blipFill>
          <a:blip r:embed="rId2"/>
          <a:stretch/>
        </p:blipFill>
        <p:spPr>
          <a:xfrm>
            <a:off x="2124000" y="1600200"/>
            <a:ext cx="5256360" cy="5257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арнай те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тина, кв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тира, ц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ё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я, п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ьта, п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тфель , р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та, к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, к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ькат, ул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ёрмадость валзюлмотнень и арьседа мархтост валрисьмот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язентьф портфель, каннеф пальта, идень велосипед, простой коврик, шобдаза касынка, школьнай фор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ць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Ф.П. Решетников – содаф худож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«Тага кафта» картинать сёрмадомань история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Главнай геройсь (лангоц, ванфоц, портфелец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Тядять сельмованфо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Стирнять ванфо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Пинесь – цёранять цебярь ялга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Картинать основной мяле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. Монь ванфозе картинать ланг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Тага кафт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2" name="Содержимое 13" descr="Опять двойка.jpg"/>
          <p:cNvPicPr/>
          <p:nvPr/>
        </p:nvPicPr>
        <p:blipFill>
          <a:blip r:embed="rId2"/>
          <a:stretch/>
        </p:blipFill>
        <p:spPr>
          <a:xfrm>
            <a:off x="1979640" y="1413000"/>
            <a:ext cx="5184720" cy="5256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Кудонь тевс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ёрмадом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чинения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черновик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ть эрямань киц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56000" y="1628640"/>
            <a:ext cx="4464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аф художниксь Фёдор Павлович Решетников нинге шабакспингста кельгозе рисовандаманц. Улемок студентокс Московскувонь художественнай институтса, сон уендсь «Челюскин» лемса карабльса. Меле сёрмадозень кой – кона картинанзон, конатнень лемдезень  Арктикати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ай Отечественнай войнать пингста Ф.П. Решетников ульсь фронца. Фашисттнень эзда аралась Севостопольть и Крымть эса. Войнада меле художниксь кярьмодсь эсь тевонцты. Сон рисавась аф фкя карт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4" descr="Картинка 18 из 8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700280"/>
            <a:ext cx="3743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50920" y="981000"/>
            <a:ext cx="50418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ачсь Украинаса художниконь семья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овандась шабакспингста сявом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29 – 1934 тонафнесь  Москуса Высшай художественно – техническяй мастерскойс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ÐÐ°ÑÑÐ¸Ð½ÐºÐ¸ Ð¿Ð¾ Ð·Ð°Ð¿ÑÐ¾ÑÑ Ð¿Ð¾ÑÑÑÐµÑ Ð¤.Ð. Ð ÐµÑÐµÑÐ½Ð¸ÐºÐ¾Ð² ÑÑÐ´Ð¾Ð¶Ð½Ð¸Ðº"/>
          <p:cNvPicPr/>
          <p:nvPr/>
        </p:nvPicPr>
        <p:blipFill>
          <a:blip r:embed="rId2"/>
          <a:stretch/>
        </p:blipFill>
        <p:spPr>
          <a:xfrm>
            <a:off x="250920" y="1125360"/>
            <a:ext cx="3456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шетниковонь музеец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4356360" cy="2451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3951000" cy="2319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0" y="3859200"/>
            <a:ext cx="4572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. Решетниковонь музеец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95640" y="1413000"/>
            <a:ext cx="3457440" cy="230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227640" y="1628640"/>
            <a:ext cx="2916360" cy="234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211640" y="4076640"/>
            <a:ext cx="3673440" cy="269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24000" y="3860640"/>
            <a:ext cx="35636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4248000" cy="307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4032000" cy="268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643280" y="260280"/>
            <a:ext cx="4104000" cy="2730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95280" y="549360"/>
            <a:ext cx="3816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62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.П. Решетниковонь картинанза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«Сась каникулав» 1948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ÐÐ°ÑÑÐ¸Ð½ÐºÐ¸ Ð¿Ð¾ Ð·Ð°Ð¿ÑÐ¾ÑÑ ÐÑÐ·ÐµÐ¹ Ð¤.Ð.Ð ÐµÑÐµÑÐ½Ð¸ÐºÐ¾Ð²Ð° ÐºÐ°ÑÑÐ¸Ð½ÐºÐ¸"/>
          <p:cNvPicPr/>
          <p:nvPr/>
        </p:nvPicPr>
        <p:blipFill>
          <a:blip r:embed="rId2"/>
          <a:stretch/>
        </p:blipFill>
        <p:spPr>
          <a:xfrm>
            <a:off x="1763640" y="1628640"/>
            <a:ext cx="49784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9T11:48:17Z</dcterms:created>
  <dc:creator>Людмила</dc:creator>
  <dc:description/>
  <dc:language>en-US</dc:language>
  <cp:lastModifiedBy>Людмила</cp:lastModifiedBy>
  <dcterms:modified xsi:type="dcterms:W3CDTF">2019-11-27T18:51:22Z</dcterms:modified>
  <cp:revision>6</cp:revision>
  <dc:subject/>
  <dc:title>Слайд 1</dc:title>
</cp:coreProperties>
</file>