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7DC-E23B-45EE-8983-3027DD05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507-3D06-4ABD-B332-C18E378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605-7EDF-48C5-8EF7-C671268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315-D8D1-4948-BA78-B7CAD2B2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E7CA-4C0C-44DD-8832-BD196F88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680-D0E4-409A-9244-4AAA76BA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E5F-547F-4F63-A077-D48A387A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37E1-F2F2-4DF1-961D-5FAB32D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7F3-98DC-4A30-95DB-0C33056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EC7-E007-4D79-BC75-6510C3D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FB0C-D030-49E0-9C84-8E29D12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296-65D8-4C79-887B-346FCD43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45C-A275-4FB9-833A-BF19A52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B723-81F6-41BE-AF02-A26048D1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CC3-991D-4B1D-B7A3-85996588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D405-E43C-4B73-8D0D-2AC2021D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C6DD-5594-485E-B713-28FDA994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E15-4B34-43CE-8706-65C22E60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964-045F-4251-96F4-A392C5CD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FF8-F486-48B7-B115-F4E2949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A63-D842-4B86-977D-B29186A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F2F-B43E-4638-8237-5BE5B16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5A2-965D-4D57-9D7E-1A1BB99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AE8-D31D-4469-AC77-AA74A26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558-5106-4826-89F8-35288AA3D5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43D-D901-4823-994F-1EC1F27124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нь Земли Экологическое дефи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истота спасет мир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268360" y="580536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спитатель И.В. Куракс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ь: способствовать формированию экологической культуры у воспитанников, развивать творческие способности, воспитывать бережное отношение к окружающему ми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и: формировать у детей ответственность за состояние окружающей сре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вивать творческие способ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вой долг гражданин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так и знай, Мусор на улице – не допуска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15" descr="IMAG0652"/>
          <p:cNvPicPr/>
          <p:nvPr/>
        </p:nvPicPr>
        <p:blipFill>
          <a:blip r:embed="rId1"/>
          <a:stretch/>
        </p:blipFill>
        <p:spPr>
          <a:xfrm>
            <a:off x="684360" y="1125360"/>
            <a:ext cx="3146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расивой планет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дет радостно детя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оваться на лес и пол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бережём для себя мы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друзей и для мам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м, что мы называем Земл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7" descr="IMAG0653"/>
          <p:cNvPicPr/>
          <p:nvPr/>
        </p:nvPicPr>
        <p:blipFill>
          <a:blip r:embed="rId1"/>
          <a:stretch/>
        </p:blipFill>
        <p:spPr>
          <a:xfrm>
            <a:off x="1120680" y="1600200"/>
            <a:ext cx="271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720" y="1125360"/>
            <a:ext cx="48592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всегда светит солнц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ленеют поляны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всегда будет чистой рек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цветы расцветают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ускаются листь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по небу плывут обла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7" descr="IMAG0663"/>
          <p:cNvPicPr/>
          <p:nvPr/>
        </p:nvPicPr>
        <p:blipFill>
          <a:blip r:embed="rId1"/>
          <a:stretch/>
        </p:blipFill>
        <p:spPr>
          <a:xfrm>
            <a:off x="1120680" y="1600200"/>
            <a:ext cx="271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ду – лучше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ицы чисты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лумбы цветущи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лнце лучисто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7" descr="IMAG0658"/>
          <p:cNvPicPr/>
          <p:nvPr/>
        </p:nvPicPr>
        <p:blipFill>
          <a:blip r:embed="rId1"/>
          <a:stretch/>
        </p:blipFill>
        <p:spPr>
          <a:xfrm>
            <a:off x="1120680" y="1600200"/>
            <a:ext cx="271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бери свой до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ю улицу, город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азу почувствуешь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горд ты и мол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IMAG0660"/>
          <p:cNvPicPr/>
          <p:nvPr/>
        </p:nvPicPr>
        <p:blipFill>
          <a:blip r:embed="rId1"/>
          <a:stretch/>
        </p:blipFill>
        <p:spPr>
          <a:xfrm>
            <a:off x="1120680" y="1600200"/>
            <a:ext cx="271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3:56:56Z</dcterms:created>
  <dc:creator>дс 26</dc:creator>
  <dc:description/>
  <dc:language>en-US</dc:language>
  <cp:lastModifiedBy>PC</cp:lastModifiedBy>
  <dcterms:modified xsi:type="dcterms:W3CDTF">2019-12-17T19:45:51Z</dcterms:modified>
  <cp:revision>19</cp:revision>
  <dc:subject/>
  <dc:title>День Земли Экологическое дефиле</dc:title>
</cp:coreProperties>
</file>