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B488-724D-40D2-B33C-95CF37FB0B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11FE-E478-403A-8AC4-83634F516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489-BBED-4D1C-ACE7-6E69E962B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5AF-A777-4E61-B910-7DB55F414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E6A-9D3B-4F95-952C-5A281A055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EF1-F7E7-4B2A-8E06-3468BCD4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781-AFF4-4BB0-A179-1886B9F7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C24-9B8F-4814-80BD-D60C00F5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BFE-D2C1-4C12-A16F-F41F5AF9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AC80-A4D0-4942-B828-7FA57FA5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19A5-DC57-4C32-88A7-DFB6915A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A907-5617-40EE-92B0-7CEB4FA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9C7-921E-484B-9C23-2946028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1C7F-15CB-4337-8381-5E043BD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7C52-C627-40D6-991D-6F672D2A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2FA-E822-4FBD-B29F-C1149F4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FA9-113A-4688-B590-639A6AD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10E8-731E-4F76-B55B-41D749A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76C-5634-47E0-AA88-DEA649B4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5635-3539-4053-8BE5-A757A27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13CF-1D0C-4506-99B6-E5228DC9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2221-DAC7-4652-B420-EB4DB78F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90F3-746C-42D9-B960-4BCDEB38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656D-3B61-477C-A872-1962F0F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A631-8E3A-4013-B1D3-6F15C67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8589-D196-4210-8F0F-372C2E1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966A-469A-4063-9543-D4F1400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EED-3C51-4789-80D3-6DB638F3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A22A-71ED-467D-9033-A16F7011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F9DF-E6BD-4D2E-AEFF-23DAF65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1307-BACF-42DC-9520-FE4EF8FA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148E-FA24-422A-935E-188F1DA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2522-2FD4-427A-8AC4-351C9A6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4051-E324-4942-9A5A-C1501627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2D5B-9DD0-4A4B-9CF3-C25513E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8365-2DD1-44DB-AECC-823E5C4C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BE04-4C52-4E0C-95AB-5A7B045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1CE0-B27B-46F7-AD8B-04C2DD0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EEE-E658-4C3B-8146-CA447E5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FEF9-D471-4B0E-AA6F-BD3D82D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6187-344B-473B-BCA2-E63D4D9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B503-1C97-4A3E-8716-B411B10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FBA4-03F5-49FA-8C0A-02B4B06E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A8FD-85E6-4B7B-9312-6CE70AB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D36B-7AC7-49F1-BEDF-43F179D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8613-3861-41F3-9A73-653E110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7E22-6194-42F2-A814-1DBEF32E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E58C-A74C-411A-B5A9-9E801971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54DE-B2CC-4C02-A797-581B168C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F5D-8FD1-4AB7-BF0E-12265F2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34EA-B25A-4172-A16D-6344F9E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D5FB-9002-4289-AAE2-FA635B49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E97D-9A39-4FA2-AD0A-E202F74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C359-7D98-4735-A672-7820FD22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7237-CC48-469D-891B-C5DA777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BF36-C2C2-4206-94FA-29C724E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1A83-9833-4C5C-BB67-8EAC139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0C27-E063-4633-AD0F-328D9E7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5B20D-7530-4224-B86F-4BCD48A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8FF9-0AD0-4EF8-9A2B-0E5A4219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071-3F12-461B-9E70-4BB66914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5AFC-FD72-4091-A71A-FFFFA83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AF4C-C594-4B70-974D-C0C6662B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D3E6-331B-47D4-91FC-A97CF0C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8A21-2E22-47DE-A299-5C1B310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CE77-B8BA-4FF9-871A-A0C82882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1497-3110-4184-8A00-DDF83441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7CB2-FBC1-4F84-B1A2-405B017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49623-1A59-4CE0-9724-52BA472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1AFB-7621-473F-9203-3B01472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CFAB1-09CE-4940-8745-83A462E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DDF-D112-4A33-B9D1-E363439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A273-D23B-4424-99D0-A907FBE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8441-9EDF-453A-9044-DEF31040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6F33-B31A-40AF-9174-3CC0C010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F6AF8-DD2B-4005-A707-32ADA9DD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2897-B18C-4B39-A552-9AC8CF3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3652-5A8D-4D0C-9558-CE84791E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B8AC-97D8-42FB-9386-C6975362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B716-3030-4289-B06D-433260E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54E57-BECB-4A97-8418-9081911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4BCEC-7E9D-436A-A60C-B83C849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8D8-3951-4AF6-94CF-44E496DE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ED2E-C01F-4F62-A632-88CB2F7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005B-17B4-4437-B116-BFA89BA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A441-BA66-4DFF-A1A5-818FA00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4A78-13D0-472B-ADCE-83A475E7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1454-EDD5-4EDF-BC5A-B02C7C41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179-5685-42B2-A63C-DB35C71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B5F-EBE2-422C-86B1-90F1E5CCA70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D0E-239B-41CF-9B1C-D3661C2B1F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C3D-2AD8-46E9-9409-3F77CE9F01D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BC5-9808-4204-8333-1C61D02E65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3EE2-0971-40CC-BA21-A7EF24B9C6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CD0-19CA-408D-81F3-3065AA66EC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C32-E953-499D-8314-F5DA4724C1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рок математики в 9 класс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Дата 2"/>
          <p:cNvSpPr/>
          <p:nvPr/>
        </p:nvSpPr>
        <p:spPr>
          <a:xfrm>
            <a:off x="5867280" y="476280"/>
            <a:ext cx="302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316-B9DD-4928-9E7C-11D6A5991A6C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29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681280" y="331164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тся делить свое время между политикой и уравнениями. Однако уравнения, по-моему, гораздо важнее, потому что политика существует только для данного момента, а   уравнения будут существовать вечно»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Эй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rcRect l="32814" t="19166" r="41875" b="28333"/>
          <a:stretch/>
        </p:blipFill>
        <p:spPr>
          <a:xfrm>
            <a:off x="214200" y="3333600"/>
            <a:ext cx="2408400" cy="281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539640" y="1268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Garamond"/>
              </a:rPr>
              <a:t>Древнегреческий ученый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Garamond"/>
              </a:rPr>
              <a:t>исследовател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Garamond"/>
              </a:rPr>
              <a:t>который впервые доказ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Garamond"/>
              </a:rPr>
              <a:t>существование иррациона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Garamond"/>
              </a:rPr>
              <a:t>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489276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1. Какой этап является обязательным при решении иррациональных уравнений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2. Способ, с помощью которого выполняется проверка решения иррационального уравн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3. Как называется знак корн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4. Сколько решений имеет уравнение х</a:t>
            </a:r>
            <a:r>
              <a:rPr b="0" lang="ru-RU" sz="2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=а, если а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&lt;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0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5. Как называются уравнения, в которых под знаком корня содержится переменна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6. Как называется корень второй степени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859280" y="1125360"/>
            <a:ext cx="3448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пров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р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5580720" y="27813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ради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084720" y="350028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но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5364000" y="4437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иррац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н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5941440" y="515772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ква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ра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572000" y="1989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подстано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4"/>
          <p:cNvSpPr/>
          <p:nvPr/>
        </p:nvSpPr>
        <p:spPr>
          <a:xfrm>
            <a:off x="3221280" y="86040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Е В К Л И 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214200" y="2535120"/>
            <a:ext cx="600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Garamond"/>
              </a:rPr>
              <a:t>Познание мира ведет 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Garamond"/>
              </a:rPr>
              <a:t>совершенствованию д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rcRect l="25164" t="26842" r="49675" b="22349"/>
          <a:stretch/>
        </p:blipFill>
        <p:spPr>
          <a:xfrm>
            <a:off x="6429240" y="2286000"/>
            <a:ext cx="25005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732960" y="500040"/>
            <a:ext cx="76964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+ 2 = 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+ 2 =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 – 2 = 0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      и 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х = 2,     2=2, в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х = -1,     1= -1, лож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 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4"/>
          <p:cNvSpPr/>
          <p:nvPr/>
        </p:nvSpPr>
        <p:spPr>
          <a:xfrm>
            <a:off x="1714680" y="2500200"/>
            <a:ext cx="500040" cy="4287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3354480" y="2428920"/>
            <a:ext cx="503280" cy="4287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"/>
          <p:cNvSpPr/>
          <p:nvPr/>
        </p:nvSpPr>
        <p:spPr>
          <a:xfrm>
            <a:off x="1136520" y="5000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 flipH="1" flipV="1">
            <a:off x="1356840" y="928440"/>
            <a:ext cx="2081160" cy="1515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 flipH="1" flipV="1">
            <a:off x="1285920" y="785880"/>
            <a:ext cx="642960" cy="17143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 flipH="1" flipV="1">
            <a:off x="2500200" y="928800"/>
            <a:ext cx="1090800" cy="1668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1928880" y="928440"/>
            <a:ext cx="500040" cy="157140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4"/>
          <p:cNvSpPr/>
          <p:nvPr/>
        </p:nvSpPr>
        <p:spPr>
          <a:xfrm>
            <a:off x="214200" y="5475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ем уравнения из ОБЗ О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rcRect l="20627" t="8332" r="75156" b="82501"/>
          <a:stretch/>
        </p:blipFill>
        <p:spPr>
          <a:xfrm>
            <a:off x="7500960" y="1071720"/>
            <a:ext cx="1071720" cy="1309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2"/>
          <a:srcRect l="19222" t="49878" r="26594" b="35919"/>
          <a:stretch/>
        </p:blipFill>
        <p:spPr>
          <a:xfrm>
            <a:off x="571680" y="2357280"/>
            <a:ext cx="8356320" cy="16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179 № 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. 179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9, 5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Calibri"/>
              </a:rPr>
              <a:t>Продолжите фразу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егодня на уроке я узна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егодня на уроке я научилс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егодня на уроке я познакомилс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егодня на уроке я повтори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егодня на уроке я закрепи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 flipV="1" rot="10800000">
            <a:off x="1213920" y="1371240"/>
            <a:ext cx="721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, чтобы Ваши возможности пополнялись по мере изучения математики, а на экзамене вы смогли бы подобра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решению любого урав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9680" y="1571400"/>
            <a:ext cx="8186760" cy="5072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Тема урока: </a:t>
            </a:r>
            <a:br>
              <a:rPr sz="3600"/>
            </a:br>
            <a:br>
              <a:rPr sz="3600"/>
            </a:b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Итоговое повторение. Решение рациональных  и иррациональных уравнений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Дата 2"/>
          <p:cNvSpPr/>
          <p:nvPr/>
        </p:nvSpPr>
        <p:spPr>
          <a:xfrm>
            <a:off x="5724360" y="47628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B27-DE16-497E-AFFE-80DAED60C500}" type="datetime">
              <a:rPr b="0" lang="ru-RU" sz="3600" spc="-1" strike="noStrike">
                <a:solidFill>
                  <a:srgbClr val="000000"/>
                </a:solidFill>
                <a:latin typeface="Cambria"/>
              </a:rPr>
              <a:t>29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rcRect l="20627" t="8332" r="75156" b="82501"/>
          <a:stretch/>
        </p:blipFill>
        <p:spPr>
          <a:xfrm>
            <a:off x="285840" y="214200"/>
            <a:ext cx="885600" cy="10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4920" y="1484280"/>
            <a:ext cx="7993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Monotype Corsiva"/>
              </a:rPr>
              <a:t>Линейное       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07360" indent="-2073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Monotype Corsiva"/>
              </a:rPr>
              <a:t>Квадратное</a:t>
            </a:r>
            <a:r>
              <a:rPr b="1" i="1" lang="en-US" sz="4000" spc="-1" strike="noStrike">
                <a:solidFill>
                  <a:srgbClr val="003399"/>
                </a:solidFill>
                <a:latin typeface="Monotype Corsiv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07360" indent="-20736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Monotype Corsiva"/>
              </a:rPr>
              <a:t>Дробно -</a:t>
            </a:r>
            <a:r>
              <a:rPr b="1" i="1" lang="en-US" sz="4000" spc="-1" strike="noStrike">
                <a:solidFill>
                  <a:srgbClr val="003399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Monotype Corsiva"/>
              </a:rPr>
              <a:t>рационально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07360" indent="-207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Monotype Corsiva"/>
              </a:rPr>
              <a:t>Биквадратно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Прямоугольник 10" descr=""/>
          <p:cNvPicPr/>
          <p:nvPr/>
        </p:nvPicPr>
        <p:blipFill>
          <a:blip r:embed="rId1"/>
          <a:stretch/>
        </p:blipFill>
        <p:spPr>
          <a:xfrm>
            <a:off x="1262160" y="487440"/>
            <a:ext cx="6072120" cy="8478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2"/>
          <p:cNvSpPr/>
          <p:nvPr/>
        </p:nvSpPr>
        <p:spPr>
          <a:xfrm>
            <a:off x="4822920" y="1413000"/>
            <a:ext cx="37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4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089320" y="206064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у − 8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5304240" y="39337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2х =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4572000" y="4724280"/>
                <a:ext cx="11224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5724360" y="4724280"/>
                <a:ext cx="16257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4932360" y="2924280"/>
                <a:ext cx="3897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TextBox 20"/>
          <p:cNvSpPr/>
          <p:nvPr/>
        </p:nvSpPr>
        <p:spPr>
          <a:xfrm>
            <a:off x="-180360" y="6021360"/>
            <a:ext cx="725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Какое уравнение остало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Какое уравнение называется иррациональны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равнения, в которых переменная содержится под знаком корня, называются 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иррациональ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i="1" lang="ru-RU" sz="3000" spc="-1" strike="noStrike">
                <a:solidFill>
                  <a:srgbClr val="0070c0"/>
                </a:solidFill>
                <a:latin typeface="Calibri"/>
              </a:rPr>
              <a:t>Устно: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кие из следующих уравнений являются иррациональны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а) х + </a:t>
            </a:r>
            <a:r>
              <a:rPr b="1" i="1" lang="ru-RU" sz="3000" spc="-1" strike="noStrike">
                <a:solidFill>
                  <a:srgbClr val="000000"/>
                </a:solidFill>
                <a:latin typeface="Tw Cen MT"/>
              </a:rPr>
              <a:t>√ х   = 2                д) х </a:t>
            </a:r>
            <a:r>
              <a:rPr b="0" lang="ru-RU" sz="3000" spc="-1" strike="noStrike">
                <a:solidFill>
                  <a:srgbClr val="000000"/>
                </a:solidFill>
                <a:latin typeface="Tw Cen MT"/>
              </a:rPr>
              <a:t>+ √ </a:t>
            </a:r>
            <a:r>
              <a:rPr b="1" lang="ru-RU" sz="3000" spc="-1" strike="noStrike">
                <a:solidFill>
                  <a:srgbClr val="000000"/>
                </a:solidFill>
                <a:latin typeface="Tw Cen MT"/>
              </a:rPr>
              <a:t>х = 0</a:t>
            </a:r>
            <a:r>
              <a:rPr b="1" i="1" lang="ru-RU" sz="30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w Cen MT"/>
              </a:rPr>
              <a:t>б) х √7 = 11+х                 е) у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2 =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w Cen MT"/>
              </a:rPr>
              <a:t>в)у + √ у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 = 2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√ </a:t>
            </a:r>
            <a:r>
              <a:rPr b="1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х – 1</a:t>
            </a:r>
            <a:r>
              <a:rPr b="0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= </a:t>
            </a:r>
            <a:r>
              <a:rPr b="1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4f6228"/>
                </a:solidFill>
                <a:latin typeface="Tw Cen MT"/>
                <a:ea typeface="Times New Roman"/>
              </a:rPr>
              <a:t>  </a:t>
            </a:r>
            <a:r>
              <a:rPr b="1" lang="ru-RU" sz="3000" spc="-1" strike="noStrike">
                <a:solidFill>
                  <a:srgbClr val="4f6228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1"/>
          <p:cNvGrpSpPr/>
          <p:nvPr/>
        </p:nvGrpSpPr>
        <p:grpSpPr>
          <a:xfrm>
            <a:off x="1273320" y="3854520"/>
            <a:ext cx="5572080" cy="1373040"/>
            <a:chOff x="1273320" y="3854520"/>
            <a:chExt cx="5572080" cy="1373040"/>
          </a:xfrm>
        </p:grpSpPr>
        <p:sp>
          <p:nvSpPr>
            <p:cNvPr id="338" name="Line 5"/>
            <p:cNvSpPr/>
            <p:nvPr/>
          </p:nvSpPr>
          <p:spPr>
            <a:xfrm>
              <a:off x="1701720" y="42987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>
              <a:off x="1701720" y="3870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>
              <a:off x="1916280" y="4799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0"/>
            <p:cNvSpPr/>
            <p:nvPr/>
          </p:nvSpPr>
          <p:spPr>
            <a:xfrm>
              <a:off x="1273320" y="52275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5891400" y="3854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>
              <a:off x="6485040" y="42987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ошиб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10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 – 36 = 25 – 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 – 36 +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0,2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= 25 – 45 +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0,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2 ∙ 4 ∙ 4,5 + 4,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∙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∙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5 +4,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4 - 4,5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= (5 - 4,5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- 4,5 = 5 - 4,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=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Основные методы решения иррациональных уравн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2"/>
          <p:cNvSpPr/>
          <p:nvPr/>
        </p:nvSpPr>
        <p:spPr>
          <a:xfrm>
            <a:off x="826920" y="2924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宋体"/>
              </a:rPr>
              <a:t>Метод возведения обеих частей уравнения в одну и ту же степень с последующей проверкой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183240" y="2133720"/>
            <a:ext cx="51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宋体"/>
              </a:rPr>
              <a:t>рафический метод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-797040" y="4221000"/>
            <a:ext cx="1161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宋体"/>
              </a:rPr>
              <a:t>Метод возведения обеих частей уравнения в од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宋体"/>
              </a:rPr>
              <a:t>и ту же степень с использованием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宋体"/>
              </a:rPr>
              <a:t>ОДЗ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686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Monotype Corsiva"/>
              </a:rPr>
              <a:t>1. Графический способ решения уравнения </a:t>
            </a: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324000" y="1413000"/>
            <a:ext cx="82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4"/>
          <p:cNvSpPr/>
          <p:nvPr/>
        </p:nvSpPr>
        <p:spPr>
          <a:xfrm>
            <a:off x="4572000" y="1413000"/>
            <a:ext cx="76320" cy="4427280"/>
          </a:xfrm>
          <a:custGeom>
            <a:avLst/>
            <a:gdLst>
              <a:gd name="textAreaLeft" fmla="*/ 0 w 76320"/>
              <a:gd name="textAreaRight" fmla="*/ 76680 w 76320"/>
              <a:gd name="textAreaTop" fmla="*/ 0 h 4427280"/>
              <a:gd name="textAreaBottom" fmla="*/ 4427640 h 4427280"/>
            </a:gdLst>
            <a:ahLst/>
            <a:rect l="textAreaLeft" t="textAreaTop" r="textAreaRight" b="textAreaBottom"/>
            <a:pathLst>
              <a:path w="128" h="7451">
                <a:moveTo>
                  <a:pt x="54" y="7440"/>
                </a:moveTo>
                <a:lnTo>
                  <a:pt x="54" y="72"/>
                </a:lnTo>
                <a:cubicBezTo>
                  <a:pt x="54" y="66"/>
                  <a:pt x="59" y="61"/>
                  <a:pt x="64" y="61"/>
                </a:cubicBezTo>
                <a:cubicBezTo>
                  <a:pt x="70" y="61"/>
                  <a:pt x="75" y="66"/>
                  <a:pt x="75" y="72"/>
                </a:cubicBezTo>
                <a:lnTo>
                  <a:pt x="75" y="7440"/>
                </a:lnTo>
                <a:cubicBezTo>
                  <a:pt x="75" y="7446"/>
                  <a:pt x="70" y="7451"/>
                  <a:pt x="64" y="7451"/>
                </a:cubicBezTo>
                <a:cubicBezTo>
                  <a:pt x="59" y="7451"/>
                  <a:pt x="54" y="7446"/>
                  <a:pt x="54" y="7440"/>
                </a:cubicBezTo>
                <a:close/>
                <a:moveTo>
                  <a:pt x="0" y="128"/>
                </a:moveTo>
                <a:lnTo>
                  <a:pt x="64" y="0"/>
                </a:lnTo>
                <a:lnTo>
                  <a:pt x="128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900000" y="4076640"/>
            <a:ext cx="7650360" cy="74520"/>
          </a:xfrm>
          <a:custGeom>
            <a:avLst/>
            <a:gdLst>
              <a:gd name="textAreaLeft" fmla="*/ 0 w 7650360"/>
              <a:gd name="textAreaRight" fmla="*/ 7650720 w 76503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2874" h="128">
                <a:moveTo>
                  <a:pt x="10" y="54"/>
                </a:moveTo>
                <a:lnTo>
                  <a:pt x="12803" y="54"/>
                </a:lnTo>
                <a:cubicBezTo>
                  <a:pt x="12809" y="54"/>
                  <a:pt x="12814" y="59"/>
                  <a:pt x="12814" y="64"/>
                </a:cubicBezTo>
                <a:cubicBezTo>
                  <a:pt x="12814" y="70"/>
                  <a:pt x="12809" y="75"/>
                  <a:pt x="12803" y="75"/>
                </a:cubicBezTo>
                <a:lnTo>
                  <a:pt x="10" y="75"/>
                </a:lnTo>
                <a:cubicBezTo>
                  <a:pt x="5" y="75"/>
                  <a:pt x="0" y="70"/>
                  <a:pt x="0" y="64"/>
                </a:cubicBezTo>
                <a:cubicBezTo>
                  <a:pt x="0" y="59"/>
                  <a:pt x="5" y="54"/>
                  <a:pt x="10" y="54"/>
                </a:cubicBezTo>
                <a:close/>
                <a:moveTo>
                  <a:pt x="12746" y="0"/>
                </a:moveTo>
                <a:lnTo>
                  <a:pt x="12874" y="64"/>
                </a:lnTo>
                <a:lnTo>
                  <a:pt x="12746" y="128"/>
                </a:lnTo>
                <a:lnTo>
                  <a:pt x="1274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 flipV="1">
            <a:off x="3132000" y="1700280"/>
            <a:ext cx="4108680" cy="3889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4500720" y="3429000"/>
            <a:ext cx="21564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4716720" y="306864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5292720" y="4005360"/>
            <a:ext cx="1440" cy="207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5148360" y="4221000"/>
            <a:ext cx="21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6012000" y="4005360"/>
            <a:ext cx="1440" cy="207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3"/>
          <p:cNvSpPr/>
          <p:nvPr/>
        </p:nvSpPr>
        <p:spPr>
          <a:xfrm>
            <a:off x="3132000" y="2565360"/>
            <a:ext cx="4248360" cy="158436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32" h="635">
                <a:moveTo>
                  <a:pt x="0" y="635"/>
                </a:moveTo>
                <a:cubicBezTo>
                  <a:pt x="27" y="506"/>
                  <a:pt x="54" y="378"/>
                  <a:pt x="409" y="272"/>
                </a:cubicBezTo>
                <a:cubicBezTo>
                  <a:pt x="764" y="166"/>
                  <a:pt x="1845" y="45"/>
                  <a:pt x="2132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7221600" y="2205000"/>
                <a:ext cx="19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2" name="Text Box 16"/>
          <p:cNvSpPr/>
          <p:nvPr/>
        </p:nvSpPr>
        <p:spPr>
          <a:xfrm>
            <a:off x="7956720" y="407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4643280" y="1197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851280" y="4005360"/>
            <a:ext cx="1440" cy="207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5867280" y="4149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6084720" y="3933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284328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588000" y="1341360"/>
                <a:ext cx="1013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9640" y="1197000"/>
                <a:ext cx="2371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Box 25"/>
          <p:cNvSpPr/>
          <p:nvPr/>
        </p:nvSpPr>
        <p:spPr>
          <a:xfrm>
            <a:off x="-838800" y="587700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ие недостатки у этого способ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amma.org.ua/static/img/0000/0001/2797/12797710.dpxftu4ri8.W665.png"/>
          <p:cNvPicPr/>
          <p:nvPr/>
        </p:nvPicPr>
        <p:blipFill>
          <a:blip r:embed="rId1"/>
          <a:stretch/>
        </p:blipFill>
        <p:spPr>
          <a:xfrm>
            <a:off x="7236000" y="491328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7"/>
          <p:cNvSpPr/>
          <p:nvPr/>
        </p:nvSpPr>
        <p:spPr>
          <a:xfrm>
            <a:off x="690840" y="2133720"/>
            <a:ext cx="12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≈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Monotype Corsiva"/>
              </a:rPr>
              <a:t>2. </a:t>
            </a:r>
            <a:r>
              <a:rPr b="1" lang="ru-RU" sz="3600" spc="-1" strike="noStrike">
                <a:solidFill>
                  <a:srgbClr val="008080"/>
                </a:solidFill>
                <a:latin typeface="Monotype Corsiva"/>
                <a:ea typeface="宋体"/>
              </a:rPr>
              <a:t>Метод возведения обеих частей уравнения в одну и ту же степень с последующей проверкой </a:t>
            </a: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6084720" y="3933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://amma.org.ua/static/img/0000/0001/2797/12797710.dpxftu4ri8.W665.png"/>
          <p:cNvPicPr/>
          <p:nvPr/>
        </p:nvPicPr>
        <p:blipFill>
          <a:blip r:embed="rId1"/>
          <a:stretch/>
        </p:blipFill>
        <p:spPr>
          <a:xfrm>
            <a:off x="8023320" y="5715000"/>
            <a:ext cx="11206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755640" y="1413000"/>
                <a:ext cx="2298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755640" y="2205000"/>
                <a:ext cx="29574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826920" y="2852640"/>
                <a:ext cx="184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6"/>
              <p:cNvSpPr txBox="1"/>
              <p:nvPr/>
            </p:nvSpPr>
            <p:spPr>
              <a:xfrm>
                <a:off x="2627280" y="2852640"/>
                <a:ext cx="631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7"/>
              <p:cNvSpPr txBox="1"/>
              <p:nvPr/>
            </p:nvSpPr>
            <p:spPr>
              <a:xfrm>
                <a:off x="826920" y="3429000"/>
                <a:ext cx="2482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900000" y="4005360"/>
                <a:ext cx="14004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9"/>
              <p:cNvSpPr txBox="1"/>
              <p:nvPr/>
            </p:nvSpPr>
            <p:spPr>
              <a:xfrm>
                <a:off x="0" y="4724280"/>
                <a:ext cx="240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2195640" y="4724280"/>
                <a:ext cx="1617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1"/>
              <p:cNvSpPr txBox="1"/>
              <p:nvPr/>
            </p:nvSpPr>
            <p:spPr>
              <a:xfrm>
                <a:off x="3924360" y="1773360"/>
                <a:ext cx="1800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2"/>
              <p:cNvSpPr txBox="1"/>
              <p:nvPr/>
            </p:nvSpPr>
            <p:spPr>
              <a:xfrm>
                <a:off x="3995640" y="2349360"/>
                <a:ext cx="1683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3"/>
              <p:cNvSpPr txBox="1"/>
              <p:nvPr/>
            </p:nvSpPr>
            <p:spPr>
              <a:xfrm>
                <a:off x="3995640" y="2924280"/>
                <a:ext cx="716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Прямоугольник 38"/>
          <p:cNvSpPr/>
          <p:nvPr/>
        </p:nvSpPr>
        <p:spPr>
          <a:xfrm>
            <a:off x="4649760" y="285264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4"/>
              <p:cNvSpPr txBox="1"/>
              <p:nvPr/>
            </p:nvSpPr>
            <p:spPr>
              <a:xfrm>
                <a:off x="3995640" y="3357720"/>
                <a:ext cx="1300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Прямоугольник 40"/>
          <p:cNvSpPr/>
          <p:nvPr/>
        </p:nvSpPr>
        <p:spPr>
          <a:xfrm>
            <a:off x="5148360" y="3357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5"/>
              <p:cNvSpPr txBox="1"/>
              <p:nvPr/>
            </p:nvSpPr>
            <p:spPr>
              <a:xfrm>
                <a:off x="3924360" y="3860640"/>
                <a:ext cx="22003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6"/>
              <p:cNvSpPr txBox="1"/>
              <p:nvPr/>
            </p:nvSpPr>
            <p:spPr>
              <a:xfrm>
                <a:off x="3995640" y="4292640"/>
                <a:ext cx="2584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3995640" y="4941720"/>
                <a:ext cx="9651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Прямая соединительная линия 45"/>
          <p:cNvSpPr/>
          <p:nvPr/>
        </p:nvSpPr>
        <p:spPr>
          <a:xfrm>
            <a:off x="3851280" y="1413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6"/>
          <p:cNvSpPr/>
          <p:nvPr/>
        </p:nvSpPr>
        <p:spPr>
          <a:xfrm>
            <a:off x="5011920" y="4869000"/>
            <a:ext cx="17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3924360" y="5300640"/>
                <a:ext cx="170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Прямоугольник 48"/>
          <p:cNvSpPr/>
          <p:nvPr/>
        </p:nvSpPr>
        <p:spPr>
          <a:xfrm>
            <a:off x="5759280" y="52862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−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сторонний кор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9"/>
          <p:cNvSpPr/>
          <p:nvPr/>
        </p:nvSpPr>
        <p:spPr>
          <a:xfrm>
            <a:off x="475200" y="551664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3</a:t>
            </a:r>
            <a:r>
              <a:rPr b="1" lang="ru-RU" sz="3600" spc="-1" strike="noStrike">
                <a:solidFill>
                  <a:srgbClr val="008080"/>
                </a:solidFill>
                <a:latin typeface="Monotype Corsiva"/>
              </a:rPr>
              <a:t>. </a:t>
            </a:r>
            <a:r>
              <a:rPr b="1" lang="ru-RU" sz="3600" spc="-1" strike="noStrike">
                <a:solidFill>
                  <a:srgbClr val="008080"/>
                </a:solidFill>
                <a:latin typeface="Monotype Corsiva"/>
                <a:ea typeface="宋体"/>
              </a:rPr>
              <a:t>Метод возведения обеих частей уравнения в одну и ту же степень с  использованием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宋体"/>
              </a:rPr>
              <a:t>ОДЗ </a:t>
            </a: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6084720" y="393372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684360" y="1773360"/>
                <a:ext cx="2298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7"/>
              <p:cNvSpPr txBox="1"/>
              <p:nvPr/>
            </p:nvSpPr>
            <p:spPr>
              <a:xfrm>
                <a:off x="1268280" y="3030480"/>
                <a:ext cx="3303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1501920" y="3890880"/>
                <a:ext cx="1849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9"/>
              <p:cNvSpPr txBox="1"/>
              <p:nvPr/>
            </p:nvSpPr>
            <p:spPr>
              <a:xfrm>
                <a:off x="3429000" y="3929040"/>
                <a:ext cx="676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1573200" y="4540320"/>
                <a:ext cx="14000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2"/>
              <p:cNvSpPr txBox="1"/>
              <p:nvPr/>
            </p:nvSpPr>
            <p:spPr>
              <a:xfrm>
                <a:off x="1428840" y="5259240"/>
                <a:ext cx="240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3"/>
              <p:cNvSpPr txBox="1"/>
              <p:nvPr/>
            </p:nvSpPr>
            <p:spPr>
              <a:xfrm>
                <a:off x="3805200" y="5259240"/>
                <a:ext cx="1617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Box 49"/>
          <p:cNvSpPr/>
          <p:nvPr/>
        </p:nvSpPr>
        <p:spPr>
          <a:xfrm>
            <a:off x="1221480" y="585792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1"/>
          <p:cNvSpPr/>
          <p:nvPr/>
        </p:nvSpPr>
        <p:spPr>
          <a:xfrm>
            <a:off x="1294560" y="256860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 ≥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2"/>
          <p:cNvSpPr/>
          <p:nvPr/>
        </p:nvSpPr>
        <p:spPr>
          <a:xfrm>
            <a:off x="5500800" y="52862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 удовл. усло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Макеева</cp:lastModifiedBy>
  <dcterms:modified xsi:type="dcterms:W3CDTF">2019-04-10T07:35:02Z</dcterms:modified>
  <cp:revision>145</cp:revision>
  <dc:subject/>
  <dc:title>Дробно-рациональные уравнения</dc:title>
</cp:coreProperties>
</file>