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BDC1-4808-4083-92D8-152EE7680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67D7-37FE-4A01-A7F5-C5D588997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ED1C-DB38-4DB1-ACFB-C6D07591E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C47F-B96B-4416-91B0-E48E37BFE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2B996-3F93-4B1C-BF70-3E3EFF849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29E4C-D140-4609-A6A3-9ABBD56C2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A8761-9E13-4708-BDC0-AA2FF5859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18309-144E-4AA8-9667-26FB28325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0B757-57EB-4227-8CE7-0C0DB8900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D4DF0-E775-444D-9F96-CD87DDF9C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AB002-3975-46C3-9F0F-3A173601A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52FE-C934-4F68-8FFE-5F4D7F3C6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A8B6B-7F89-41A0-B1B1-A0FA24399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19C6F-C6B4-4006-9516-330C22F2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5F2B6-BFD1-46EF-A492-0E21B3896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70811-BDE9-46D2-ABA1-35997305B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DE140-9B6F-4977-84AB-9D99F0385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3C9AA-29C2-47C2-8785-12B8E96C1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B11D9-780E-489F-A822-42A5E5D26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6A09A-D4E4-48FC-8B1C-F467794D2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9156B-0A6D-49E0-93FD-3DCF2A1E3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BEFED-971D-4BAA-9857-42FD9DA64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8968-B185-4DE3-A709-9C186665B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3BADF-2C08-4FF5-B14C-1B54A8367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36423-A3F1-492E-BA0B-FF137D864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08B68-687C-4D04-AD8D-D110A716A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19373-1C12-4619-BFDE-C8F73BCD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FA688-70DA-4B17-82AF-255DE5CC6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CE991-FE87-49BC-8318-7F34F692F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993D0-33EF-4DE9-9838-5C03D420C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E3B87-F6D9-4A2B-8967-7F8B3D676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E0835-FA72-40DD-A00C-F7E376F01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EF634-A1EB-4AE1-8870-EAACBB7BC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A913-C314-4326-844D-58CA91241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3509C-7755-4BA8-AE0F-6E4DC3612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66C8B-A460-4AE6-96B4-88289A93C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DA135-D4EB-429F-8660-EA465536E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9E0CE-902F-4D61-A758-81E9C89CE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3D515-7715-41BB-9D8F-5AE7D1E2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99201-D577-4C08-86CA-3592C799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BFF2D-A08F-407F-8F2C-74CA628BE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FF51D-BA2E-48F7-9820-9E741A92F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60AB2-98D5-4F94-A93D-61B35DD33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78953D-D2F1-4D99-A20D-34788EE8C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A21F-3581-482D-8BB4-32EC08677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6027BD-6E25-49C7-8DB7-50D6F3FCA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7E2DA2-7BBE-4C1A-98B9-D6D795DE6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B1993-66A5-4743-9367-2E186D3DA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D58887-59C8-4FA4-B513-D71196D5D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88C13-73D0-4C6A-8844-050F90C6C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568610-2B0F-43E5-A8F0-284D07175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C0D60B-A136-43D4-A329-4EF19FB3E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B5725-E196-4109-9415-8FD0F0860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D5BB6-ED45-44CC-8A47-274387394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6A63F4-6802-412E-9452-61987A028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1716-05E3-4BB9-8D21-593D12564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3DE18-C5D4-4387-A294-CA979C22A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CE079E-600F-46B4-B71A-E23B9AA50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667C07-D786-4B08-8BBE-090676F3F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77651B-5406-451F-8ECB-3AEC1F135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6EE59-0018-42F1-9A67-DFE8758C4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28AFCE-8556-46A0-8432-CD853B848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66B8E-4792-4D8F-BCF2-4E796AF35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266998-011C-40C1-A675-02909833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3BE376-0844-4FB2-8D40-077E6764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A72D6A-C9B9-4993-9721-336C528D0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81A5-10CB-4839-860D-0DB4B5A59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D4F609-3860-4770-BDE2-1152A1407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2AFA89-8310-474A-BCCF-082B3CEBA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19BBDF-2F75-4F74-9B48-0FF98F832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5F08C1-161E-4C16-93C8-02EC52AE9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F6C42A-55EF-46C7-A3BC-4634F6AD0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1B932C-3F54-4531-A0FE-C5A8AE5D4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4FCC74-0D0B-4A2D-8AA5-4E5B9D9DC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D32EA5-72B2-4AB8-BA05-FA8758534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FDABCC-796A-464C-BC5F-BB62E6CBE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948C6F-B6F6-49FD-9BF3-BBCB488F7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71E4-DA20-4DC6-927D-D8B169B29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6C9444-7B39-406D-A369-53A364485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2358F3-86C7-453C-8B80-77638D4B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A49A56-C826-4A4E-A04C-84E00EB63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F89399-836C-4717-96DB-C13F2AA68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105E77-8944-4A13-BF2F-E1DE12683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A655-149C-4B35-ACCA-A469DB78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0E091-9FE5-42BE-8BB8-64C5518DA909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690A3-E8F8-4673-A86B-FDAF9C3CFD89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3A4E2-D4DB-4851-848D-1D8D54EC65E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37324-4D05-4A9C-B33C-DC72441A4128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57DB9-29AF-424A-9034-6861EA4E930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4EB33-BA11-4DDF-8C15-939516C243CF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251CD-54A8-4301-8826-8557318FAB7B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Кружок «Волшебная изонить»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184428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ndara"/>
              </a:rPr>
              <a:t>Руководитель: воспитатель Аверина Вера Алексеевна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ndara"/>
              </a:rPr>
              <a:t>Детский сад № 16 «Алёнка»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7" name="Прямоугольник 1"/>
          <p:cNvSpPr/>
          <p:nvPr/>
        </p:nvSpPr>
        <p:spPr>
          <a:xfrm>
            <a:off x="2286000" y="2813040"/>
            <a:ext cx="4572000" cy="41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Цель: </a:t>
            </a:r>
            <a:br>
              <a:rPr sz="20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владение техникой изонити. Развитие мелкой моторики, художественных способностей и эстетического вкуса.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Задачи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знакомить детей с техникой изонит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учить детей создавать художественный образ путем пересечения цветных нитей на картон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125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ndara"/>
              </a:rPr>
              <a:t>Изонить – техника, напоминающая вышивание. Она заключается в создании художественного образа путем пересечения цветных нитей на картоне.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39" name="Picture 4" descr="D:\Фото детский сад\IMG_1100.JPG"/>
          <p:cNvPicPr/>
          <p:nvPr/>
        </p:nvPicPr>
        <p:blipFill>
          <a:blip r:embed="rId1"/>
          <a:stretch/>
        </p:blipFill>
        <p:spPr>
          <a:xfrm>
            <a:off x="928800" y="2286000"/>
            <a:ext cx="6905520" cy="414324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Формы творческих объединений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67644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коллективная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64508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индивидуальная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43" name="Рисунок 2" descr=""/>
          <p:cNvPicPr/>
          <p:nvPr/>
        </p:nvPicPr>
        <p:blipFill>
          <a:blip r:embed="rId1"/>
          <a:stretch/>
        </p:blipFill>
        <p:spPr>
          <a:xfrm>
            <a:off x="4727520" y="3213000"/>
            <a:ext cx="4092480" cy="3311640"/>
          </a:xfrm>
          <a:prstGeom prst="rect">
            <a:avLst/>
          </a:prstGeom>
          <a:ln w="0">
            <a:noFill/>
          </a:ln>
        </p:spPr>
      </p:pic>
      <p:pic>
        <p:nvPicPr>
          <p:cNvPr id="344" name="Рисунок 5" descr=""/>
          <p:cNvPicPr/>
          <p:nvPr/>
        </p:nvPicPr>
        <p:blipFill>
          <a:blip r:embed="rId2"/>
          <a:stretch/>
        </p:blipFill>
        <p:spPr>
          <a:xfrm>
            <a:off x="324000" y="3244680"/>
            <a:ext cx="4092480" cy="3311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9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ndara"/>
              </a:rPr>
              <a:t>Используемые методы</a:t>
            </a:r>
            <a:endParaRPr b="0" lang="en-US" sz="5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94920" y="1268280"/>
            <a:ext cx="382284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73e87"/>
                </a:solidFill>
                <a:uFillTx/>
                <a:latin typeface="Candara"/>
              </a:rPr>
              <a:t>Словесные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Объяснение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Вопросы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Игровые упражнения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Беседы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47" name="Содержимое 5" descr="DSC03431.JPG"/>
          <p:cNvPicPr/>
          <p:nvPr/>
        </p:nvPicPr>
        <p:blipFill>
          <a:blip r:embed="rId1"/>
          <a:stretch/>
        </p:blipFill>
        <p:spPr>
          <a:xfrm>
            <a:off x="4788000" y="3898800"/>
            <a:ext cx="3708360" cy="28116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2" descr="G:\DSC03435.JPG"/>
          <p:cNvPicPr/>
          <p:nvPr/>
        </p:nvPicPr>
        <p:blipFill>
          <a:blip r:embed="rId2"/>
          <a:stretch/>
        </p:blipFill>
        <p:spPr>
          <a:xfrm>
            <a:off x="539640" y="3898800"/>
            <a:ext cx="3673440" cy="28116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Candara"/>
              </a:rPr>
              <a:t>Практические приемы 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676440" y="1844280"/>
            <a:ext cx="382248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Отмерить нить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Вдеть нитку в иголку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Завязывание узелк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Работать с трафаретом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Умение заполнять угол, окружность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Оформлять свою вышивку в картину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51" name="Содержимое 4" descr="DSC03402.JPG"/>
          <p:cNvPicPr/>
          <p:nvPr/>
        </p:nvPicPr>
        <p:blipFill>
          <a:blip r:embed="rId1"/>
          <a:stretch/>
        </p:blipFill>
        <p:spPr>
          <a:xfrm>
            <a:off x="4854600" y="1413000"/>
            <a:ext cx="3716280" cy="2328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G:\DSC03406.JPG"/>
          <p:cNvPicPr/>
          <p:nvPr/>
        </p:nvPicPr>
        <p:blipFill>
          <a:blip r:embed="rId2"/>
          <a:stretch/>
        </p:blipFill>
        <p:spPr>
          <a:xfrm>
            <a:off x="4859280" y="3889440"/>
            <a:ext cx="3711600" cy="24192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Содержимое 5" descr="SAM_0005.JPG"/>
          <p:cNvPicPr/>
          <p:nvPr/>
        </p:nvPicPr>
        <p:blipFill>
          <a:blip r:embed="rId1"/>
          <a:stretch/>
        </p:blipFill>
        <p:spPr>
          <a:xfrm>
            <a:off x="324000" y="2060640"/>
            <a:ext cx="3181320" cy="230508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Моя улица                Опушка лес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5" name="Содержимое 3" descr="C:\Users\Q\Pictures\img066.jpg"/>
          <p:cNvPicPr/>
          <p:nvPr/>
        </p:nvPicPr>
        <p:blipFill>
          <a:blip r:embed="rId2"/>
          <a:stretch/>
        </p:blipFill>
        <p:spPr>
          <a:xfrm>
            <a:off x="4067280" y="2565360"/>
            <a:ext cx="4681440" cy="35276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285840" y="157140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Расширяется круг знаний и умений детей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Приобретение практических навыков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Появляется устойчивый интерес к этому виду деятельности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ndara"/>
              </a:rPr>
              <a:t>Предполагаемые результаты: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8" name="Picture 4" descr="G:\DSC03439.JPG"/>
          <p:cNvPicPr/>
          <p:nvPr/>
        </p:nvPicPr>
        <p:blipFill>
          <a:blip r:embed="rId1"/>
          <a:stretch/>
        </p:blipFill>
        <p:spPr>
          <a:xfrm>
            <a:off x="1571760" y="2714760"/>
            <a:ext cx="4786200" cy="38574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0T10:51:11Z</dcterms:created>
  <dc:creator>)))</dc:creator>
  <dc:description/>
  <dc:language>en-US</dc:language>
  <cp:lastModifiedBy>Надя</cp:lastModifiedBy>
  <dcterms:modified xsi:type="dcterms:W3CDTF">2019-12-17T02:39:27Z</dcterms:modified>
  <cp:revision>53</cp:revision>
  <dc:subject/>
  <dc:title>Кружок «Волшебная изонить»</dc:title>
</cp:coreProperties>
</file>