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DF5-6D28-4C32-A1EF-4FD9565E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518-B971-4AC1-A15A-A611DBEC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064-0E7C-444A-846A-C30E6CEA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303-E741-4BA8-B801-2F352959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2E1-2DD0-4999-81D8-68E5B4D8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9D0-8FD6-4F06-9940-537FCEDA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303-3E64-4377-9E86-F8FF7A85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3F9-EAED-4CFC-9848-F03FAC74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9CB-5F65-484A-AD66-7DF2817E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464-E4FC-4C2A-ABF0-46F8D437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DC0-F244-40ED-9E02-5651937B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1DE-E19B-491C-A068-BF4F8E85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1304-258F-44F6-9CC9-E7034464A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1\Desktop\ММО\на  семинар\маст3.jpg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2286000" y="296712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Arial"/>
              </a:rPr>
              <a:t>Сингапурская методика</a:t>
            </a:r>
            <a:r>
              <a:rPr b="1" lang="en-US" sz="2400" spc="-1" strike="noStrike">
                <a:solidFill>
                  <a:srgbClr val="262626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Arial"/>
              </a:rPr>
              <a:t>обу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Arial"/>
              </a:rPr>
              <a:t>современные подходы организации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Times New Roman"/>
                <a:ea typeface="Arial"/>
              </a:rPr>
              <a:t>                     </a:t>
            </a:r>
            <a:r>
              <a:rPr b="1" i="1" lang="ru-RU" sz="1800" spc="-1" strike="noStrike">
                <a:solidFill>
                  <a:srgbClr val="262626"/>
                </a:solidFill>
                <a:latin typeface="Times New Roman"/>
                <a:ea typeface="Arial"/>
              </a:rPr>
              <a:t>учитель начальных классов ГБОУ СОШ №547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Times New Roman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262626"/>
                </a:solidFill>
                <a:latin typeface="Times New Roman"/>
                <a:ea typeface="Arial"/>
              </a:rPr>
              <a:t>Хажиева Рузия  Аскатул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2916360" y="1700280"/>
            <a:ext cx="3327120" cy="77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C:\Users\1\Desktop\ММО\на  семинар\слайд6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2050920" y="404640"/>
            <a:ext cx="480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Stir the Clas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468360" y="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Каждый участник должен опросить  и записать  как можно больше  ответов участников к зад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Задание :объяснить понятие «кооперативное обучение»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826920" y="404640"/>
            <a:ext cx="676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, serif"/>
                <a:ea typeface="Arial"/>
              </a:rPr>
              <a:t>Кооперативное обуч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, serif"/>
                <a:ea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, serif"/>
                <a:ea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, serif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, serif"/>
                <a:ea typeface="Arial"/>
              </a:rPr>
              <a:t>это тщательно структурированная учебная деятельность, где учащиеся несут личную ответственность за индивидуальный вклад, участие и обучение. Учащиеся также обеспечиваются стимулом для работы в команде и взаимо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324000" y="145080"/>
            <a:ext cx="8569080" cy="472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S Mincho"/>
              </a:rPr>
              <a:t>4.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«РАУНД ТЭЙБ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Round Table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аждая команда за 3 минуты на большом листе бумаги должна написать, как можно больше   слов или словосоче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MS Mincho"/>
              </a:rPr>
              <a:t>Задание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 Mincho"/>
              </a:rPr>
              <a:t>Какие критерии необходимы  для успешной групповой работы учащихся на уроке?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Начинает партнер под  номером 1и так далее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5. «Микс Пэа Шэа»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(Mix Pair Shar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971640" y="1773360"/>
            <a:ext cx="345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и под музыку перемещаются по кабинету, как только музыка прекращает играть, образуют пару для обсуждения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C:\Users\user\Desktop\teachers-students-fellows-board-white-background-1280x960.jpg"/>
          <p:cNvPicPr/>
          <p:nvPr/>
        </p:nvPicPr>
        <p:blipFill>
          <a:blip r:embed="rId1"/>
          <a:stretch/>
        </p:blipFill>
        <p:spPr>
          <a:xfrm>
            <a:off x="5364000" y="141300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C:\Users\user\Desktop\i.jpg"/>
          <p:cNvPicPr/>
          <p:nvPr/>
        </p:nvPicPr>
        <p:blipFill>
          <a:blip r:embed="rId2"/>
          <a:stretch/>
        </p:blipFill>
        <p:spPr>
          <a:xfrm>
            <a:off x="755640" y="115920"/>
            <a:ext cx="1143000" cy="1314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:\Users\user\Desktop\hello_html_m1d9b6d4b.jpg"/>
          <p:cNvPicPr/>
          <p:nvPr/>
        </p:nvPicPr>
        <p:blipFill>
          <a:blip r:embed="rId3"/>
          <a:stretch/>
        </p:blipFill>
        <p:spPr>
          <a:xfrm>
            <a:off x="5364000" y="3500280"/>
            <a:ext cx="3097440" cy="1952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380880" y="4419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«Микс Фриз Груп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685800" y="533412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уют группы для обсуждения. Количество человек в группе не огранич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Берегись автомобиля - Вальс (А. Петров).mp3" descr=""/>
          <p:cNvPicPr/>
          <p:nvPr/>
        </p:nvPicPr>
        <p:blipFill>
          <a:blip r:embed="rId4"/>
          <a:stretch/>
        </p:blipFill>
        <p:spPr>
          <a:xfrm>
            <a:off x="795672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95280" y="345960"/>
            <a:ext cx="84978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6. «Тимбилдин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TEAMBUILDING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)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MS Mincho"/>
              </a:rPr>
              <a:t>Шаг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MS Mincho"/>
              </a:rPr>
              <a:t>1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MS Mincho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На маленьких листочках запишите ответ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MS Mincho"/>
              </a:rPr>
              <a:t>-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MS Mincho"/>
              </a:rPr>
              <a:t>На каких уроках вы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MS Mincho"/>
              </a:rPr>
              <a:t>часто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MS Mincho"/>
              </a:rPr>
              <a:t>используете групповую работу?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042920" y="-1328040"/>
            <a:ext cx="59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55640" y="628200"/>
            <a:ext cx="712944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Times New Roman"/>
                <a:ea typeface="MS Mincho"/>
              </a:rPr>
              <a:t>Шаг 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Сложите большой лист  так, что чтобы образовались  три треугольника в верхне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как будто вы начинаете делать самолети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2.Пронумеруем, полученные фигуры: на двух крайних треугольниках и одном нижнем прямоугольнике проставляются цифры 1,2,3. Центральный треугольник подписываетс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S Mincho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С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S Mincho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Безымянный.png"/>
          <p:cNvPicPr/>
          <p:nvPr/>
        </p:nvPicPr>
        <p:blipFill>
          <a:blip r:embed="rId1"/>
          <a:stretch/>
        </p:blipFill>
        <p:spPr>
          <a:xfrm>
            <a:off x="3635280" y="4476600"/>
            <a:ext cx="4824360" cy="2143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468360" y="52812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MS Mincho"/>
              </a:rPr>
              <a:t>Шаг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-Каждый участник проговаривает один из своих ответов, остальные слушают и знаком (большой палец вверх или вниз) показывают, есть ли у них такой же ответ. Если ответ у всех  имеется, то слово записывается в центральный треугольник. Если согласны трое - в прямоугольник под номером 3, двое -  во второй треугольник, и т.д. И так по кругу пока не истечет время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depositphotos_12800998-stock-illustration-thumb-up-and-down.jpg"/>
          <p:cNvPicPr/>
          <p:nvPr/>
        </p:nvPicPr>
        <p:blipFill>
          <a:blip r:embed="rId1"/>
          <a:stretch/>
        </p:blipFill>
        <p:spPr>
          <a:xfrm>
            <a:off x="826920" y="4508640"/>
            <a:ext cx="3457800" cy="2125440"/>
          </a:xfrm>
          <a:prstGeom prst="rect">
            <a:avLst/>
          </a:prstGeom>
          <a:ln w="0">
            <a:noFill/>
          </a:ln>
        </p:spPr>
      </p:pic>
      <p:pic>
        <p:nvPicPr>
          <p:cNvPr id="85" name="30sek.mp4" descr=""/>
          <p:cNvPicPr/>
          <p:nvPr/>
        </p:nvPicPr>
        <p:blipFill>
          <a:blip r:embed="rId2"/>
          <a:stretch/>
        </p:blipFill>
        <p:spPr>
          <a:xfrm>
            <a:off x="4716360" y="4221000"/>
            <a:ext cx="417672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611280" y="3429000"/>
            <a:ext cx="799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Какие преимущества дает  сингапурская методика при работе с группо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788000" y="466560"/>
            <a:ext cx="338436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642960" y="5716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3030"/>
                </a:solidFill>
                <a:latin typeface="Times New Roman"/>
                <a:ea typeface="Arial"/>
              </a:rPr>
              <a:t>Использование Сингапурской методики обучения</a:t>
            </a:r>
            <a:r>
              <a:rPr b="1" lang="en-US" sz="3600" spc="-1" strike="noStrike">
                <a:solidFill>
                  <a:srgbClr val="303030"/>
                </a:solidFill>
                <a:latin typeface="Times New Roman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57120" y="1714680"/>
            <a:ext cx="8353440" cy="714240"/>
          </a:xfrm>
          <a:prstGeom prst="roundRect">
            <a:avLst>
              <a:gd name="adj" fmla="val 21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Не предполагает полный отказ от традиционного подхода. Можно использовать одну из обучающих структур на любом этап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7"/>
          <p:cNvSpPr/>
          <p:nvPr/>
        </p:nvSpPr>
        <p:spPr>
          <a:xfrm>
            <a:off x="357120" y="2500200"/>
            <a:ext cx="8353440" cy="714600"/>
          </a:xfrm>
          <a:prstGeom prst="roundRect">
            <a:avLst>
              <a:gd name="adj" fmla="val 21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беспечивает полную вовлеченность всех обучаемых в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8"/>
          <p:cNvSpPr/>
          <p:nvPr/>
        </p:nvSpPr>
        <p:spPr>
          <a:xfrm>
            <a:off x="357120" y="3286080"/>
            <a:ext cx="8353440" cy="714600"/>
          </a:xfrm>
          <a:prstGeom prst="roundRect">
            <a:avLst>
              <a:gd name="adj" fmla="val 21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беспечивает социализ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9"/>
          <p:cNvSpPr/>
          <p:nvPr/>
        </p:nvSpPr>
        <p:spPr>
          <a:xfrm>
            <a:off x="357120" y="4071960"/>
            <a:ext cx="8353440" cy="714240"/>
          </a:xfrm>
          <a:prstGeom prst="roundRect">
            <a:avLst>
              <a:gd name="adj" fmla="val 21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Дает возможность создать комфортную, дружелюбную атмосф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0"/>
          <p:cNvSpPr/>
          <p:nvPr/>
        </p:nvSpPr>
        <p:spPr>
          <a:xfrm>
            <a:off x="357120" y="4857840"/>
            <a:ext cx="8353440" cy="714240"/>
          </a:xfrm>
          <a:prstGeom prst="roundRect">
            <a:avLst>
              <a:gd name="adj" fmla="val 21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Позволяет провести урок в соответствии с требованиями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11"/>
          <p:cNvSpPr/>
          <p:nvPr/>
        </p:nvSpPr>
        <p:spPr>
          <a:xfrm>
            <a:off x="357120" y="5643720"/>
            <a:ext cx="8353440" cy="714240"/>
          </a:xfrm>
          <a:prstGeom prst="roundRect">
            <a:avLst>
              <a:gd name="adj" fmla="val 21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твечает требованиям всех стилей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332000" y="33336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структуры сингапурской методики, их актуальность  и эффективность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1258920" y="1557360"/>
            <a:ext cx="648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мастер-клас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Показать алгоритм создания условий  взаимодействия учителя и  обучающихся в рамках сингапурской метод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Отработать некоторые приемы сингапурской методики группов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Обогащение знаний и представлений педагогов о структурах группов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Передача педагогом своего опыта путем прямого и комментированного показа последовательности действий, методов, приемов и форм группов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Сингапурская компани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«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EDUCARE     INTERNATIONAL CONSULTANCY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зяла на вооружение лучший мировой опыт и  систематизировала обучающие структуры для организации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C:\Users\1\Desktop\ММО\на  семинар\слайд 5.jpg"/>
          <p:cNvPicPr/>
          <p:nvPr/>
        </p:nvPicPr>
        <p:blipFill>
          <a:blip r:embed="rId1"/>
          <a:stretch/>
        </p:blipFill>
        <p:spPr>
          <a:xfrm>
            <a:off x="108000" y="836640"/>
            <a:ext cx="3887640" cy="51847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2411280" y="260280"/>
            <a:ext cx="44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7.   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orner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ятиугольник 4"/>
          <p:cNvSpPr/>
          <p:nvPr/>
        </p:nvSpPr>
        <p:spPr>
          <a:xfrm>
            <a:off x="4211640" y="981000"/>
            <a:ext cx="4419720" cy="156384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1563840"/>
              <a:gd name="textAreaBottom" fmla="*/ 1564200 h 156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9" y="0"/>
                </a:lnTo>
                <a:lnTo>
                  <a:pt x="21600" y="10800"/>
                </a:lnTo>
                <a:lnTo>
                  <a:pt x="177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Я – сторонник группов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ятиугольник 5"/>
          <p:cNvSpPr/>
          <p:nvPr/>
        </p:nvSpPr>
        <p:spPr>
          <a:xfrm>
            <a:off x="4140360" y="2781360"/>
            <a:ext cx="4413240" cy="1565280"/>
          </a:xfrm>
          <a:custGeom>
            <a:avLst/>
            <a:gdLst>
              <a:gd name="textAreaLeft" fmla="*/ 0 w 4413240"/>
              <a:gd name="textAreaRight" fmla="*/ 4413240 w 441324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69" y="0"/>
                </a:lnTo>
                <a:lnTo>
                  <a:pt x="21600" y="10800"/>
                </a:lnTo>
                <a:lnTo>
                  <a:pt x="177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ля меня групповая работа –это большие трудн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ятиугольник 6"/>
          <p:cNvSpPr/>
          <p:nvPr/>
        </p:nvSpPr>
        <p:spPr>
          <a:xfrm>
            <a:off x="4140360" y="4583160"/>
            <a:ext cx="4518000" cy="1852560"/>
          </a:xfrm>
          <a:custGeom>
            <a:avLst/>
            <a:gdLst>
              <a:gd name="textAreaLeft" fmla="*/ 0 w 4518000"/>
              <a:gd name="textAreaRight" fmla="*/ 4518360 w 4518000"/>
              <a:gd name="textAreaTop" fmla="*/ 0 h 1852560"/>
              <a:gd name="textAreaBottom" fmla="*/ 1852920 h 18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71" y="0"/>
                </a:lnTo>
                <a:lnTo>
                  <a:pt x="21600" y="10800"/>
                </a:lnTo>
                <a:lnTo>
                  <a:pt x="171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егодня я нашла ответы на многие проблемные вопросы по теме семина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асибо большое всем участникам за поддержку и взаимопо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13586254.jpg"/>
          <p:cNvPicPr/>
          <p:nvPr/>
        </p:nvPicPr>
        <p:blipFill>
          <a:blip r:embed="rId1"/>
          <a:stretch/>
        </p:blipFill>
        <p:spPr>
          <a:xfrm>
            <a:off x="1547640" y="2219400"/>
            <a:ext cx="5911920" cy="3946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857160" y="428760"/>
            <a:ext cx="74408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Обучающие структуры  сингапурской методики помогут организ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Группа 7" descr=""/>
          <p:cNvPicPr/>
          <p:nvPr/>
        </p:nvPicPr>
        <p:blipFill>
          <a:blip r:embed="rId1"/>
          <a:stretch/>
        </p:blipFill>
        <p:spPr>
          <a:xfrm>
            <a:off x="414360" y="1200240"/>
            <a:ext cx="3529080" cy="3457440"/>
          </a:xfrm>
          <a:prstGeom prst="rect">
            <a:avLst/>
          </a:prstGeom>
          <a:ln w="0">
            <a:noFill/>
          </a:ln>
        </p:spPr>
      </p:pic>
      <p:pic>
        <p:nvPicPr>
          <p:cNvPr id="48" name="Группа 14" descr=""/>
          <p:cNvPicPr/>
          <p:nvPr/>
        </p:nvPicPr>
        <p:blipFill>
          <a:blip r:embed="rId2"/>
          <a:stretch/>
        </p:blipFill>
        <p:spPr>
          <a:xfrm>
            <a:off x="5499000" y="1182600"/>
            <a:ext cx="3522600" cy="3456000"/>
          </a:xfrm>
          <a:prstGeom prst="rect">
            <a:avLst/>
          </a:prstGeom>
          <a:ln w="0">
            <a:noFill/>
          </a:ln>
        </p:spPr>
      </p:pic>
      <p:pic>
        <p:nvPicPr>
          <p:cNvPr id="49" name="Группа 10" descr=""/>
          <p:cNvPicPr/>
          <p:nvPr/>
        </p:nvPicPr>
        <p:blipFill>
          <a:blip r:embed="rId3"/>
          <a:stretch/>
        </p:blipFill>
        <p:spPr>
          <a:xfrm>
            <a:off x="4572000" y="3633840"/>
            <a:ext cx="3097080" cy="3095640"/>
          </a:xfrm>
          <a:prstGeom prst="rect">
            <a:avLst/>
          </a:prstGeom>
          <a:ln w="0">
            <a:noFill/>
          </a:ln>
        </p:spPr>
      </p:pic>
      <p:pic>
        <p:nvPicPr>
          <p:cNvPr id="50" name="Группа 7" descr=""/>
          <p:cNvPicPr/>
          <p:nvPr/>
        </p:nvPicPr>
        <p:blipFill>
          <a:blip r:embed="rId4"/>
          <a:stretch/>
        </p:blipFill>
        <p:spPr>
          <a:xfrm>
            <a:off x="1030320" y="3706920"/>
            <a:ext cx="3193920" cy="30906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971640" y="4653000"/>
            <a:ext cx="3357360" cy="11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1\Desktop\ММО\на  семинар\слайд1.jpg"/>
          <p:cNvPicPr/>
          <p:nvPr/>
        </p:nvPicPr>
        <p:blipFill>
          <a:blip r:embed="rId1"/>
          <a:stretch/>
        </p:blipFill>
        <p:spPr>
          <a:xfrm>
            <a:off x="468360" y="333360"/>
            <a:ext cx="3527280" cy="295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1\Desktop\ММО\на  семинар\слайд2.jpg"/>
          <p:cNvPicPr/>
          <p:nvPr/>
        </p:nvPicPr>
        <p:blipFill>
          <a:blip r:embed="rId2"/>
          <a:stretch/>
        </p:blipFill>
        <p:spPr>
          <a:xfrm>
            <a:off x="4356000" y="333360"/>
            <a:ext cx="417672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1\Desktop\ММО\на  семинар\слайд2.jpg"/>
          <p:cNvPicPr/>
          <p:nvPr/>
        </p:nvPicPr>
        <p:blipFill>
          <a:blip r:embed="rId3"/>
          <a:stretch/>
        </p:blipFill>
        <p:spPr>
          <a:xfrm>
            <a:off x="468360" y="3500280"/>
            <a:ext cx="3672000" cy="324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C:\Users\1\Desktop\ММО\на  семинар\слайд3.jpg"/>
          <p:cNvPicPr/>
          <p:nvPr/>
        </p:nvPicPr>
        <p:blipFill>
          <a:blip r:embed="rId4"/>
          <a:stretch/>
        </p:blipFill>
        <p:spPr>
          <a:xfrm>
            <a:off x="4427640" y="3500280"/>
            <a:ext cx="403200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C:\Users\1\Desktop\ММО\1.jpg"/>
          <p:cNvPicPr/>
          <p:nvPr/>
        </p:nvPicPr>
        <p:blipFill>
          <a:blip r:embed="rId1"/>
          <a:stretch/>
        </p:blipFill>
        <p:spPr>
          <a:xfrm>
            <a:off x="395280" y="1341360"/>
            <a:ext cx="4392720" cy="499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1\Desktop\ММО\на  семинар\слайд4.jpg"/>
          <p:cNvPicPr/>
          <p:nvPr/>
        </p:nvPicPr>
        <p:blipFill>
          <a:blip r:embed="rId2"/>
          <a:stretch/>
        </p:blipFill>
        <p:spPr>
          <a:xfrm>
            <a:off x="5148360" y="1341360"/>
            <a:ext cx="3719520" cy="499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. «Тэйк Оф – Тач Даун»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(Take off-Touch down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встать - сесть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33520" y="2209680"/>
            <a:ext cx="358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ля получения информации о классе (кто решил задачу одним способом, двумя, тремя), а также знакомства с классом. Или, 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учащиеся считают утверждение верным, то они встают, в противном случае они остаются на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C:\Users\user\Desktop\68812970.jpg"/>
          <p:cNvPicPr/>
          <p:nvPr/>
        </p:nvPicPr>
        <p:blipFill>
          <a:blip r:embed="rId1"/>
          <a:stretch/>
        </p:blipFill>
        <p:spPr>
          <a:xfrm>
            <a:off x="4876920" y="2286000"/>
            <a:ext cx="304776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3924360" y="1989000"/>
            <a:ext cx="50403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611280" y="62064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2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«Релли Роби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Rally Robin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539640" y="1773360"/>
            <a:ext cx="302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учающая структу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которой два участника поочередно обмениваются короткими ответами в виде с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539640" y="313920"/>
            <a:ext cx="7920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Times New Roman"/>
                <a:ea typeface="MS Mincho"/>
              </a:rPr>
              <a:t>Шаг 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сем участникам в течении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 минут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нужно записать на листочках ответ на вопро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S Mincho"/>
              </a:rPr>
              <a:t>–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MS Mincho"/>
              </a:rPr>
              <a:t>Какие трудности встречаются при организации групповой работы на уроках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Times New Roman"/>
                <a:ea typeface="MS Mincho"/>
              </a:rPr>
              <a:t>Шаг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бмениваемся своим мнением с  партнером по пле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Начинает партнер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611280" y="84708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MS Mincho"/>
              </a:rPr>
              <a:t>Шаг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теперь необходимо пообщаться  с партнером по лицу. Высказываем свое мнение и мнение  партнера по плеч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Начинает партнер 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5:09:47Z</dcterms:created>
  <dc:creator>User</dc:creator>
  <dc:description/>
  <dc:language>en-US</dc:language>
  <cp:lastModifiedBy>Рузия Хажиева</cp:lastModifiedBy>
  <dcterms:modified xsi:type="dcterms:W3CDTF">2019-12-17T16:51:51Z</dcterms:modified>
  <cp:revision>107</cp:revision>
  <dc:subject/>
  <dc:title>Слайд 1</dc:title>
</cp:coreProperties>
</file>