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3404-46EA-435E-AD67-5BAC615FF3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FC94-3421-481A-89DC-228D54F939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0359-3446-41DF-A123-E1D9994D30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BD8B-E12D-4E5D-B3AC-17AA8CDE71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70D0-BED9-4C12-AA2B-E85E92DE6C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CF78-186B-4B77-9172-4A31B03DDD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688C-058D-45D8-A39E-D4258F3D23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1686-A251-42BE-AD56-C5E30FC411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5984-47B8-4F6A-827E-33FC6626A9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06B4-D26A-4802-B1C2-555F3E6F32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FC0B-5CDD-4A36-B0FA-73EAF57D24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3631-F8CE-4731-831A-1669B60259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AA71-F47C-4561-A07E-8D590AAD57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E6D3-7577-4CCD-BB8D-C052609E5A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DE66-7C8E-455F-A7F5-A3F12E3BCA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4A6C-EB67-47AD-B333-D44DCF4F5D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91D1-2C30-4E95-823E-925896F7A6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9064-1ED4-4A8B-82BC-C815638966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B5E6-E038-457B-95BE-E78E9D494F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50AD-D666-46E1-AA0E-B6E603109A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484D-A7E1-4136-B3E9-4677405EF8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364B-9919-4292-80EA-C6E0EB77C3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038F-A740-47AD-A716-E36D6DE1F6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792-A3BC-44BD-BCA6-B2D6FBAE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F84-B647-43B0-88E1-595A86BF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281-7B6C-44B1-9174-48D5C7DF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6FCF-9FCA-4000-BBD5-F7ED5A72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822A-1272-4F7F-A784-87725E6A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1B77-2BE6-47F7-B17F-BE81A072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4F27-7DC6-4D27-82A8-59E0DAB4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CE35-38EE-4B82-96B8-D8F09360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FDBF-4FE3-4B74-A158-216ACACD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C8D8-A685-46F9-A05E-A3D2B8C8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B313-5C34-45C4-955F-9742A0F2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0C1-B89B-458C-A6DE-912D74AE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0457-EA12-4DE9-A1AB-49AE75E6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7D3B-59CB-4A8F-8F90-E61F9B15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25C4-89A6-4A3E-9F4B-20C39310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850D-20A5-45E7-B8E1-2127BE7B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89FA-9663-4DDE-94B2-66A7E94B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6C4C-5D26-4398-AF8A-8E119ECE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ADF67-C1AA-428F-8F7F-5668198D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49E8-81B4-4975-B562-490C35C9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A8CE-FBD8-4190-9557-58680E2A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B7CCA-6EE3-4682-A343-4D1A3DF6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D02-10E0-4CDA-80CC-A09139EC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7B5D2-3FEF-4910-9055-55F0A75E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2E26-3E27-4E93-AEAC-AF2B7827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A2851-6E95-4F8A-B5E3-EF7CA6A8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F727-8A88-49C0-A3A1-0FA37CAF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FE96C-71FF-4190-AF3F-CFF77325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7692B-1B8B-4E96-A7C0-12223152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27462-D166-4A77-8425-6946F27B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BF0A-BB32-4939-9CE2-781F726A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2655D-F939-4A12-BB00-629D0730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0EEDD-5E14-49AD-A409-26B4A9D9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6A9-D5B2-4986-B59D-94993460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81A44-C142-4F89-A4B2-48CEB678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5FFA9-6EDB-4D8C-9BB2-0D6B279B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1DF4A-87E8-45F3-8052-E89FE8C6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C7EB1-4C31-4539-BE26-70731BA5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A400B-CBB1-4220-A8BD-F9789BA4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ACB96-CAA3-45A9-A519-5882F396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54D35-FDCB-486C-B713-F3906273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6B30E-F6C3-41D3-B925-78345251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21A75-DE81-4D36-9FA7-7BC1FA7B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8A08E-ABFF-4C7A-82E3-4AB1E7C4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BA4-DE77-434D-B053-6B136159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683C2-BA82-4B68-BF5A-BF1D5CAA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5AF3E-7A8F-4246-AC98-D54C16C6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476F0-74BA-4C6E-8831-BA930DEE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60C7C-F4AE-4D2F-9B2D-9A9D5260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0B749-4282-4B7C-B72E-47525ECC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631F7-56BD-41F5-8DE7-8BCA30C7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1AA6E-75F1-4A0B-8F6C-F6A874A5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F6E34-7D75-4D3A-884C-F95E81DD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799A5-DEEB-4A18-A888-0D314AE6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63639-8245-4A5A-BF72-63C611F1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4D3-125D-4173-9A6D-DCFF6964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BB093-96B4-4BA4-8442-4581F598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33840-EE5C-4DEA-BC50-C203596C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862E9-2159-4A57-994F-2F5BFED0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243B4-9B7B-4C9B-AAD2-84A8F36C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B76A3-4B4D-433D-B7A9-369FF261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896D5-D5E4-4923-883E-E21E79E4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B6793-3FFF-45D2-8D71-EBCC8A62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C1FFC-1CB8-4EA2-BD78-79F7E46E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D5B96-1485-41B5-86CC-295E6F0A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9AA79-CB6F-4223-A65B-4D4447CF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DC5-51B9-43CB-ABB5-0206112C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5BDCD-1C02-42F5-9700-2191F806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DA389-C739-4E41-B85A-0C8AD70F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D445D-E0C9-4483-910A-A1EDE6A3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7C6EA-08B9-4F48-9831-36C8F17A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31DB1-D38B-4B50-B563-3663DBB2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CD79D-9CED-42DC-8034-A5660B07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C7430-C699-4A39-BA68-4EC18162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886F0-FAB8-485A-B9CF-1CFA9130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A7BF4-92D0-416C-9968-ACD61DBC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EE6CD-DB52-47AC-9D51-1062FEF3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82F-FB92-41DA-8A69-11999AA5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37771-8C7C-4624-B2A6-2842F117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822F6-7A1A-4905-808D-DFA01B50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68487-DB85-4863-A957-5A72D7F4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7D7ED-5B12-4940-9251-AB3B1D58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AF958-31BE-4AEC-9AA5-0B74330A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986FC-0392-45C0-9DDC-F719E78C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CD0FE-CB47-4EF4-8264-7ADDDF0F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F2C5B-5082-4E19-9FC4-078AD77C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8BD10-1141-4074-BFF9-15B7AD8B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AF1D4-846F-4EA5-BE77-736E6E99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7D6-77A8-4C18-ADD2-2B444CA3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348E2-73CB-4005-97FC-3DBC7EE4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5376A-0538-44CE-A11D-CA5010BB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F8519-63FD-40DF-A45E-2A956E2A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26114-7831-4183-93F4-639BDBB4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D9737-9238-4CAE-A297-02935F1A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03F01-B0F0-46A6-B534-AEEE0729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57632-E044-4312-A9C6-84D77D6C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9571-D85D-42C7-82AB-24E121EFCDB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ACB6-BF33-45B0-89F2-AA6A87912FF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E350-0479-4372-94FD-E24C01B7316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0775-E8B1-44B0-B487-7D3147EE472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04E1-E90F-41B6-9FF1-E883E44F6D5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F593-0C3E-4664-955C-8AF9FB1CAC9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F57A-CF51-4EC6-AD70-AD65294DE35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0910-8568-4B8A-9FD3-9EC413F4C70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file:///C:/Users/&#1055;&#1086;&#1083;&#1100;&#1079;&#1086;&#1074;&#1072;&#1090;&#1077;&#1083;&#1100;/Documents/&#1084;&#1086;&#1085;&#1080;&#1090;&#1086;&#1088;&#1080;&#1085;&#1075;/&#1087;&#1088;&#1080;&#1084;&#1077;&#1088;&#1099;%20&#1090;&#1077;&#1089;&#1090;&#1086;&#1074;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3" descr=""/>
          <p:cNvPicPr/>
          <p:nvPr/>
        </p:nvPicPr>
        <p:blipFill>
          <a:blip r:embed="rId1"/>
          <a:stretch/>
        </p:blipFill>
        <p:spPr>
          <a:xfrm>
            <a:off x="689040" y="1390680"/>
            <a:ext cx="7826400" cy="2529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Выступление на районном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семинаре-практикуме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МО учителей начальных классо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учителя начальных классов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МБОУ Сосьвинская СОШ Сандовой В.В</a:t>
            </a:r>
            <a:r>
              <a:rPr b="0" lang="ru-RU" sz="2400" spc="-1" strike="noStrike">
                <a:solidFill>
                  <a:srgbClr val="464646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Отслеживает достижения учащихся в процессе усвоения ими содержания образован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остроен таким образом, чтобы уровни формирования мониторинга (федеральный, региональный, муниципальный и внутришкольный) были связаны между собой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о результатам анализа всей информации происходит соответствующее изменение содержания образован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Источником информации является контроль знаний учащихся. При этом максимально объективным, надежным, измеренным, обработанным и эффективно подготовленным к использованию в педагогической практике является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тестирование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I групп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– мониторинг уровня ЗУН обучающихся («цель – результат»)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II групп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– мониторинг, связанный с непосредственным накоплением и структуризацией информации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III групп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– системы мониторинга, построенные с использованием модели «вход – выход»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IV групп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– системы мониторинга на уровне образовательного учреждения. 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С их помощью предпринимаются попытки ответить на вопросы об эффективности той или иной технологии обучения, выделить факторы, влияющие на качество обучения, найти примеры связи квалификации педагога и результатов преподавания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328680" y="274680"/>
            <a:ext cx="83581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457200" y="1481040"/>
          <a:ext cx="8229600" cy="4019760"/>
        </p:xfrm>
        <a:graphic>
          <a:graphicData uri="http://schemas.openxmlformats.org/drawingml/2006/table">
            <a:tbl>
              <a:tblPr/>
              <a:tblGrid>
                <a:gridCol w="3328920"/>
                <a:gridCol w="4900680"/>
              </a:tblGrid>
              <a:tr h="128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Объект монитор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Методы и 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7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Результативность учебно-воспитательного процес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 тестирование (тестовые задания и КИМы итоговой аттестации)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 анализ уровня обученности и обучаемости учащегося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 информационная карта текущей успеваемости и посещаемости учащегос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285840" y="255600"/>
            <a:ext cx="840096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бученность-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это реально усвоенный уровень знаний, умений и навык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н ( уровень) определяется тестовыми задания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бученность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это одна из характеристик уровня образованности ученика, достигнутого в процессе дифференцированного обучения. Показателями обученности, как это принято в современной педагогике, являются уровни усвоения знаний и умений, которые варьируются у разных авторов. </a:t>
            </a: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(Б.Блум, Н.Я.Конфидератов, В.П.Симонов, В.П.Беспалько, В.Н.Максимова, Т.И.Дормидонова и др.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бъективность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истематичн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аглядность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 уровень обученности: - различе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н характеризует низшую степень, когда учащийся отличает объект от его аналогов только по ярко выраженным признакам. Например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На узнавание (0-2).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Выпишите число, в разряде десятков которого есть: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54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1428840" y="4214880"/>
          <a:ext cx="6095880" cy="20415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 едини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 един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8 853 285 208 80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47 742 275 207 70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8 841 384 308 80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7 741 374 307 70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78 871 681 608 80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87 781 671 507 70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1428840" y="2928960"/>
          <a:ext cx="6095880" cy="4572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тематика, 3 класс, 1 полугод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2 уровень обученности - запоминан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чащийся может пересказать содержание текста, правила, но это не служит доказательством понимания. Например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 запоминание (0-2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4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2" name=""/>
          <p:cNvGraphicFramePr/>
          <p:nvPr/>
        </p:nvGraphicFramePr>
        <p:xfrm>
          <a:off x="1571760" y="3000240"/>
          <a:ext cx="6095880" cy="4572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тематика, 3 класс, 1 полугод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1571760" y="4000680"/>
          <a:ext cx="6095880" cy="20952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99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5966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секунд в 1 минуте?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в метров в 1 километре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минут в 1 часе?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в 1 тонне килограмм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 уровень обученности - пониман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н предполагает нахождение существенных признаков и связей явлений, предметов на основе анализа и синтеза. Например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На понимание (0-2).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равнить произведения, не вычисляя их значений. Указать на сколько одно произведение больше другого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36 х 15 * 36 х 14 на ..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870 х 19 * 2870 х 18 на...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 х 8 * а х 7 на ..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4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1500120" y="3000240"/>
          <a:ext cx="6096240" cy="4572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тематика, 3 класс, 1 полугод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4 уровень - простейшие умения и навы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оказатель высокой степени обученно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мения – это закрепленные способы применения знаний в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выки – это умения, доведенные до автоматизма. Например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Обобщение внутри темы (0-2)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ычисли, сделай проверку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1643040" y="5000760"/>
          <a:ext cx="6095880" cy="14968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499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99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21 : 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5 : 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99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832 : 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4 : 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1643040" y="3786120"/>
          <a:ext cx="6095880" cy="4572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тематика, 3 класс, 1 полугод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бразования в школе являются следующие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- уровень здоровья и здорового образа жизни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- уровень нравственного, духовного и морального воспитания личности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- уровень развития, готовность к жизни в семье и социуме, готовность к продолжению образования и труду в рыночных условиях, овладение ключевыми компетенциями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- уровень обученности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- уровень владения творческой деятельностью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    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ся управленческая деятельность опирается на результаты педагогического мониторинга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00040" y="128592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5 уровень – перенос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чащиеся умеют обобщать, применять полученные знания в новой ситуации. Это самый высокий уровень. Например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Обобщение между темами (0-2).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ыполни действ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акие ошибки можно допустить при выполнении этого задания? Составь план самопроверки по 1 выражению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426960" y="96840"/>
            <a:ext cx="822960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1571760" y="2857680"/>
          <a:ext cx="6095880" cy="4269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тематика, 3 класс, 1 полугод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500200" y="3571920"/>
          <a:ext cx="6096240" cy="1406520"/>
        </p:xfrm>
        <a:graphic>
          <a:graphicData uri="http://schemas.openxmlformats.org/drawingml/2006/table">
            <a:tbl>
              <a:tblPr/>
              <a:tblGrid>
                <a:gridCol w="3071880"/>
                <a:gridCol w="3024360"/>
              </a:tblGrid>
              <a:tr h="4687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690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21: 7 + 8979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03600 - 279853) * 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687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60003 - 495437) * 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832: 8 + 5783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Выноска со стрелкой вправо 5"/>
          <p:cNvSpPr/>
          <p:nvPr/>
        </p:nvSpPr>
        <p:spPr>
          <a:xfrm>
            <a:off x="5500800" y="5857920"/>
            <a:ext cx="3286080" cy="571320"/>
          </a:xfrm>
          <a:prstGeom prst="rightArrowCallout">
            <a:avLst>
              <a:gd name="adj1" fmla="val 25002"/>
              <a:gd name="adj2" fmla="val 25000"/>
              <a:gd name="adj3" fmla="val 25004"/>
              <a:gd name="adj4" fmla="val 8883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1 уровень обученности: - различение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Он характеризует низшую степень, когда учащийся отличает объект от его аналогов только по ярко выраженным признакам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2 уровень обученности - запоминание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Учащийся может пересказать содержание текста, правила, но это не служит доказательством понимани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3 уровень обученности - понимание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Он предполагает нахождение существенных признаков и связей явлений, предметов на основе анализа и синтеза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4 уровень - простейшие умения и навыки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Показатель высокой степени обученности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Умения – это закрепленные способы применения знаний в практической деятельности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Навыки – это умения, доведенные до автоматизма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5 уровень  обученности – перенос: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Учащиеся умеют обобщать, применять полученные знания в новой ситуации. Это самый высокий уровень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Заголовок 2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57176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3"/>
          <p:cNvSpPr/>
          <p:nvPr/>
        </p:nvSpPr>
        <p:spPr>
          <a:xfrm>
            <a:off x="5643720" y="5786280"/>
            <a:ext cx="25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Пример диагностики по русск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92880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     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Контроль знаний, умений и навыков учащихся – один из важнейших элементов учебного процесса, от его правильной организации во многом зависит эффективность управления педагогическим процессо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     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Совокупность выше указанных методов контроля позволяет получить достаточно точную и объективную картину обученности учащихся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     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Благодаря контролю между учителем и учащимися устанавливается «обратная связь», которая позволяет оценивать динамику усвоения учебного материала, действительный уровень владения системой знаний, умений и навыков и на основе их анализа вносить соответствующие коррективы в организацию учебного процесс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Заголовок 6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это конкретное средство для определения расхождения между образовательным процессом и его целям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ая задача мониторинга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непрерывное отслеживание состояния учебного процесса. Эта задача может быть решена путём проведения начального, промежуточного и итогового срезов и анализа их результато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457200" y="285840"/>
          <a:ext cx="8229600" cy="5851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чальный сре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ромежуточный сре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Итоговый сре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02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озволяет сформировать мотивацию учащихся, назначить дополнительные занятия, корректировать тематическое планирование изучаемого материала, выбрать необходимую методику обу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озволит определить качество обучения учащихся, объективность оценки учителем знаний учащихся, способность учителя к рефлексии учеб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одведение итогов учебного года. Оценка успешности освоения учащимися предмета, заключение об уровне успешности выполнения учебной програм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о контрольным срезам, тестированию,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анализу результатов ЕГЭ можно судить и о реальном уровне квалификации педаго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Условия,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при которых можно провести качественный мониторинг: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технические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адровые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рограммно-методические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________________________________________________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днако в любом случае получение объективных данных в процессе образовательного мониторинга зависит от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аличия инструментар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остоянной обратной связи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коррекции мониторинга и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262080" y="274680"/>
            <a:ext cx="8577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 мониторингу нужно готовиться с начала учебного год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дания должны быть составлены в соответствии с программой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оводить тестирование надо после изучения темы, определяя таким образом уровень подготовленности учащихся и уровень усвоения материа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аждый ученик должен самостоятельно выполнять работу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оверка должна быть качественной и объективной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осле анализа результатов работать над пробелами в знаниях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298440" y="274680"/>
            <a:ext cx="8388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прерывность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остоверность (кто осуществляет, уровень подготовленности специалистов, их добросовестность, инструментарий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воевременность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лно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лученных в ходе мониторинга, будет только при условии отражения сводных данных в виде таблиц, что позволяет установить динамику успешности освоения предмета как отдельным учащимся так и класса в целом, провести сравнение учебных достижений по годам обучения, по предметам, а также преемственность в обучени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дагогический мониторинг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сихологический мониторинг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ниторинг физического развития и здоровья школьник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298440" y="274680"/>
            <a:ext cx="8418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1:52:16Z</dcterms:created>
  <dc:creator>Пользователь</dc:creator>
  <dc:description/>
  <dc:language>en-US</dc:language>
  <cp:lastModifiedBy>user</cp:lastModifiedBy>
  <dcterms:modified xsi:type="dcterms:W3CDTF">2019-12-17T19:28:19Z</dcterms:modified>
  <cp:revision>73</cp:revision>
  <dc:subject/>
  <dc:title>Мониторинг результатов обучения в начальной школе</dc:title>
</cp:coreProperties>
</file>