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AAD-AB26-4E5C-BA51-5321C791AA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8BBE-FA2F-4D11-AEC5-9E08BCAA8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D824-4B92-4832-8176-1056EF966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CF78-5EC1-4495-8044-9DD561D1FA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F5E5-0B2C-4863-9C4E-D86F867C37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28FF-C6FF-4780-877E-90A1A9B37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72E0-E4BA-4E15-B833-2CE2D2DCA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88C2-84F9-45AE-A575-21EBBBC13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A0C-CB8D-4A6F-8058-C618CC5E9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5D0E-9033-4CC7-871C-E59175C59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3478-79EC-4467-82EE-F6CED1A4EC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0345-A0A9-419E-BFEC-C14C18B34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6FF-ABF9-4739-BBF3-691F68DCF1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D036-1979-4DDC-A4CC-4CF048EBB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9425-7589-4A0F-A795-F3CEA0E09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31C1-B754-4E4F-8A8F-383CBA055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E9A-69FE-4953-9A70-8A20F0EB6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B723-29C7-4FB5-8D37-6FC8A8BEFB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46F-B44F-4148-94C8-C3A0956F68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EBB-0B81-4A03-B87C-9D0379BC4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E47-751E-47DB-BBCC-FD592C6BB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66BD-A1E1-426D-9245-129D0E4C7D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DCDB-1065-4D2E-B4CB-C58415B18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A76-8E8B-4F5A-A211-87F35DD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BB1-949C-4F63-89E2-0BDE9A4B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FB0-D9C5-4997-96A1-C8D131B1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D95-264C-48FB-960B-39356D5F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DF73-F469-426A-8A46-8FF25B5C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2D7F-A308-489C-820F-51C67B17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9724-1679-4F28-8493-0B7CA7CD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B7C6-92BB-4187-8E65-5DF769CE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BCA2-CE31-4BF3-81E4-14E7EB1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EC7-3E2A-405B-9185-FF03B3BA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837A-8725-4076-8B9F-3ED8935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64C-040C-4BA2-BC3A-A426383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E0C-40C2-4692-A930-600E69F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DB68-8074-45D4-AA45-EE8B9BFA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C5C-7C33-4288-8E3F-603C81A7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C8A-16CD-48DE-A1D2-D3087528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8E1-13D5-410A-BA3D-12F0A137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AFD8-B033-4CA1-BC93-2DA3DFCD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0A60-2937-45E3-8C2A-94B1EDD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45CB-0E4A-4C81-8739-8FD00B83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DED8-FE55-40B0-98E1-B5AC5EF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AB9D-503A-4CE2-A338-FE13BE26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5DD-A786-4FCE-BC54-3BD47D6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A353-D988-4D1E-A634-BD95E54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E27C5-1648-4B63-B88F-808A50D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4C4B-FCA9-448A-A477-287AAF35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72A1-6310-4F01-BBAA-3B26CA0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F616-0AE1-4568-BFF1-509ABF60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4E9B-B6BE-4F2C-991C-D5523630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AE2F-4FF3-4ABC-89CE-8AA17A93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88A9-B589-4FBD-B9CB-E508DAF7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18C8-4AAE-4314-B557-782D64B1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D5099-3DB7-4EAA-BA1F-D425EDC6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3BF-8492-4A09-AD06-7FB369E7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D9F71-011C-46AF-B049-0E86D6F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FF8B-6597-435E-AF0C-0873FC6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BA0D-09FE-40E3-8F4A-B7ADE59C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6EA0-706B-4F7D-8E62-E0112160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2601-6394-4D6B-9AFF-989A900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FDCB-FC86-4972-BA78-235D2A8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C79F-B651-439B-92A4-E0CB51AE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CCA8-92B7-495C-86DF-E647B671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36C3-22A5-4826-80E7-BF4EA63B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08EE-4EDC-497F-A538-33916541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FA2-CBDE-4B43-B1ED-958DC222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278D-AAB0-4E97-A45E-CBED3E06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978E-A002-4C31-8488-05927014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0310-1F8C-4B02-B63D-3E837CF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F099-2A43-4B76-8739-AF48690D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9638-AF07-4C5B-8862-087CA17B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DDD8C-9778-4428-8984-EB2D0534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E83D-FE29-491F-9464-B667EBC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7618-0485-48A1-BC85-1464C3B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95A0-9BBC-44B9-B360-19EEF66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370F2-4556-4123-A36F-BEA53C0F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6F1-6A28-4764-B9FC-C91C42A3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300FA-5261-4C11-9085-5CB05568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369EB-9D35-42D9-A2E2-0A1143F3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E7C9-561A-4054-A853-4DE9A454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16066-48F0-4486-8E8B-789E12EA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DFC1-2EA8-4F22-B869-AE86E3E2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07021-AF2F-45C1-AABB-1E5F80E5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35103-2B8E-4552-9CB0-6380D821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7794-2763-4132-8B8B-32686BDF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CAFB-A44C-4E5D-A689-C3C4D59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7D9E-E11D-4A66-8421-77F8A44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E81-0E56-492C-8A93-66040080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9B43-969E-4F34-9411-AACE3B9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428C6-6852-4893-8F55-BFAD438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00EE0-5F46-4E04-962D-3F8A9AA6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7E49-D580-4353-978C-53B155A0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06BF-15F0-463A-B0F1-AB751CCE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A3CDD-4DB9-4B5D-9F3F-2924B29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6F003-C4BB-49D3-A050-1447312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0FD10-EA3C-4BBF-B1D4-86AE20EC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02DA2-8276-44B4-8857-EBA1407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616F-4941-41B3-93C4-1E797E2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47E-6ABC-4293-92CC-2421413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5C01-3B69-43CF-8896-73FE49B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A742B-2BF1-4F6D-9423-3F86E28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0599-81B2-4AD5-BA1F-CFF88F8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1DB72-B46A-4DB2-AAC9-0EB5AC0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277F-2FE6-42D5-8BB5-45AB22A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7E8CE-062A-42D7-B41E-80784912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6D38-8394-4E06-8F7A-83616E3D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5E53A-DB07-4371-A62C-E6C440A1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B410-04AB-401E-B8C6-78BE1C8A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0354-FE51-4830-858A-4A0BBBE2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06B-67FD-4B76-9DAB-58DB5AE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D6A7-4189-4947-B1F1-E8CD921B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21193-C2B8-4130-A954-0C39FE48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7988B-BF2D-40FB-8ACC-B048D18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3396E-C2B0-482A-A2E3-354B494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BD492-947F-408E-92AA-4B4391B1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11D69-7F88-4E61-9E02-651938B7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000E5-B6E2-4722-84E4-116A49BD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4851-F891-4E85-831E-D9DA9046804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DEC3-F3CD-4057-B560-5F9DBA03E4A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0ED-43AA-4694-94AB-FB4F6ED9326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B034-3E45-44AA-BBB8-36B02C126AA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6AC-1703-4B03-81EB-B6BADA62FAE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0D20-717A-4151-AE88-FC2CAB2FBE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CCE5-A13C-4005-B644-D80EAB28BD7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500E-9F74-408B-8980-354D74BEFAC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file:///C:/Users/&#1055;&#1086;&#1083;&#1100;&#1079;&#1086;&#1074;&#1072;&#1090;&#1077;&#1083;&#1100;/Documents/&#1084;&#1086;&#1085;&#1080;&#1090;&#1086;&#1088;&#1080;&#1085;&#1075;/&#1087;&#1088;&#1080;&#1084;&#1077;&#1088;&#1099;%20&#1090;&#1077;&#1089;&#1090;&#1086;&#1074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3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826400" cy="2529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Выступление на районном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семинаре-практикуме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О учителей начальных класс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учителя начальных класс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Сосьвинская СОШ Сандовой В.В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тслеживает достижения учащихся в процессе усвоения ими содержания образова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строен таким образом, чтобы уровни формирования мониторинга (федеральный, региональный, муниципальный и внутришкольный) были связаны между собой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 результатам анализа всей информации происходит соответствующее изменение содержания образова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сточником информации является контроль знаний учащихся. При этом максимально объективным, надежным, измеренным, обработанным и эффективно подготовленным к использованию в педагогической практике является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тестирование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мониторинг уровня ЗУН обучающихся («цель – результат»)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I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мониторинг, связанный с непосредственным накоплением и структуризацией информации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II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системы мониторинга, построенные с использованием модели «вход – выход»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IV групп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– системы мониторинга на уровне образовательного учреждения. 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С их помощью предпринимаются попытки ответить на вопросы об эффективности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328680" y="274680"/>
            <a:ext cx="83581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457200" y="1481040"/>
          <a:ext cx="8229600" cy="4019760"/>
        </p:xfrm>
        <a:graphic>
          <a:graphicData uri="http://schemas.openxmlformats.org/drawingml/2006/table">
            <a:tbl>
              <a:tblPr/>
              <a:tblGrid>
                <a:gridCol w="3328920"/>
                <a:gridCol w="4900680"/>
              </a:tblGrid>
              <a:tr h="128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бъект монитор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Методы и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Результативность учебно-воспитательного процес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тестирование (тестовые задания и КИМы итоговой аттестации)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анализ уровня обученности и обучаемости учащегос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информационная карта текущей успеваемости и посещаемости учащегос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840096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бученность-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это реально усвоенный уровень знаний, умений и навы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 ( уровень) определяется тестовыми задания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бучен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это одна из характеристик уровня образованности ученика, достигнутого в процессе дифференцированного обучения. Показателями обученности, как это принято в современной педагогике, являются уровни усвоения знаний и умений, которые варьируются у разных авторов.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(Б.Блум, Н.Я.Конфидератов, В.П.Симонов, В.П.Беспалько, В.Н.Максимова, Т.И.Дормидонова и др.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бъективность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истематич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аглядность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1 уровень обученности: - различе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н характеризует низшую степень, когда учащийся отличает объект от его аналогов только по ярко выраженным признакам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На узнавание (0-2)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Выпишите число, в разряде десятков которого есть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5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1428840" y="4214880"/>
          <a:ext cx="6095880" cy="20415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едини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 еди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8 853 285 208 80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47 742 275 207 70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8 841 384 308 8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7 741 374 307 7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78 871 681 608 80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87 781 671 507 70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428840" y="2928960"/>
          <a:ext cx="6095880" cy="45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2 уровень обученности - запомин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щийся может пересказать содержание текста, правила, но это не служит доказательством понимания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 запоминание (0-2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"/>
          <p:cNvGraphicFramePr/>
          <p:nvPr/>
        </p:nvGraphicFramePr>
        <p:xfrm>
          <a:off x="1571760" y="3000240"/>
          <a:ext cx="6095880" cy="45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1571760" y="4000680"/>
          <a:ext cx="6095880" cy="20952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5966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секунд в 1 минуте?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в метров в 1 километре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минут в 1 часе?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в 1 тонне килограмм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3 уровень обученности - пониман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н предполагает нахождение существенных признаков и связей явлений, предметов на основе анализа и синтеза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На понимание (0-2).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равнить произведения, не вычисляя их значений. Указать на сколько одно произведение больше другог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36 х 15 * 36 х 14 на .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870 х 19 * 2870 х 18 на..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 х 8 * а х 7 на .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1500120" y="3000240"/>
          <a:ext cx="6096240" cy="4572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4 уровень - простейшие умения и навы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казатель высокой степени обучен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мения – это закрепленные способы применения знаний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выки – это умения, доведенные до автоматизма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Обобщение внутри темы (0-2)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числи, сделай проверку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1643040" y="5000760"/>
          <a:ext cx="6095880" cy="1496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1 : 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5 : 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32 : 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4 : 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643040" y="3786120"/>
          <a:ext cx="6095880" cy="4572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разования в школе являются следующие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здоровья и здорового образа жизн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нравственного, духовного и морального воспитания личност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развития, готовность к жизни в семье и социуме, готовность к продолжению образования и труду в рыночных условиях, овладение ключевыми компетенциям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обученности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уровень владения творческой деятельностью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    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ся управленческая деятельность опирается на результаты педагогического мониторинг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00040" y="128592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5 уровень – перенос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щиеся умеют обобщать, применять полученные знания в новой ситуации. Это самый высокий уровень. Например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Обобщение между темами (0-2).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полни действ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акие ошибки можно допустить при выполнении этого задания? Составь план самопроверки по 1 выражен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26960" y="96840"/>
            <a:ext cx="822960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1571760" y="2857680"/>
          <a:ext cx="6095880" cy="4269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тематика, 3 класс, 1 полугод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500200" y="3571920"/>
          <a:ext cx="6096240" cy="1406520"/>
        </p:xfrm>
        <a:graphic>
          <a:graphicData uri="http://schemas.openxmlformats.org/drawingml/2006/table">
            <a:tbl>
              <a:tblPr/>
              <a:tblGrid>
                <a:gridCol w="3071880"/>
                <a:gridCol w="3024360"/>
              </a:tblGrid>
              <a:tr h="4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690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1: 7 + 8979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03600 - 279853) * 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0003 - 495437) * 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32: 8 + 5783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Выноска со стрелкой вправо 5"/>
          <p:cNvSpPr/>
          <p:nvPr/>
        </p:nvSpPr>
        <p:spPr>
          <a:xfrm>
            <a:off x="5500800" y="5857920"/>
            <a:ext cx="3286080" cy="571320"/>
          </a:xfrm>
          <a:prstGeom prst="rightArrowCallout">
            <a:avLst>
              <a:gd name="adj1" fmla="val 25002"/>
              <a:gd name="adj2" fmla="val 25000"/>
              <a:gd name="adj3" fmla="val 25004"/>
              <a:gd name="adj4" fmla="val 8883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1 уровень обученности: - различен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н характеризует низшую степень, когда учащийся отличает объект от его аналогов только по ярко выраженным признакам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2 уровень обученности - запоминан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Учащийся может пересказать содержание текста, правила, но это не служит доказательством понимания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3 уровень обученности - понимани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н предполагает нахождение существенных признаков и связей явлений, предметов на основе анализа и синтеза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4 уровень - простейшие умения и навык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оказатель высокой степени обученност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Умения – это закрепленные способы применения знаний в практической деятельност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Навыки – это умения, доведенные до автоматизм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5 уровень  обученности – перенос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Учащиеся умеют обобщать, применять полученные знания в новой ситуации. Это самый высокий уровень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Заголовок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57176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3"/>
          <p:cNvSpPr/>
          <p:nvPr/>
        </p:nvSpPr>
        <p:spPr>
          <a:xfrm>
            <a:off x="5643720" y="578628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Пример диагностики по русск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92880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Контроль знаний, умений и навыков учащихся – один из важнейших элементов учебного процесса, от его правильной организации во многом зависит эффективность управления педагогическим процессом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Совокупность выше указанных методов контроля позволяет получить достаточно точную и объективную картину обученности учащихся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     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Благодаря контролю между учителем и учащимися устанавливается «обратная связь», которая позволяет оценивать динамику усвоения учебного материала, действительный уровень владения системой знаний, умений и навыков и на основе их анализа вносить соответствующие коррективы в организацию учебного процесса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Заголовок 6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это конкретное средство для определения расхождения между образовательным процессом и его целям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ая задача мониторинга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епрерывное отслеживание состояния учебного процесса. Эта задача может быть решена путём проведения начального, промежуточного и итогового срезов и анализа их результат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457200" y="285840"/>
          <a:ext cx="8229600" cy="585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чальный ср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ромежуточный ср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Итоговый ср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02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зволяет сформировать мотивацию учащихся, назначить дополнительные занятия, корректировать тематическое планирование изучаемого материала, выбрать необходимую методику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зволит определить качество обучения учащихся, объективность оценки учителем знаний учащихся, способность учителя к рефлексии учеб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дведение итогов учебного года. Оценка успешности освоения учащимися предмета, заключение об уровне успешности выполнения учебной програм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 контрольным срезам, тестированию,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нализу результатов ЕГЭ можно судить и о реальном уровне квалификации педаг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Условия,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при которых можно провести качественный мониторинг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техническ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дровые;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рограммно-методические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________________________________________________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днако в любом случае получение объективных данных в процессе образовательного мониторинга зависит от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я инструментар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стоянной обратной связи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оррекции мониторинга и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262080" y="274680"/>
            <a:ext cx="857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 мониторингу нужно готовиться с начала учебного год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дания должны быть составлены в соответствии с программо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оводить тестирование надо после изучения темы, определяя таким образом уровень подготовленности учащихся и уровень усвоения материал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ждый ученик должен самостоятельно выполнять работу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оверка должна быть качественной и объективно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осле анализа результатов работать над пробелами в знаниях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388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прерывность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стоверность (кто осуществляет, уровень подготовленности специалистов, их добросовестность, инструментарий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воевременность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но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лученных в ходе мониторинга, будет только при условии отражения сводных данных в виде таблиц, что позволяет установить динамику успешности освоения предмета как отдельным учащимся так и класса в целом, провести сравнение учебных достижений по годам обучения, по предметам, а также преемственность в обучен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дагогический мониторинг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сихологический мониторинг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ниторинг физического развития и здоровья школьник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298440" y="274680"/>
            <a:ext cx="8418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52:16Z</dcterms:created>
  <dc:creator>Пользователь</dc:creator>
  <dc:description/>
  <dc:language>en-US</dc:language>
  <cp:lastModifiedBy>user</cp:lastModifiedBy>
  <dcterms:modified xsi:type="dcterms:W3CDTF">2019-12-17T19:28:19Z</dcterms:modified>
  <cp:revision>73</cp:revision>
  <dc:subject/>
  <dc:title>Мониторинг результатов обучения в начальной школе</dc:title>
</cp:coreProperties>
</file>