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22F-DCB3-44FB-A112-80442CE2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3FA-4B72-4BF8-9225-34CB5D02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968-0D91-4D47-B0D9-1F879A7E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977-6841-463C-A91C-25A9E474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783-6B28-4631-B66A-7E13580B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48BA-B2FE-4801-82BB-F1E1860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BDBC-D899-4B89-A28F-33E8F9FD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B020-2930-40DA-8680-8A76BA18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7E9E-096D-4DAC-81E4-1C890147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7C8F-EA16-457F-9C6C-317172D9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B348-2FDB-4BF8-A14A-2845E5E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E74-6806-4108-BBED-DE8DD1E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1996-D666-472E-B544-A7D8C72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F9A9-0784-4D2F-A2E9-D71D0FF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5CC6-AC3A-4FB7-AC7B-EB889F3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427C-59B9-43A7-BE44-2675C148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0624-F161-486D-AE0B-2DD415C4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F98-8FC2-45EF-B5A9-71A985EB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F3F-50B1-45BC-BFCF-3FE0BD7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B82-897A-48D5-A627-E5167AEF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33F-B190-40B5-A482-EAEF8FF6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BE7-5C9E-42C1-B65A-771E1B44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E21-8672-41DC-A94B-56C75F9D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72E-F806-429E-9263-2D5EEB9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084-3959-49B4-A0A1-03D59D767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03C-384A-4853-9AB0-7DBA7D3F73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Неделя игры и игрушки провела воспитатель младшей группы №6 «Домовята» воспитатель: Кураксина И.В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3" descr="20141111_092034"/>
          <p:cNvPicPr/>
          <p:nvPr/>
        </p:nvPicPr>
        <p:blipFill>
          <a:blip r:embed="rId1"/>
          <a:srcRect l="0" t="15013" r="2906" b="9107"/>
          <a:stretch/>
        </p:blipFill>
        <p:spPr>
          <a:xfrm>
            <a:off x="1692360" y="1557360"/>
            <a:ext cx="554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День подвижных игр. «Снежный ком».Воробушки и автомобиль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20141105_161515"/>
          <p:cNvPicPr/>
          <p:nvPr/>
        </p:nvPicPr>
        <p:blipFill>
          <a:blip r:embed="rId1"/>
          <a:stretch/>
        </p:blipFill>
        <p:spPr>
          <a:xfrm>
            <a:off x="1152360" y="1905120"/>
            <a:ext cx="3302280" cy="4190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20141105_160806"/>
          <p:cNvPicPr/>
          <p:nvPr/>
        </p:nvPicPr>
        <p:blipFill>
          <a:blip r:embed="rId2"/>
          <a:stretch/>
        </p:blipFill>
        <p:spPr>
          <a:xfrm>
            <a:off x="4578480" y="1700280"/>
            <a:ext cx="4464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Великая стройка..Домик для матрешк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7" descr="20141106_094802"/>
          <p:cNvPicPr/>
          <p:nvPr/>
        </p:nvPicPr>
        <p:blipFill>
          <a:blip r:embed="rId1"/>
          <a:stretch/>
        </p:blipFill>
        <p:spPr>
          <a:xfrm>
            <a:off x="71280" y="1628640"/>
            <a:ext cx="4464360" cy="439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20141106_092754"/>
          <p:cNvPicPr/>
          <p:nvPr/>
        </p:nvPicPr>
        <p:blipFill>
          <a:blip r:embed="rId2"/>
          <a:stretch/>
        </p:blipFill>
        <p:spPr>
          <a:xfrm>
            <a:off x="5229360" y="1905120"/>
            <a:ext cx="3301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Вместе весело играть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20141111_095459"/>
          <p:cNvPicPr/>
          <p:nvPr/>
        </p:nvPicPr>
        <p:blipFill>
          <a:blip r:embed="rId1"/>
          <a:stretch/>
        </p:blipFill>
        <p:spPr>
          <a:xfrm>
            <a:off x="1152360" y="1905120"/>
            <a:ext cx="3302280" cy="419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0141111_100004"/>
          <p:cNvPicPr/>
          <p:nvPr/>
        </p:nvPicPr>
        <p:blipFill>
          <a:blip r:embed="rId2"/>
          <a:stretch/>
        </p:blipFill>
        <p:spPr>
          <a:xfrm>
            <a:off x="5229360" y="1905120"/>
            <a:ext cx="3301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Есть игрушка у меня. Матрешк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6" descr="20141106_094335"/>
          <p:cNvPicPr/>
          <p:nvPr/>
        </p:nvPicPr>
        <p:blipFill>
          <a:blip r:embed="rId1"/>
          <a:stretch/>
        </p:blipFill>
        <p:spPr>
          <a:xfrm>
            <a:off x="324000" y="1557360"/>
            <a:ext cx="4464000" cy="410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0141106_102359"/>
          <p:cNvPicPr/>
          <p:nvPr/>
        </p:nvPicPr>
        <p:blipFill>
          <a:blip r:embed="rId2"/>
          <a:stretch/>
        </p:blipFill>
        <p:spPr>
          <a:xfrm>
            <a:off x="4927680" y="1446120"/>
            <a:ext cx="38923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4:55:42Z</dcterms:created>
  <dc:creator>дс 26</dc:creator>
  <dc:description/>
  <dc:language>en-US</dc:language>
  <cp:lastModifiedBy>Офисный</cp:lastModifiedBy>
  <dcterms:modified xsi:type="dcterms:W3CDTF">2014-11-21T11:46:37Z</dcterms:modified>
  <cp:revision>6</cp:revision>
  <dc:subject/>
  <dc:title>Неделя игры и игрушки.</dc:title>
</cp:coreProperties>
</file>