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590A-8B25-46A7-96DE-F77C60EA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8ADCF-805C-46C5-8F2E-1589137D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359E6-1F1C-42B5-A127-85B68C12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800AE-18D9-478D-B998-50442814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EB7A-310D-46DF-B547-7B0E4F3D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F324-6D83-419B-8F56-1736F52A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6F13-DC4E-4910-AB81-780E9109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D4C9-D944-437F-8F4E-D7A1596F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AAD7-1BBD-4F99-9A0F-2D504FA3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F45C-01A6-46B3-8FA1-91CFA550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E278-88AB-4318-AD41-C78B6AC6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BCA5-389E-4D3E-B0A2-D81DAE6E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EC52-4D38-419F-B459-1579A70B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7A6D-7E76-4680-9C2C-4D0709DF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EBDE-5E0B-4FE0-BC3D-CDF5B607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B2E4-46D5-4E53-9EFB-B2F0FFE5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1E03-7AB7-4723-9E3E-121E231D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39AB-A858-4143-A1C8-B21FC636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84B44-723E-45FE-B48C-797EFFD3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1FFE0-826F-49A8-AD16-4BF10B02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E748D-6491-4F31-ABF5-3762B8B7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57F9-6D10-4F14-AF66-B7117058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EEE0D-3F07-4636-801F-35025DE2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F73E-F568-4CE8-966D-23920140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633F-FE17-4E14-BACD-ACE50650C9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749B-37E7-4C5C-AE13-B9524756EE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4960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6920"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новные техники, обеспечивающие обратную связь для преподавателя 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еников на уроках английского язы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6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условия для активной совместной деятельности учащих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6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атмосферу открытости, доброжелательности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чества в общ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6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уждать интерес обучающихся в процессе занятий к изучаемой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6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ывать психологические характеристики совместной учебной деятельности обучающихся и особенности их психики (памяти, восприятия, мышл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муникативный мет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нформационный разрыв (information gap), перекодирование информации, интервью (парное, групповое) и друг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овая метод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олевых игр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pla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построенные на аутентичных ситуац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мная методи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озговая атака (brainstorming), дискуссии, деба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уссионные иг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в сотрудничеств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m lear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8" name="Прямая со стрелкой 27"/>
          <p:cNvCxnSpPr/>
          <p:nvPr/>
        </p:nvCxnSpPr>
        <p:spPr>
          <a:xfrm>
            <a:off x="4356000" y="1341000"/>
            <a:ext cx="432720" cy="3312360"/>
          </a:xfrm>
          <a:prstGeom prst="straightConnector1">
            <a:avLst/>
          </a:prstGeom>
          <a:ln w="25560">
            <a:solidFill>
              <a:srgbClr val="00007d"/>
            </a:solidFill>
            <a:miter/>
            <a:tailEnd len="med" type="arrow" w="med"/>
          </a:ln>
        </p:spPr>
      </p:cxnSp>
      <p:sp>
        <p:nvSpPr>
          <p:cNvPr id="109" name="Прямоугольник 6"/>
          <p:cNvSpPr/>
          <p:nvPr/>
        </p:nvSpPr>
        <p:spPr>
          <a:xfrm flipV="1" rot="10800000">
            <a:off x="1116000" y="6915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взаимо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324000" y="258912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ученик-ученик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учитель-учен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учитель - учительский коллекти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общегрупповое взаимодействие ученик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17"/>
          <p:cNvCxnSpPr/>
          <p:nvPr/>
        </p:nvCxnSpPr>
        <p:spPr>
          <a:xfrm flipH="1">
            <a:off x="2268000" y="1197000"/>
            <a:ext cx="1152000" cy="1296000"/>
          </a:xfrm>
          <a:prstGeom prst="straightConnector1">
            <a:avLst/>
          </a:prstGeom>
          <a:ln w="25560">
            <a:solidFill>
              <a:srgbClr val="00007d"/>
            </a:solidFill>
            <a:miter/>
            <a:tailEnd len="med" type="arrow" w="med"/>
          </a:ln>
        </p:spPr>
      </p:cxnSp>
      <p:cxnSp>
        <p:nvCxnSpPr>
          <p:cNvPr id="112" name="Прямая со стрелкой 19"/>
          <p:cNvCxnSpPr/>
          <p:nvPr/>
        </p:nvCxnSpPr>
        <p:spPr>
          <a:xfrm flipH="1">
            <a:off x="3058560" y="1268280"/>
            <a:ext cx="937080" cy="2090160"/>
          </a:xfrm>
          <a:prstGeom prst="straightConnector1">
            <a:avLst/>
          </a:prstGeom>
          <a:ln w="25560">
            <a:solidFill>
              <a:srgbClr val="00007d"/>
            </a:solidFill>
            <a:miter/>
            <a:tailEnd len="med" type="arrow" w="med"/>
          </a:ln>
        </p:spPr>
      </p:cxnSp>
      <p:cxnSp>
        <p:nvCxnSpPr>
          <p:cNvPr id="113" name="Прямая со стрелкой 25"/>
          <p:cNvCxnSpPr/>
          <p:nvPr/>
        </p:nvCxnSpPr>
        <p:spPr>
          <a:xfrm>
            <a:off x="5219280" y="1268280"/>
            <a:ext cx="1081800" cy="1224720"/>
          </a:xfrm>
          <a:prstGeom prst="straightConnector1">
            <a:avLst/>
          </a:prstGeom>
          <a:ln w="25560">
            <a:solidFill>
              <a:srgbClr val="00007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2124000" y="1125360"/>
            <a:ext cx="4969080" cy="57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фаз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общение «к деятельн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332000" y="1989000"/>
            <a:ext cx="6840360" cy="1079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indent="190440" algn="just"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еленные между учителем и учащимися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440" algn="just"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итируемые действия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0440" algn="just"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ажательные действия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8360" y="3573360"/>
            <a:ext cx="8207280" cy="129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 фаз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гласование «деятельности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ающих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учител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4284720" y="1700280"/>
            <a:ext cx="576360" cy="288720"/>
          </a:xfrm>
          <a:prstGeom prst="downArrow">
            <a:avLst>
              <a:gd name="adj1" fmla="val 50000"/>
              <a:gd name="adj2" fmla="val 2809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4284720" y="3068640"/>
            <a:ext cx="576360" cy="431640"/>
          </a:xfrm>
          <a:prstGeom prst="downArrow">
            <a:avLst>
              <a:gd name="adj1" fmla="val 50000"/>
              <a:gd name="adj2" fmla="val 2809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2426760" y="549360"/>
            <a:ext cx="6258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ого сотрудниче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Rectangle 13" descr=""/>
          <p:cNvPicPr/>
          <p:nvPr/>
        </p:nvPicPr>
        <p:blipFill>
          <a:blip r:embed="rId1"/>
          <a:stretch/>
        </p:blipFill>
        <p:spPr>
          <a:xfrm>
            <a:off x="317520" y="5241960"/>
            <a:ext cx="8582040" cy="11462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10"/>
          <p:cNvSpPr/>
          <p:nvPr/>
        </p:nvSpPr>
        <p:spPr>
          <a:xfrm>
            <a:off x="4284720" y="4797360"/>
            <a:ext cx="576360" cy="432000"/>
          </a:xfrm>
          <a:prstGeom prst="downArrow">
            <a:avLst>
              <a:gd name="adj1" fmla="val 50000"/>
              <a:gd name="adj2" fmla="val 2809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55640" y="691920"/>
            <a:ext cx="7848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ы организации взаимодейст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000" y="1341000"/>
            <a:ext cx="8147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jigsaw-reading и jigsaw-speaking- процесс деятельности разделен на части, и каждый ученик, находясь в группе, выполняет индивидуально часть общегруппового процесса одновременно со всеми или по очеред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туации, при которых моделируются статусные отношения членов групповой деятельности (сценки- диалоги носит реальный, жизненный характер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ллективным решением вербальных задач» по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ернутая дискуссия учеников по общему для коллектива предмету дебаты, диспуты, различные интервь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818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ли учителя при организации взаимо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395280" y="2708280"/>
            <a:ext cx="237636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рганизат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рганизовывать взаимодействие учащихся и их деятельность (коммуникативную,познавательную  и творческую) во взаимодействии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2843280" y="2708280"/>
            <a:ext cx="2665440" cy="35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мощни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ть учащимся в процессе устно-речевого взаимо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ередавать учащимся способы работы, а не конкретные знания, т.е. не преподавать, а  учи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5796000" y="2745360"/>
            <a:ext cx="3024000" cy="26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люд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ировать уровень сформированности навыков говорения,чтения и пись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низ 14"/>
          <p:cNvSpPr/>
          <p:nvPr/>
        </p:nvSpPr>
        <p:spPr>
          <a:xfrm>
            <a:off x="1692360" y="177336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низ 19"/>
          <p:cNvSpPr/>
          <p:nvPr/>
        </p:nvSpPr>
        <p:spPr>
          <a:xfrm>
            <a:off x="6588000" y="1773360"/>
            <a:ext cx="505080" cy="934920"/>
          </a:xfrm>
          <a:prstGeom prst="downArrow">
            <a:avLst>
              <a:gd name="adj1" fmla="val 50000"/>
              <a:gd name="adj2" fmla="val 4996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520" y="1206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Calibri"/>
                <a:ea typeface="Times New Roman"/>
              </a:rPr>
              <a:t>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низ 21"/>
          <p:cNvSpPr/>
          <p:nvPr/>
        </p:nvSpPr>
        <p:spPr>
          <a:xfrm flipH="1">
            <a:off x="3492360" y="1773360"/>
            <a:ext cx="503280" cy="10159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буждать в обучающихся интерес к изучаемой теме, опираясь на реальные познавательные интересы и желания ученик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итывать психологический аспект учебного взаимодействия на урок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вать ситуации открытости и  условия для осваивания языка как средство общ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давать способы работы, а не давать готовые ответ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меть общаться, быть хорошим речевым партнер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ладеть высоким уровнем  профессиональной квалифик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4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4:10:57Z</dcterms:created>
  <dc:creator>User</dc:creator>
  <dc:description/>
  <dc:language>en-US</dc:language>
  <cp:lastModifiedBy>User</cp:lastModifiedBy>
  <dcterms:modified xsi:type="dcterms:W3CDTF">2019-12-17T12:46:56Z</dcterms:modified>
  <cp:revision>94</cp:revision>
  <dc:subject/>
  <dc:title>Проект организации  научно-исследовательской деятельности учащихся</dc:title>
</cp:coreProperties>
</file>