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71B-9CEE-4131-A295-DF1F81A2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CB8-8956-430F-B65B-36340979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E50-AAAD-417D-8453-4D8BBD94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17E-E84A-4B12-A52F-5F9F5121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BDE-865F-45CB-9D0A-A89CFB94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4BB-6C1B-4850-82FF-A09E647E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8C0-D02A-49B6-944A-513AE6D8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EC4-0882-430E-9ED8-CB76B5DC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DED-3262-4B7E-BA70-7F4FFDF2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DD4-476A-44FF-8CC6-47F16AA1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6FC-C1AB-4560-B323-87A4EFC0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0D8-E83F-4B61-827B-3EF1EC9E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CAD8-7018-4698-A00A-D6AE632619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39640" y="476280"/>
            <a:ext cx="82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Past Simple Ten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Calibri"/>
              </a:rPr>
              <a:t>(Прошедшее простое врем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Program Files (x86)\Microsoft Office\MEDIA\CAGCAT10\j0301252.wmf"/>
          <p:cNvPicPr/>
          <p:nvPr/>
        </p:nvPicPr>
        <p:blipFill>
          <a:blip r:embed="rId1"/>
          <a:stretch/>
        </p:blipFill>
        <p:spPr>
          <a:xfrm>
            <a:off x="2843280" y="2781360"/>
            <a:ext cx="3473280" cy="297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250920" y="5732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Бессмертная В.Н. 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258920" y="1052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50920" y="549360"/>
            <a:ext cx="84247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Обозначает действ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исходившее ра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определен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вторялось неоднок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4211640" y="3500280"/>
            <a:ext cx="360360" cy="7923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987640" y="465300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дела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baby23.gif"/>
          <p:cNvPicPr/>
          <p:nvPr/>
        </p:nvPicPr>
        <p:blipFill>
          <a:blip r:embed="rId1"/>
          <a:stretch/>
        </p:blipFill>
        <p:spPr>
          <a:xfrm>
            <a:off x="6948360" y="3284640"/>
            <a:ext cx="17384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24000" y="333360"/>
            <a:ext cx="48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39640" y="1484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е глаголы – действия в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Past Simple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лят на 2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ыгнутая вправо стрелка 5"/>
          <p:cNvSpPr/>
          <p:nvPr/>
        </p:nvSpPr>
        <p:spPr>
          <a:xfrm>
            <a:off x="2843280" y="27082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ыгнутая влево стрелка 6"/>
          <p:cNvSpPr/>
          <p:nvPr/>
        </p:nvSpPr>
        <p:spPr>
          <a:xfrm>
            <a:off x="5508720" y="2708280"/>
            <a:ext cx="730080" cy="1216080"/>
          </a:xfrm>
          <a:custGeom>
            <a:avLst/>
            <a:gdLst>
              <a:gd name="textAreaLeft" fmla="*/ 97560 w 730080"/>
              <a:gd name="textAreaRight" fmla="*/ 632520 w 7300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8" stAng="-5400000" swAng="-5400000"/>
                <a:lnTo>
                  <a:pt x="0" y="11610"/>
                </a:lnTo>
                <a:arcTo wR="21600" hR="8368" stAng="10800000" swAng="-3379043"/>
                <a:lnTo>
                  <a:pt x="16200" y="21334"/>
                </a:lnTo>
                <a:lnTo>
                  <a:pt x="21600" y="18357"/>
                </a:lnTo>
                <a:lnTo>
                  <a:pt x="16200" y="14848"/>
                </a:lnTo>
                <a:lnTo>
                  <a:pt x="16200" y="16470"/>
                </a:lnTo>
                <a:arcTo wR="21600" hR="8368" stAng="7420957" swAng="3116582"/>
                <a:lnTo>
                  <a:pt x="409" y="9989"/>
                </a:lnTo>
                <a:arcTo wR="21600" hR="8368" stAng="-10537540" swAng="5137540"/>
                <a:close/>
              </a:path>
              <a:path fill="darkenLess" w="21600" h="21600">
                <a:moveTo>
                  <a:pt x="21600" y="0"/>
                </a:moveTo>
                <a:arcTo wR="21600" hR="8368" stAng="-5400000" swAng="-5400000"/>
                <a:lnTo>
                  <a:pt x="0" y="8368"/>
                </a:lnTo>
                <a:arcTo wR="21600" hR="8368" stAng="10800000" swAng="-262460"/>
                <a:lnTo>
                  <a:pt x="409" y="9989"/>
                </a:lnTo>
                <a:arcTo wR="21600" hR="8368" stAng="-10537540" swAng="513754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79280" y="407664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Правильные глаголы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еправильные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gular Verbs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rregular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8" descr="baby06.gif"/>
          <p:cNvPicPr/>
          <p:nvPr/>
        </p:nvPicPr>
        <p:blipFill>
          <a:blip r:embed="rId1"/>
          <a:stretch/>
        </p:blipFill>
        <p:spPr>
          <a:xfrm>
            <a:off x="2916360" y="4941720"/>
            <a:ext cx="2695320" cy="15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68360" y="260280"/>
            <a:ext cx="52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611280" y="1197000"/>
            <a:ext cx="81374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т группы зависит форма глагола в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Pas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равильные глаголы подчиняются прав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еправильные глаголы правилу не подчиняются, каждый из них изменяется индивидуально, согласно таблиц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Неправильных глагол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baby16_1.gif"/>
          <p:cNvPicPr/>
          <p:nvPr/>
        </p:nvPicPr>
        <p:blipFill>
          <a:blip r:embed="rId1"/>
          <a:stretch/>
        </p:blipFill>
        <p:spPr>
          <a:xfrm>
            <a:off x="7596360" y="4797360"/>
            <a:ext cx="11872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39640" y="260280"/>
            <a:ext cx="46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95280" y="907920"/>
            <a:ext cx="8353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тобы поставить глагол в 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Past Simple Tense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ледует выполнить следующие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Выбрать 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Определить  группу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Смотри таблицу «Неправильных глагол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3"/>
          <p:cNvSpPr/>
          <p:nvPr/>
        </p:nvSpPr>
        <p:spPr>
          <a:xfrm>
            <a:off x="1908000" y="2924280"/>
            <a:ext cx="216000" cy="8650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6659640" y="2924280"/>
            <a:ext cx="216000" cy="8650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50920" y="3789360"/>
            <a:ext cx="35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лагол есть в таб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1908000" y="4292640"/>
            <a:ext cx="216000" cy="9367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7"/>
          <p:cNvSpPr/>
          <p:nvPr/>
        </p:nvSpPr>
        <p:spPr>
          <a:xfrm>
            <a:off x="6659640" y="4292640"/>
            <a:ext cx="216000" cy="9367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932360" y="3789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лагола нет в таб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24000" y="5300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Неправильный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ав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ill Sans MT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go - went                        play – play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476360" y="47628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кончан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у правильных глагол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2"/>
          <p:cNvSpPr/>
          <p:nvPr/>
        </p:nvSpPr>
        <p:spPr>
          <a:xfrm>
            <a:off x="1258920" y="2133720"/>
            <a:ext cx="288720" cy="10792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3"/>
          <p:cNvSpPr/>
          <p:nvPr/>
        </p:nvSpPr>
        <p:spPr>
          <a:xfrm>
            <a:off x="4427640" y="2133720"/>
            <a:ext cx="288720" cy="10792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4"/>
          <p:cNvSpPr/>
          <p:nvPr/>
        </p:nvSpPr>
        <p:spPr>
          <a:xfrm>
            <a:off x="7667640" y="2133720"/>
            <a:ext cx="289080" cy="10792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11280" y="335772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[t ]                [d]                  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79280" y="4149720"/>
            <a:ext cx="30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глухих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Like - lik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203640" y="414972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звонких согласных и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Clean – clean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Play - play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443640" y="4149720"/>
            <a:ext cx="27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ого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Skate - skat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468360" y="333360"/>
            <a:ext cx="52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</a:rPr>
              <a:t>Past Simple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611280" y="1197000"/>
            <a:ext cx="66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ова – сигналы  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Pas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Yesterday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ч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ast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рошлы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…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go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… наз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danced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a lot two day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played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e 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went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to the Zoo last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KIDS01.gif"/>
          <p:cNvPicPr/>
          <p:nvPr/>
        </p:nvPicPr>
        <p:blipFill>
          <a:blip r:embed="rId1"/>
          <a:stretch/>
        </p:blipFill>
        <p:spPr>
          <a:xfrm>
            <a:off x="5580000" y="2205000"/>
            <a:ext cx="3328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324000" y="40464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ill Sans MT"/>
              </a:rPr>
              <a:t>Choose a verb in the correc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250920" y="126828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 ____________TV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watch/ watches/ watc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m ___________in the swimming-pool last Sun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swime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 swim/ s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y pets ___________ milk two days a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drank/ drinke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 dr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___________our room last w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lean/ cleaned/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____________to the cinema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go/ went/ go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Program Files (x86)\Microsoft Office\MEDIA\CAGCAT10\j0301252.wmf"/>
          <p:cNvPicPr/>
          <p:nvPr/>
        </p:nvPicPr>
        <p:blipFill>
          <a:blip r:embed="rId1"/>
          <a:stretch/>
        </p:blipFill>
        <p:spPr>
          <a:xfrm>
            <a:off x="6191280" y="3716280"/>
            <a:ext cx="29527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5:52:04Z</dcterms:created>
  <dc:creator>Глызовы</dc:creator>
  <dc:description/>
  <dc:language>en-US</dc:language>
  <cp:lastModifiedBy>Преподаватель</cp:lastModifiedBy>
  <dcterms:modified xsi:type="dcterms:W3CDTF">2019-12-17T07:14:30Z</dcterms:modified>
  <cp:revision>18</cp:revision>
  <dc:subject/>
  <dc:title>Слайд 1</dc:title>
</cp:coreProperties>
</file>