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D1F-8DF6-4123-86A2-F88FB456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E36-6A8B-4BC3-984C-A0D05119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A3A-00CF-46C9-962A-FFF1DC3F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5BC-1893-4055-A4B9-43A480E1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C59-38A3-4EEF-8476-74A12B8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52E-E848-4603-9581-4A91595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392-1988-412F-9DBB-34A647B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2D6-DA30-4930-822B-1BCC94C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B93-8E5E-4257-884B-D7F9FCD8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9EE-7FD4-413C-9C51-B0B0E17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56B-4A41-4405-9F18-6C4A4D3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E3E-E6E5-464C-9964-6797C97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5FC7-9BAD-409B-8134-46EB45339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Поэтическая тетрад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 каком стихотворении говорится о воздушной ар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«Дети и пти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«Листопад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) «Баб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) « Как неожиданно и ярко..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какого стихотворения стро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втра вы спать ещё будете, де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уж мы все понесёмся на ю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т там ни стужи теперь, ни дожде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етер листы не срывает с ветве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«Школьник»;          3) «Листопад»;                    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«Бабочка»;              4) «Где сладкий шёпот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бери синоним к слову 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шумный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грохочущий;           3) скром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тихий;                      4) неслыш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бери антоним  к слову 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 торжествующий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грустный;               3) счастлив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весёлый;                 4) радостны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кажи автора стихотворения «Весенний дождь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Ф.И. Тютч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А.А. Фе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А.Н. Плеще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И.С. Никит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кажи стихотв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.А. Бун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«Листопад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«Школьник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) «Бабочка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) «Где сладкий шепот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еть, с чем сравнив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.А. Бунин лес в стихотворении «Листопад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с зам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с терем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с двор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с хором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еть, с чем сравнива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.А. Бунин мотылька в стихотворении «Листопад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с лепест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с цвет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с листико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с лоскут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кажи, как называется поэтический приём, когда неживые предметы и явления наделяются человеческими качеств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сравне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метафор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олицетворени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эп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знай стихотворение по риф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казки — салаз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релой — ледя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«Где сладкий шёпот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) «В зимние сумерки…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) «Ещё земли печален вид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знай стихотворение по риф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лями — края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уман — румя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«Где сладкий шёпот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«В зимние сумерки…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«Ещё земли печален вид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прос 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Узнай произведение по рифм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Шёпот – ропот, лесов – лугов, голы – долы, зимы – хол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) «В синем небе плывут над полями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) «Весенний дожд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) «Ещё земли печален вид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) «Где сладкий шёпот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3T15:52:12Z</dcterms:created>
  <dc:creator>АЛЛА</dc:creator>
  <dc:description/>
  <dc:language>en-US</dc:language>
  <cp:lastModifiedBy>АЛЛА</cp:lastModifiedBy>
  <dcterms:modified xsi:type="dcterms:W3CDTF">2019-11-12T17:53:19Z</dcterms:modified>
  <cp:revision>4</cp:revision>
  <dc:subject/>
  <dc:title>Шаблон</dc:title>
</cp:coreProperties>
</file>