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85D3-B212-45AF-A80F-47E57D6D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3DCD-1E8E-4A1E-9804-786DD8DB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0FE4-45B9-4E7A-A786-935BF194E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6EDB-BC8A-4556-AA86-951EE07B3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5928-29AF-4F1F-BDD5-7FA6810D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7DD3-0F31-478F-A33E-D0E50B24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9350-EA1B-4B87-9CCB-F0ACAF24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5A97-E9DA-4E35-8392-6317C56A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769D-2716-490F-A411-FADA8ADA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0F5E-7095-4256-A50B-A863919D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44BD-E97A-4828-AB1E-63FA2C42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476B-2C5B-4366-8647-9FAD0B30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1856-26B2-472F-8AAE-263B2432AE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Поэтическая тетрад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Проверочная ра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опрос 9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В каком стихотворении говорится о воздушной арк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) «Дети и птич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) «Листопад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) «Бабоч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) « Как неожиданно и ярко..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опрос 1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 какого стихотворения строк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Завтра вы спать ещё будете, детк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 уж мы все понесёмся на ю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ет там ни стужи теперь, ни дожде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Ветер листы не срывает с ветвей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) «Школьник»;          3) «Листопад»;                        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) «Бабочка»;              4) «Где сладкий шёпот.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опрос 1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одбери синоним к слову 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шумный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) грохочущий;           3) скромный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) тихий;                      4) неслышный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опрос 1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одбери антоним  к слову 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 торжествующий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) грустный;               3) счастливый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) весёлый;                 4) радостный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опрос 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кажи автора стихотворения «Весенний дождь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) Ф.И. Тютчев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) А.А. Фет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3) А.Н. Плещеев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) И.С. Никит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опрос 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кажи стихотвор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.А. Бунин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) «Листопад»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) «Школьник»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) «Бабочка»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) «Где сладкий шепот…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опрос 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тметь, с чем сравнивае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.А. Бунин лес в стихотворении «Листопад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) с замком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) с теремом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3) с двором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) с хорома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опрос 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тметь, с чем сравнивае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.А. Бунин мотылька в стихотворении «Листопад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) с лепестком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) с цветком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3) с листиком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) с лоскутк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опрос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кажи, как называется поэтический приём, когда неживые предметы и явления наделяются человеческими качествам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) сравнение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) метафор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) олицетворение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) эпит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опрос 6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знай стихотворение по рифм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казки — салаз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трелой — ледя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) «В синем небе плывут над полями…»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) «Где сладкий шёпот…»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3) «В зимние сумерки…»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) «Ещё земли печален вид…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опрос 7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знай стихотворение по рифм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олями — краям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туман — румя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) «В синем небе плывут над полями…»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) «Где сладкий шёпот…»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) «В зимние сумерки…»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) «Ещё земли печален вид…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опрос 8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Узнай произведение по рифм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Шёпот – ропот, лесов – лугов, голы – долы, зимы – холм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) «В синем небе плывут над полями…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) «Весенний дождь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) «Ещё земли печален вид…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) «Где сладкий шёпот..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3T15:52:12Z</dcterms:created>
  <dc:creator>АЛЛА</dc:creator>
  <dc:description/>
  <dc:language>en-US</dc:language>
  <cp:lastModifiedBy>АЛЛА</cp:lastModifiedBy>
  <dcterms:modified xsi:type="dcterms:W3CDTF">2019-11-12T17:53:19Z</dcterms:modified>
  <cp:revision>4</cp:revision>
  <dc:subject/>
  <dc:title>Шаблон</dc:title>
</cp:coreProperties>
</file>