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2DA-BD30-4F05-8797-3239BCCD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DC6-C02C-4742-A321-D6C162F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046-91D9-4374-9B61-FD0E1394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18D-EB39-4228-869F-B5493CEE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033-B132-4D81-9CF5-C160E40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D74-0785-4281-ACB3-9C3ED60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DF4-0BE4-4221-99B0-30E3B72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E08-75D9-4393-BA2E-4BBDFCF4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368-E360-4B49-B294-2386BFF9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D1A-08D6-4499-A988-88A5C29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C0F-CF2D-46D7-86A4-5B20D47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92A-D6B6-4214-B198-562DB44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FB1-F5C1-420A-84F2-B1FE232A70E0}" type="slidenum">
              <a:rPr b="0" lang="ru-RU" sz="9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-1260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14360" y="260280"/>
            <a:ext cx="8713800" cy="60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  № 1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го  вида с приоритетным осуществлением  деятельности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знавательно-речевому развитию детей Красногвардейского района  Санкт-Петербурга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3b0d"/>
                </a:solidFill>
                <a:latin typeface="Cambria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дошкольный возраст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ем высшей кв. категории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ьевой М.А. 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-252360" y="0"/>
            <a:ext cx="9447120" cy="685800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 flipH="1">
            <a:off x="2986920" y="38268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ИК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 flipH="1">
            <a:off x="1835280" y="52862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ипит – исходит паром. И свистит, и пышет жаром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шкой, брякая, стучит. –Эй, сними меня! – кричи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" name="Picture 2" descr="Kettle07"/>
          <p:cNvPicPr/>
          <p:nvPr/>
        </p:nvPicPr>
        <p:blipFill>
          <a:blip r:embed="rId1"/>
          <a:stretch/>
        </p:blipFill>
        <p:spPr>
          <a:xfrm>
            <a:off x="2771640" y="1596960"/>
            <a:ext cx="32482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0" y="-468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331360" y="374760"/>
            <a:ext cx="45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ВОРОДКИ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908000" y="5210280"/>
            <a:ext cx="68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ухне ей всегда почет. Она и жарит и пече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готовить нам еды без кухонной сковород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" name="Picture 2" descr="Frying pans"/>
          <p:cNvPicPr/>
          <p:nvPr/>
        </p:nvPicPr>
        <p:blipFill>
          <a:blip r:embed="rId1"/>
          <a:stretch/>
        </p:blipFill>
        <p:spPr>
          <a:xfrm>
            <a:off x="2987640" y="1584360"/>
            <a:ext cx="335916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-41400" y="0"/>
            <a:ext cx="9252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900000" y="1052640"/>
            <a:ext cx="76327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И ЗАДАЧИ ПРЕЗЕНТАЦИ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3-4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окружающим миром.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ть детям понятие о том, что человек создает предметы для своей жизни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понимать назначение предметов домашнего обихода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личать и называть по внешнему виду некоторые предметы посуды, развивать словарь детей 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о стихами и загадками про посуду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-108000" y="0"/>
            <a:ext cx="9252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398600" y="50976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ЛК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98432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 она необходима, ведь пищу из нее едим м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ая и мелкая. Зовут ее – тарелка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2" descr="Plate6"/>
          <p:cNvPicPr/>
          <p:nvPr/>
        </p:nvPicPr>
        <p:blipFill>
          <a:blip r:embed="rId1"/>
          <a:stretch/>
        </p:blipFill>
        <p:spPr>
          <a:xfrm>
            <a:off x="2484360" y="1758960"/>
            <a:ext cx="403236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-144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61600" y="577800"/>
            <a:ext cx="26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556000" y="5227560"/>
            <a:ext cx="61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из фарфора с затейливым узором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истый ободок, ручка – тонкий завиток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ефир, и молоко пьются из нее легко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" name="Picture 2" descr="Cup"/>
          <p:cNvPicPr/>
          <p:nvPr/>
        </p:nvPicPr>
        <p:blipFill>
          <a:blip r:embed="rId1"/>
          <a:stretch/>
        </p:blipFill>
        <p:spPr>
          <a:xfrm>
            <a:off x="2987640" y="1773360"/>
            <a:ext cx="3556080" cy="290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107520" y="476280"/>
            <a:ext cx="29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 flipH="1">
            <a:off x="2843280" y="5157720"/>
            <a:ext cx="59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чешь чай – любую выбирай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и, толстушки. Кто такие?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3" descr="Mug05"/>
          <p:cNvPicPr/>
          <p:nvPr/>
        </p:nvPicPr>
        <p:blipFill>
          <a:blip r:embed="rId1"/>
          <a:stretch/>
        </p:blipFill>
        <p:spPr>
          <a:xfrm>
            <a:off x="2987640" y="1784520"/>
            <a:ext cx="3274920" cy="296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-468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080360" y="65880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, ВИЛКА, НОЖ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63600" y="3927600"/>
            <a:ext cx="86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ей тарелке                  У нее зубцы стальные             Если хорошо заточен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очка плывет.                  Длинные и острые.                  Все легко он режет очень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дочку с едою                   Ею подцеплять кусочки          Хлеб, картошку, свеклу, мясо,      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яю в рот.                Очень даже просто нам.          Рыбу, яблоки и масло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" name="Picture 4" descr="Fork2"/>
          <p:cNvPicPr/>
          <p:nvPr/>
        </p:nvPicPr>
        <p:blipFill>
          <a:blip r:embed="rId1"/>
          <a:stretch/>
        </p:blipFill>
        <p:spPr>
          <a:xfrm>
            <a:off x="3668760" y="2098800"/>
            <a:ext cx="2300400" cy="147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Serving Spoon2"/>
          <p:cNvPicPr/>
          <p:nvPr/>
        </p:nvPicPr>
        <p:blipFill>
          <a:blip r:embed="rId2"/>
          <a:stretch/>
        </p:blipFill>
        <p:spPr>
          <a:xfrm>
            <a:off x="530280" y="2060640"/>
            <a:ext cx="240012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Butter knife"/>
          <p:cNvPicPr/>
          <p:nvPr/>
        </p:nvPicPr>
        <p:blipFill>
          <a:blip r:embed="rId3"/>
          <a:stretch/>
        </p:blipFill>
        <p:spPr>
          <a:xfrm>
            <a:off x="6588000" y="2098800"/>
            <a:ext cx="205272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-54000"/>
            <a:ext cx="9144000" cy="6912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00200" y="423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НИЦ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651040" y="56088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340000" y="52848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ступная на вид, подбоченившись, стоит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нутри-то, посмотри – угощение внутри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" name="Picture 4" descr="сахарница"/>
          <p:cNvPicPr/>
          <p:nvPr/>
        </p:nvPicPr>
        <p:blipFill>
          <a:blip r:embed="rId1"/>
          <a:stretch/>
        </p:blipFill>
        <p:spPr>
          <a:xfrm>
            <a:off x="3059280" y="1844640"/>
            <a:ext cx="307656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88960" y="476280"/>
            <a:ext cx="83757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НИЦА И СОЛОНКА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 flipH="1">
            <a:off x="636480" y="518652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макушка в дырках мелких                 Масло мы кладем в масленк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ечь-горькая в тарелках.                       Насыпаем соль в солонк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" name="Picture 2" descr="Salt and Pepper1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a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40600" y="592200"/>
            <a:ext cx="38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ТРЮЛЯ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916360" y="50799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варят щи, компот и кашу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ю семью большую наш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5" name="Picture 2" descr="Cooking Pot4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266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31:09Z</dcterms:created>
  <dc:creator>InterBaby</dc:creator>
  <dc:description/>
  <dc:language>en-US</dc:language>
  <cp:lastModifiedBy>Дая Дая</cp:lastModifiedBy>
  <dcterms:modified xsi:type="dcterms:W3CDTF">2019-11-25T11:20:36Z</dcterms:modified>
  <cp:revision>67</cp:revision>
  <dc:subject/>
  <dc:title>Овощи_1  25</dc:title>
</cp:coreProperties>
</file>