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93FB-5636-456C-8B3B-E2871952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C0B-9F45-4430-9391-36383FF5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59223-702C-472B-88E5-72529D7B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999EC7-C4A3-43C5-B9F2-C858EFBE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892A8-45FB-4C61-B20B-45399C18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17588-162B-495B-9ABE-93DF40E3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65FB5B-651F-4D9D-9415-F084BD48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4839A-D177-43BB-BB72-9A2024CB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120137-4B62-4E39-9AE5-149382BB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FEA9A-498C-4A78-B58E-4713A842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C52D6-935F-4393-8015-4BB82806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95845F-E888-4CB8-86B3-F898750B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6EA7-797A-4233-A7A8-B10512CE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734DC-C51D-4522-8493-185A0E3E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81EDD-64DE-4C43-9F5A-2D2F0CA4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54A5EF-C282-48A9-857D-9740F4A4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D4A1B-907C-4D5D-B0CF-2E1657B4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98C03-90EC-4DE1-B843-C9FB4FA2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790F17-3B27-4096-9DB1-9C24CCD8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27EF0-0F4F-4349-8C4C-62134BE4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509455-2C25-4A7C-B1C3-2476CD4A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D8559-F47C-46EB-94FF-62906599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7D382A-4915-41A8-AB77-FF1EEE8A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F89-E391-4AF3-A1C8-FF8B7131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252EB-28C0-4FF5-8079-91B3762B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6FBF2-A689-4B06-B39E-B51B5C6C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B2175-D8C3-44A9-818F-5DB3F84D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D2316-348E-4D4B-9827-0903FBE0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B5D65-3FAF-4B97-909A-B06D58B5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87BF8-AC77-466C-A089-87136747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D815F-CA5B-4C4D-9BDB-565D39EE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35E8C-4C95-47EC-BFA5-F09A08F7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D84A7-A661-4613-9222-19F87737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DDB1C-AB31-4FDC-81D2-6BAE6087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1A46-B865-48A3-A15A-09F461AB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186B8-956D-4989-9D0C-52EF3DAA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9E826-2B3A-4E40-80AD-7B808DB3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01C64-4B20-465C-BD75-00F5A515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989AD-4C08-4638-A69B-C11A0F28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734E0-A3E5-4B6E-95CB-0B163FA7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13965E-A458-4248-98DF-596C5BD2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2FB93B-F393-4F24-971D-84759086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B370A-0097-4600-A599-137DAF63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F7416C-6D00-42DE-A7C2-3BD9184E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5647B-DA42-4F06-B5BA-6B039CC5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7B41-56E9-45EA-87C7-D6C03734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451A3B-71D5-4B86-ADE6-F8AB2B01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369AA3-5DD2-438C-A5C2-D6BF6E51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490C8A-12B1-4122-A10A-6BB43C9E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D6832-D9CC-477C-A50C-5521F11D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C5B747-53EE-4FE3-9479-56FC5B99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AD69-6EA1-4B6E-BC20-B43C537A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7EF6-E2CF-4D3D-9746-F664DBCB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2D4E-AF44-4187-9FC2-5CC597BF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0D92-F395-45F6-B985-8129B69C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FE50-2269-4700-99DF-02C418B7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2DE-6615-446D-AC54-2077A354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D252-3830-43A4-81C1-B51A54DE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0F86-53A0-4E50-AEA4-9DF4D487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96A1-8543-47C2-9AC0-05C30D7E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2EC6-F7C0-4804-B603-19E7C275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354E-A66E-4A95-9482-CE9568CC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633BB-553D-4C7C-8272-6BE772EB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ABF02-9FAE-4B4E-B78B-E6A26E12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03B94-1EC7-4CDD-AE62-3907B73B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9C31F-0162-4BF0-804A-752851D0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48B27-80BA-460F-85EB-8B6B61B8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845-DB6B-4409-A8FE-DF43D5F1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57DBC-C71D-47B0-8760-C922197C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E1A48-7CFD-4B45-857C-AFB74436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37D3A-B885-47E9-AFAC-7C338B98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84338-DF9F-4981-AE02-78842EF6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77BEE-FDC0-4AE7-A6DF-35900C7E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6C4AA-ACE4-44A7-8962-95ABC07D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FF89F-84F8-4245-BF17-17FA8C1D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DE86F-AA34-4348-BE08-0595CDB0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CB180-D0DE-42FF-8229-E7AB178B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C50C7-C0C3-48AC-93CA-8F8F6930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4D4A-24E7-4F82-A7C6-59CDC310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64BB6-142D-4EA4-8C59-51C1DAEE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91F0A-B08E-4108-9057-8BF478D8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7E7DF-F4AD-451E-BACD-6169E182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6A123-D43C-46D8-8BB0-0063501F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10805-D031-468F-AE5E-D6AB2129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22B12-B79F-49F1-9B4F-CFA99FEB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F0C4C-3830-45C2-A171-BB12A444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05D55-F4B2-44E0-8E4F-5AB28234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C63C8-4F3C-492A-A654-2F57CDE5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0E2F5-8346-43CB-9B19-B6C7BE4F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533-00BE-41A6-B921-1B5D4ED6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2E790-D4D2-43E8-8367-816ED4D8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6FE83-B7A8-4701-ACBF-791C6297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CC9D0-FF88-45AC-AD08-BC9D7DFF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4C976-B127-450C-9810-ED666623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6F455-DCB1-4F07-84AC-D402B328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4CC6A-6DC4-4AC5-A802-E368B2F9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9A4EC-EC28-43CC-8406-554BE5D3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B4C96-5653-418F-8485-31E0EA58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D0289-8BF2-4E08-8EB6-846FD020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32D52-972D-40E0-B857-45C80926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485A-6253-40F0-8CAC-D1C3AA4B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477CC-3739-4A13-9E71-52AA1BBF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B6F07-BF5D-4114-BC49-150654BD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FA5A6-2F48-41CF-97BE-6C1D2CE7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68B74-4DF7-4D90-944C-A2EC049F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3B94B-4DAF-4EBF-804E-022472C3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FCFC3-1794-43D8-A20A-5CE2413C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16A10-2FCB-460A-A02C-E6E17103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7FEBB-68D9-4916-8BC5-99BAA0EF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5660D-CEC4-4C5E-BF54-E5FDD241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5CE93-4941-4211-80BB-C6ECF780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449F-3CC7-4D3A-BB71-910E5AAF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2122B-2741-439E-8A8E-2334BB71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2D473-25F1-42C0-87A6-A7D22ACF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C4D02-269F-4C07-B587-9E173F75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BDDB4-CFE3-41CE-97B3-1F38A518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D9AAA-F6BD-42B5-8CE1-76372E90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6B1B6-330A-4AF2-A38C-42E75C78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93B1B-D689-4846-9B11-104CF803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CA275-FE2E-4512-AABD-D5447C6C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4D90C-90E2-4714-8623-C25DD836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65227-54CB-4A43-B976-FB9439C8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860F-894E-49D4-8FB8-9F92F211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3CB44-25C8-4167-9B2E-FAE43B4C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A6809-A6C0-4E0E-A44B-117B316E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575F6-2FD0-41B5-9A69-4661E1F9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7E9FA-7A02-431D-8572-B99456EF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B1473-8195-435F-994E-8DA81650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3020F-9A1A-49CE-B2D1-993F17C5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708D7-D688-4D3C-8AC4-46A07142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95321-B321-4F3B-BE73-1322C742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89A5F-E39A-4025-9242-D1F80DFB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0EB05-A89E-448A-AAF8-73B74AB8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1C5A-8490-44CE-B17D-94D2D4B0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A9BC9-5D40-4273-88CC-4C62E390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11C98-6B4F-43F2-A8FE-59072101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5C340-AF12-4FEE-B005-CA0C0A93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BE8F5-C890-4A7D-8FC4-5A1309EA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7B77D-81AD-4557-8141-80CF9940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DC205-694B-49E3-9AB6-252704FA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C12B3-01F9-4FF7-BB4A-EB04C138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C32AB0-55D1-4798-8B9D-AB88BC7F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C2391-2FBE-495B-BCE0-2F9523DC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F893E-3BFF-4A52-BCE4-BC7F967B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B16D-AC38-4C90-B966-1DA6D5ED32A1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Franklin Gothic Book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Franklin Gothic Book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2D15-7DBA-4790-B9EC-57688C38948B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Franklin Gothic Book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3EA7-A96D-423D-A133-5B5C32EC5777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Franklin Gothic Book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EBA3-7979-4C7C-8756-EEE28C8776B3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Franklin Gothic Book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26B5-8C10-4340-AF28-F89F8E557BDF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Franklin Gothic Book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7C22-D3BB-4B0F-8945-E6E85FA206C6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Franklin Gothic Book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B1F3-0611-4F24-83E9-B5CD6E637EEC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Franklin Gothic Book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1D0D-DA51-491C-84CD-422A77050336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Franklin Gothic Book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CE09-1DF1-4281-9064-E021365C6924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Franklin Gothic Book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7733-233A-4F5B-81D7-D2B2F8AEF49B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Franklin Gothic Book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F1F8-73DB-42F6-9FE6-438D4F9099B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Franklin Gothic Book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A758-B8BC-4FED-9411-48B38611ECEE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2209680" y="1600200"/>
            <a:ext cx="464832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Тема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«Приключения лукови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Авто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Болохонова Алина, 5 л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старшая группа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6600"/>
                </a:solidFill>
                <a:latin typeface="Franklin Gothic Book"/>
              </a:rPr>
              <a:t>Выводы и сравнение с гипотезой</a:t>
            </a: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ru-RU" sz="2700" spc="-1" strike="noStrike">
                <a:solidFill>
                  <a:srgbClr val="003399"/>
                </a:solidFill>
                <a:latin typeface="Arial"/>
              </a:rPr>
              <a:t>Гипотеза, что вода источник жизни луковички, подтвердилас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ru-RU" sz="2700" spc="-1" strike="noStrike">
                <a:solidFill>
                  <a:srgbClr val="003399"/>
                </a:solidFill>
                <a:latin typeface="Arial"/>
              </a:rPr>
              <a:t>Вода источник жизни на Земле, если ее не станет все живое умре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ru-RU" sz="2700" spc="-1" strike="noStrike">
                <a:solidFill>
                  <a:srgbClr val="003399"/>
                </a:solidFill>
                <a:latin typeface="Arial"/>
              </a:rPr>
              <a:t>Воду надо беречь и расходовать экономно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2057400" y="1523880"/>
            <a:ext cx="41940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lang="ru-RU" sz="27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003399"/>
                </a:solidFill>
                <a:latin typeface="Franklin Gothic Book"/>
              </a:rPr>
              <a:t>Как помогает во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399"/>
                </a:solidFill>
                <a:latin typeface="Franklin Gothic Book"/>
              </a:rPr>
              <a:t>         </a:t>
            </a:r>
            <a:r>
              <a:rPr b="0" lang="ru-RU" sz="2700" spc="-1" strike="noStrike">
                <a:solidFill>
                  <a:srgbClr val="003399"/>
                </a:solidFill>
                <a:latin typeface="Franklin Gothic Book"/>
              </a:rPr>
              <a:t>растениям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Arial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"/>
          <p:cNvSpPr/>
          <p:nvPr/>
        </p:nvSpPr>
        <p:spPr>
          <a:xfrm>
            <a:off x="2021760" y="380880"/>
            <a:ext cx="48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Franklin Gothic Book"/>
              </a:rPr>
              <a:t>Проблемный 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6600"/>
                </a:solidFill>
                <a:latin typeface="Franklin Gothic Book"/>
              </a:rPr>
              <a:t>Гипотеза</a:t>
            </a: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133720" y="1599840"/>
            <a:ext cx="4419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399"/>
                </a:solidFill>
                <a:latin typeface="Arial"/>
              </a:rPr>
              <a:t>Если мы не буд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3399"/>
                </a:solidFill>
                <a:latin typeface="Arial"/>
              </a:rPr>
              <a:t>беречь воду, она може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399"/>
                </a:solidFill>
                <a:latin typeface="Arial"/>
              </a:rPr>
              <a:t>исчезнуть, погибнет вс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399"/>
                </a:solidFill>
                <a:latin typeface="Arial"/>
              </a:rPr>
              <a:t>живое  и наш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399"/>
                </a:solidFill>
                <a:latin typeface="Arial"/>
              </a:rPr>
              <a:t>луковичка не сможе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399"/>
                </a:solidFill>
                <a:latin typeface="Arial"/>
              </a:rPr>
              <a:t>расти  без вод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Franklin Gothic Book"/>
              </a:rPr>
              <a:t>Цель: изучение влияния воды на живые организмы</a:t>
            </a:r>
            <a:endParaRPr b="0" lang="en-US" sz="28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752480" y="1523520"/>
            <a:ext cx="518472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ЗУЧИТЬ СВОЙСТВА В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ЫЯСНИТЬ, КОМУ НУЖНА В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ДЛЯ ЧЕГО НУЖНА В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АСТЕНИ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ОСПИТЫВАТЬ БЕРЕЖ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ТНОШЕНИЕ  К  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6600"/>
                </a:solidFill>
                <a:latin typeface="Franklin Gothic Book"/>
              </a:rPr>
              <a:t>Ход исследования:</a:t>
            </a: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676160" y="1523880"/>
            <a:ext cx="5608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1. Побеседовал с мамой о свойствах и значении воды для жизни человека, животных и раст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2. Наблюдал  за ростом луковиче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изучение строения луковиц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обсуждение условий проращивания лу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- постановка опы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3. Создал  альбом  «Как растет луковичка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Овал 3"/>
          <p:cNvSpPr/>
          <p:nvPr/>
        </p:nvSpPr>
        <p:spPr>
          <a:xfrm>
            <a:off x="533520" y="2971800"/>
            <a:ext cx="2286000" cy="1752480"/>
          </a:xfrm>
          <a:prstGeom prst="ellipse">
            <a:avLst/>
          </a:prstGeom>
          <a:solidFill>
            <a:srgbClr val="0f6fc6"/>
          </a:solidFill>
          <a:ln w="11520">
            <a:solidFill>
              <a:srgbClr val="08509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Demi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Овал 4"/>
          <p:cNvSpPr/>
          <p:nvPr/>
        </p:nvSpPr>
        <p:spPr>
          <a:xfrm>
            <a:off x="3733920" y="4495680"/>
            <a:ext cx="1981080" cy="1524240"/>
          </a:xfrm>
          <a:prstGeom prst="ellipse">
            <a:avLst/>
          </a:prstGeom>
          <a:solidFill>
            <a:srgbClr val="0f6fc6"/>
          </a:solidFill>
          <a:ln w="11520">
            <a:solidFill>
              <a:srgbClr val="08509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Овал 5"/>
          <p:cNvSpPr/>
          <p:nvPr/>
        </p:nvSpPr>
        <p:spPr>
          <a:xfrm>
            <a:off x="3657600" y="1523880"/>
            <a:ext cx="2057400" cy="1447920"/>
          </a:xfrm>
          <a:prstGeom prst="ellipse">
            <a:avLst/>
          </a:prstGeom>
          <a:solidFill>
            <a:srgbClr val="0f6fc6"/>
          </a:solidFill>
          <a:ln w="11520">
            <a:solidFill>
              <a:srgbClr val="08509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Овал 6"/>
          <p:cNvSpPr/>
          <p:nvPr/>
        </p:nvSpPr>
        <p:spPr>
          <a:xfrm>
            <a:off x="5486400" y="2895480"/>
            <a:ext cx="1828800" cy="1524240"/>
          </a:xfrm>
          <a:prstGeom prst="ellipse">
            <a:avLst/>
          </a:prstGeom>
          <a:solidFill>
            <a:srgbClr val="0f6fc6"/>
          </a:solidFill>
          <a:ln w="11520">
            <a:solidFill>
              <a:srgbClr val="08509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5870520" y="3048120"/>
            <a:ext cx="1023840" cy="11890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" descr=""/>
          <p:cNvPicPr/>
          <p:nvPr/>
        </p:nvPicPr>
        <p:blipFill>
          <a:blip r:embed="rId2"/>
          <a:stretch/>
        </p:blipFill>
        <p:spPr>
          <a:xfrm>
            <a:off x="4041720" y="4724280"/>
            <a:ext cx="1425600" cy="10796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"/>
          <p:cNvPicPr/>
          <p:nvPr/>
        </p:nvPicPr>
        <p:blipFill>
          <a:blip r:embed="rId3"/>
          <a:stretch/>
        </p:blipFill>
        <p:spPr>
          <a:xfrm>
            <a:off x="4248000" y="1731960"/>
            <a:ext cx="878040" cy="1066680"/>
          </a:xfrm>
          <a:prstGeom prst="rect">
            <a:avLst/>
          </a:prstGeom>
          <a:ln w="0">
            <a:noFill/>
          </a:ln>
        </p:spPr>
      </p:pic>
      <p:sp>
        <p:nvSpPr>
          <p:cNvPr id="622" name="Прямая соединительная линия 13"/>
          <p:cNvSpPr/>
          <p:nvPr/>
        </p:nvSpPr>
        <p:spPr>
          <a:xfrm flipV="1">
            <a:off x="2819520" y="2590920"/>
            <a:ext cx="1295280" cy="125712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ая соединительная линия 15"/>
          <p:cNvSpPr/>
          <p:nvPr/>
        </p:nvSpPr>
        <p:spPr>
          <a:xfrm flipV="1">
            <a:off x="2819520" y="3657240"/>
            <a:ext cx="2666880" cy="19044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ая соединительная линия 17"/>
          <p:cNvSpPr/>
          <p:nvPr/>
        </p:nvSpPr>
        <p:spPr>
          <a:xfrm>
            <a:off x="2819520" y="3848040"/>
            <a:ext cx="1204920" cy="87156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Овал 21"/>
          <p:cNvSpPr/>
          <p:nvPr/>
        </p:nvSpPr>
        <p:spPr>
          <a:xfrm>
            <a:off x="685800" y="380880"/>
            <a:ext cx="7543800" cy="609840"/>
          </a:xfrm>
          <a:prstGeom prst="ellipse">
            <a:avLst/>
          </a:prstGeom>
          <a:solidFill>
            <a:srgbClr val="0f6fc6"/>
          </a:solidFill>
          <a:ln w="11520">
            <a:solidFill>
              <a:srgbClr val="08509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Franklin Gothic Demi"/>
              </a:rPr>
              <a:t>Вода  нужна вс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6600"/>
                </a:solidFill>
                <a:latin typeface="Franklin Gothic Book"/>
              </a:rPr>
              <a:t>Наблюдение за луком</a:t>
            </a: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-311040" y="1517760"/>
            <a:ext cx="2352600" cy="20001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4" descr=""/>
          <p:cNvPicPr/>
          <p:nvPr/>
        </p:nvPicPr>
        <p:blipFill>
          <a:blip r:embed="rId2"/>
          <a:stretch/>
        </p:blipFill>
        <p:spPr>
          <a:xfrm>
            <a:off x="6516720" y="3103560"/>
            <a:ext cx="1755720" cy="21384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" descr=""/>
          <p:cNvPicPr/>
          <p:nvPr/>
        </p:nvPicPr>
        <p:blipFill>
          <a:blip r:embed="rId3"/>
          <a:stretch/>
        </p:blipFill>
        <p:spPr>
          <a:xfrm>
            <a:off x="1736640" y="1974960"/>
            <a:ext cx="2232000" cy="23050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6" descr=""/>
          <p:cNvPicPr/>
          <p:nvPr/>
        </p:nvPicPr>
        <p:blipFill>
          <a:blip r:embed="rId4"/>
          <a:stretch/>
        </p:blipFill>
        <p:spPr>
          <a:xfrm>
            <a:off x="3449520" y="2432160"/>
            <a:ext cx="2573280" cy="2206440"/>
          </a:xfrm>
          <a:prstGeom prst="rect">
            <a:avLst/>
          </a:prstGeom>
          <a:ln w="0">
            <a:noFill/>
          </a:ln>
        </p:spPr>
      </p:pic>
      <p:sp>
        <p:nvSpPr>
          <p:cNvPr id="631" name="TextBox 10"/>
          <p:cNvSpPr/>
          <p:nvPr/>
        </p:nvSpPr>
        <p:spPr>
          <a:xfrm>
            <a:off x="685800" y="35053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Franklin Gothic Book"/>
              </a:rPr>
              <a:t>Посадка 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11"/>
          <p:cNvSpPr/>
          <p:nvPr/>
        </p:nvSpPr>
        <p:spPr>
          <a:xfrm>
            <a:off x="2133720" y="44197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Franklin Gothic Book"/>
              </a:rPr>
              <a:t>Проращивание 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2"/>
          <p:cNvSpPr/>
          <p:nvPr/>
        </p:nvSpPr>
        <p:spPr>
          <a:xfrm>
            <a:off x="4005360" y="464832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Franklin Gothic Book"/>
              </a:rPr>
              <a:t>Лукович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Franklin Gothic Book"/>
              </a:rPr>
              <a:t>на десятый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14"/>
          <p:cNvSpPr/>
          <p:nvPr/>
        </p:nvSpPr>
        <p:spPr>
          <a:xfrm>
            <a:off x="6213960" y="525456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Franklin Gothic Demi"/>
              </a:rPr>
              <a:t>Хорош мой урож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6600"/>
                </a:solidFill>
                <a:latin typeface="Franklin Gothic Book"/>
              </a:rPr>
              <a:t>Результаты исследования</a:t>
            </a: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80520" y="2286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Я узнал о роли воды для роста лукович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учился экспериментировать, проводить простейшие исследования, анализировать, 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00"/>
                </a:solidFill>
                <a:latin typeface="Franklin Gothic Book"/>
              </a:rPr>
              <a:t>Мои рисунки «Вода – источник жизни»</a:t>
            </a:r>
            <a:endParaRPr b="0" lang="en-US" sz="3300" spc="-1" strike="noStrike">
              <a:solidFill>
                <a:srgbClr val="08b7bf"/>
              </a:solidFill>
              <a:latin typeface="Franklin Gothic Book"/>
            </a:endParaRPr>
          </a:p>
        </p:txBody>
      </p:sp>
      <p:pic>
        <p:nvPicPr>
          <p:cNvPr id="638" name="Picture 7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2770200" cy="2590560"/>
          </a:xfrm>
          <a:prstGeom prst="rect">
            <a:avLst/>
          </a:prstGeom>
          <a:ln w="9360">
            <a:solidFill>
              <a:srgbClr val="59aaf2"/>
            </a:solidFill>
            <a:miter/>
          </a:ln>
        </p:spPr>
      </p:pic>
      <p:sp>
        <p:nvSpPr>
          <p:cNvPr id="639" name="Rectangle 8"/>
          <p:cNvSpPr/>
          <p:nvPr/>
        </p:nvSpPr>
        <p:spPr>
          <a:xfrm>
            <a:off x="1800" y="1800"/>
            <a:ext cx="3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9" descr="http://www.detkityumen.ru/files/foto/vistavka/kristall/kristall1.jpg"/>
          <p:cNvPicPr/>
          <p:nvPr/>
        </p:nvPicPr>
        <p:blipFill>
          <a:blip r:embed="rId2"/>
          <a:stretch/>
        </p:blipFill>
        <p:spPr>
          <a:xfrm>
            <a:off x="2057400" y="2362320"/>
            <a:ext cx="1676520" cy="3047760"/>
          </a:xfrm>
          <a:prstGeom prst="rect">
            <a:avLst/>
          </a:prstGeom>
          <a:ln w="9360">
            <a:solidFill>
              <a:srgbClr val="59aaf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а</cp:lastModifiedBy>
  <dcterms:modified xsi:type="dcterms:W3CDTF">2019-12-17T16:16:01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