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C74-708D-4FE9-9056-1D103134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998-458C-4C98-9E14-DBA6A931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420-1D85-49FE-947E-832266BC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A05-8862-42F7-8140-DB4A328A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E80-249E-4DB2-8DEB-6D3485A4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AC7-4362-4C3D-AF01-2131AAAA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1FC-52D5-4E42-A1CF-0509048A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309-47B8-4532-8729-F5EBEB85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36F-86B8-40AA-AFB0-2B9E2DD3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5D4-4233-4C7A-96C9-C6EBC841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48A-A332-4A74-9A55-1D2C4D93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36C-CC67-4F88-ADFD-9E3691EA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1B44-01AC-4B1F-BA28-179B0CEA4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гадайте 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7357-90D9-4431-8FD8-580CA67BC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Объект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 приносит деньг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0093-12E5-4876-A877-F67FE82A2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ABBA_Money_money_money.mp3" descr=""/>
          <p:cNvPicPr/>
          <p:nvPr/>
        </p:nvPicPr>
        <p:blipFill>
          <a:blip r:embed="rId1"/>
          <a:stretch/>
        </p:blipFill>
        <p:spPr>
          <a:xfrm>
            <a:off x="4267080" y="35575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C39F-3E31-4FF2-8DE8-E45D23760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Семейные тради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нь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ждество Христ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дых  на природ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ыбал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156360" y="299736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5219640" y="4869000"/>
            <a:ext cx="2448000" cy="165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1125360"/>
            <a:ext cx="1727280" cy="172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2771640" y="3933720"/>
            <a:ext cx="2065320" cy="2506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468360" y="4005360"/>
            <a:ext cx="1950840" cy="2493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4284720" y="1125360"/>
            <a:ext cx="25207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A140-5C7D-4D8C-96BE-E5A900D24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оведи семейной жизни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то храни честь своей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 свою семью и делай ее луч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 внимательным и чутким, всегда готовым прийти на помощь членам своей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являй заботу и участие к близким и дальним родствен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ри родителям рад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й найти и выполнить дело на пользу и радость членам своей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ое дело – дороже богат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ь – это дорога, полная испытаний, будь готов с честью пройт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C7FD-5282-40EB-AE41-F4995AF85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Рефлекс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ятие мне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знал для себ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5123-B542-44A0-A5D0-552B33F63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2124000" y="2781360"/>
            <a:ext cx="5472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 за внима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22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ема занятия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Я и моя семь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082D-15E8-41F5-9871-013A8A372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96960" y="1743120"/>
            <a:ext cx="5950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7049-446F-4440-A01D-863F41854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то такое семь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7120" y="907920"/>
            <a:ext cx="82296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из вас слово «семья» имеет свое значение. А вот что мы можем прочитать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ловаре С.И. Ожегова: «Семья — группа живущих вместе близких родственников»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 далее отмечено, что слово «семья» многозначное. Это и многодетная семья, семья животных и птиц, языковая сем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социальной точки зрения, семь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малая социальная группа, члены которой связаны браком, родительством и родством, общностью быта, общим бюджетом и взаимной моральной ответствен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семья»: семь — Я То есть я повторен в детях моих семь раз. Потому что считалось: семь человек детей должно быть в каждой семье. Издавна цифра «семь» считается многозначительной и особо счастливой, потому что означает полноту земной жизни человека, успех во всех его добрых начина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им, какое бы определение семье мы ни дали, во всех значениях есть одна общая черта — это единение. Как же важно это сейчас, в наши дн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– это совокупность близких родственников, живущих вместе; родители с детьми.  Женатый сын или замужняя дочь, отдельно живущие, составляют уже иную сем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В.Да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7093080" y="5938920"/>
            <a:ext cx="133020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8594-2E30-4952-82E2-DD1ADF704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468360" y="1440"/>
            <a:ext cx="642924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ассоциации с этим словом возникают у ва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мья — это цвет, то какой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мья — это музыка, то кака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мья — это геометрическая фигура, то какая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мья — это настроение, то како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мья — это постройка, то кака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14A5-A7B0-48E3-93EE-4D04DBCB5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сто, где тебя ждут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68360" y="2060640"/>
            <a:ext cx="424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71640" y="299736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11280" y="9810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а кирпичиках напишите, что значит для вас Д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V="1">
            <a:off x="4390920" y="6652800"/>
            <a:ext cx="47530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4932360" y="5950080"/>
            <a:ext cx="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4935600" y="5950080"/>
            <a:ext cx="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6227640" y="59500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6877080" y="595008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7885080" y="6021360"/>
            <a:ext cx="0" cy="5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8820000" y="6021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4863960" y="61977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п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6227640" y="616572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6804000" y="6165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7885080" y="6165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Объект 1" descr=""/>
          <p:cNvPicPr/>
          <p:nvPr/>
        </p:nvPicPr>
        <p:blipFill>
          <a:blip r:embed="rId1"/>
          <a:stretch/>
        </p:blipFill>
        <p:spPr>
          <a:xfrm>
            <a:off x="4497480" y="154944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B611-AF46-41E2-AA49-81E49C1CD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1844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адание: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айдите вторую половинку пословицы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1560" y="110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лив тот,  - так и душ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емья вместе,  - кто у себя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ужен и клад, - си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без хозяйки  - коли в семье л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вести  - всегда ки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й горшок - не бородой тряст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995640" y="2781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716360" y="3357720"/>
            <a:ext cx="35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остав семьи. Родственни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лизкие родствен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д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б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льние родстве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я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юродный б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юродная се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баб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деду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5F6B-B4B7-414E-829A-9D84A8DE3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6589-5B4E-4AC7-95A7-211ABF688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б я был идеальным родител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бы был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214720" y="4000680"/>
            <a:ext cx="4214520" cy="2500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адание: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 Продолжи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 flipV="1">
            <a:off x="826920" y="40878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644D-6891-4D45-98E5-820AD3BEE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адание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поступят родители?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разыграть  сцен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  поздно пришел домой, как его встретили роди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55640" y="29242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ть (Почему  так долг гулял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чать (Опять  пришел поздно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ашивать ( Где ты был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седовать (Ты знаешь , что поздно гулять опас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7:31:31Z</dcterms:created>
  <dc:creator>samsung</dc:creator>
  <dc:description/>
  <dc:language>en-US</dc:language>
  <cp:lastModifiedBy>windows 8.1</cp:lastModifiedBy>
  <dcterms:modified xsi:type="dcterms:W3CDTF">2019-10-24T06:55:55Z</dcterms:modified>
  <cp:revision>83</cp:revision>
  <dc:subject/>
  <dc:title>Слайд 1</dc:title>
</cp:coreProperties>
</file>