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25.wmf" ContentType="image/x-wmf"/>
  <Override PartName="/ppt/media/image9.jpeg" ContentType="image/jpeg"/>
  <Override PartName="/ppt/media/image11.jpeg" ContentType="image/jpe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4.gif" ContentType="image/gif"/>
  <Override PartName="/ppt/media/image7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A6F-CD0C-4B50-9A51-CD8D31D3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29B-63C4-46F7-8E4D-1100BB73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9F8-3786-4C11-A7AB-0B810E87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460-B940-4D36-8F44-497A0BBC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8B68-7014-4544-B7C1-50B8996C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018E-F4C6-40B5-B7DA-ECC0C9DC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72C7-B3FC-4AAE-A4C4-A4B2E9F2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0327-281E-4ECF-B76B-9FEB0290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9DD-02E8-44B2-8D51-57B709B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C4EC-E392-433B-B6C4-BBDB1FB3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65E9-720C-4BBB-9C15-4230E28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17F-0799-4B45-A694-433B8E6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9C7A-F0A5-4BFD-8814-CFD4DE0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3C35-A664-4424-86B1-8854DDC5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2582-7ADB-43D2-A888-735F05D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A62-F993-4EF9-901A-64D07F56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7F23-FC12-44D4-B6AD-4D414518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27781-10D7-4455-B3A3-BBB26A71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38E1A-4FA8-444C-9F29-B05689AB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BBC3-58BE-4D61-BB26-48DE0E43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6C9A-8C23-4062-B811-2465295D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788B5-B48C-4DDC-B6CA-26ADE339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F14-0260-4EAF-BF09-9F21E21A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4D2C-0FF4-4E90-8ED3-048A4235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FCCF-7BB6-4C09-A7F3-CD923933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FCF0-9DA8-4E22-8F91-BE9070BC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99EE-E55E-4EA7-96F9-859536AB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59826-B321-4581-968E-A17A746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CF94-7435-4EAD-A2AA-6A33C9ED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866D-CC8D-44F3-BE8A-956D9C81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189E0-6C0E-4305-8E0D-A8F87FFF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E7AB-5342-49A4-BB40-AA402A83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2672-2302-4DE0-BD31-35B4A624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E74-5CC2-4720-8162-07B607DD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DBC0-E7C8-4338-BAD9-F90F4C01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65DDD-1D35-4903-A53E-C3DA72B2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BAA71-F47A-4691-A273-410CB24A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365F1-BD05-405A-AFE7-16E9347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A05B3-C8E7-4E74-A3ED-43717AB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739A-6420-4897-9A53-07748FD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CC9A-21D1-40A8-8455-F72ECC5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F77C-461B-4A11-8E7A-943B3608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7CE5-2AE7-4243-B094-C3D34988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762E0-0130-490D-83F4-7AA89D05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FF4-5133-4A7A-8C88-47ED0B2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3D60-F593-4622-AFA9-0D4ABD45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5116E-2E29-4F08-A0E4-C777F501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621F-05F1-4662-B92A-AFE3084D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81FF-DA16-4F1F-AA22-26B9BEF0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0219A-1797-43E9-A95C-FE0E38CD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FE46D-4697-4412-941B-CE3CEEA6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027BA-EE04-446C-A0AE-981BFF9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28A3-FBB0-4688-9156-C2E137D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98F8A-CA5D-463B-8407-918F3C82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B535B-3B5A-49BF-8412-0F85F4E5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FD9-D1B3-4ABB-8FD3-F56D217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F3299-ACD3-4626-A384-2103CA2D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A6F1E-5D87-4A8E-B228-1C73018A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830B-369D-4C86-8A8F-C1573FD6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0A149-EDD0-46F7-A14F-5EAD9D38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1D529-220D-4219-97A7-80ECB013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B02DD-8EF7-4A79-A64C-8F7EF120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DA1C-86CA-43CE-AB93-C2AAC8C5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6C669-B5C4-4EAF-9E60-952C7CA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8A41D-09F9-4A34-811C-DCA3A01A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C4854-918F-4B45-9016-1128351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065-238C-458A-90C9-A227A81C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36B1-7F20-416E-A415-2BE73A0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D06A4-EB87-4D99-A254-B6C4A1C5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867FD-3479-4DA1-B3E1-895EFB2F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E7A0D-E7F0-4961-BF05-0B027902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239BF-FF85-432B-ACFA-1191816C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9459F-2148-41DD-8707-9939A934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DB7EB-B141-45D9-8052-0E1BB76D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CD349-2590-43B9-B60D-171D4AEA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25929-2FC8-407D-A0F0-27D2CA81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4E739-8B6B-401C-ACEA-8AA4938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5ED-FFA9-4D48-992B-4CCF3EF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FD83-C508-4921-BDF8-3506B8EF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5480-B856-4490-9149-BBBCD2C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FAA79-C055-4AB3-8AB6-55C4FF90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D382-6143-48CF-A26F-FCE2D654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96F9B-79AA-45D1-920E-DEE73CBA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003F-6545-4076-BC33-387EF455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6AF4D-A3D0-4513-B69B-2B23D3B4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B40A8-DD55-420F-869E-F10CE501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24AF-18DC-4BEB-AFD1-DFB09A3F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2F62A-BB96-461F-8149-0D48974F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96C-A178-4A62-AF6B-AC9995C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F99CD-8666-426D-8A29-59D8DC82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D055-8EBC-43B7-A13F-E86BFE9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8ED2E-6B0D-48CD-B47B-2F6BEC5C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1EAC-EA75-4F79-B44A-2CE1CEC2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CF5E7-90FF-40B3-8F63-B8D40ECE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5AAA-6A16-4CCB-8609-2AA86286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AA75A-1DB2-42C8-BA81-F9656288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0596-EDEF-4FA2-B4FB-3709D65ABE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7219-67C3-42C2-81A2-2F6C15996B9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94B8-AB7B-4479-98C1-C72C998618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D8F2-48F7-4D7C-A08A-CD4493135B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154A-9A71-4563-8E58-6FA72E8329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798C-1B93-45D2-BDBE-CCBB0A0E88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AFCA-F903-4313-9978-9CF482210BF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5828-7BBE-41BD-892A-7159730F9BD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781200" y="122400"/>
            <a:ext cx="7783200" cy="130968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365120" y="1504800"/>
            <a:ext cx="7461360" cy="5072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C:\Users\User\Desktop\imgpreview.jpg"/>
          <p:cNvPicPr/>
          <p:nvPr/>
        </p:nvPicPr>
        <p:blipFill>
          <a:blip r:embed="rId3"/>
          <a:stretch/>
        </p:blipFill>
        <p:spPr>
          <a:xfrm>
            <a:off x="714240" y="3571920"/>
            <a:ext cx="3643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4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8691480" cy="40845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5712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Gothic"/>
              </a:rPr>
              <a:t>Карманные модел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4" descr="tem2_1_1-3"/>
          <p:cNvPicPr/>
          <p:nvPr/>
        </p:nvPicPr>
        <p:blipFill>
          <a:blip r:embed="rId2"/>
          <a:stretch/>
        </p:blipFill>
        <p:spPr>
          <a:xfrm>
            <a:off x="1714680" y="1131840"/>
            <a:ext cx="5614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14200" y="857160"/>
            <a:ext cx="48578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Мы руками поведем –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Будто в море мы плыве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аз, два, три, четыре –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от мы к берегу приплыли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Чтобы косточки размять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Начнем наклоны выполнять –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право, влево, вправо, влево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Не забудем и присесть –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аз, два, три, четыре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На счет пять – за парты сесть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5214960" y="121428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2"/>
          <p:cNvSpPr/>
          <p:nvPr/>
        </p:nvSpPr>
        <p:spPr>
          <a:xfrm>
            <a:off x="928800" y="285840"/>
            <a:ext cx="7929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 чего же состоит наш компьюте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1000080" y="1928880"/>
            <a:ext cx="5572080" cy="3666960"/>
          </a:xfrm>
          <a:prstGeom prst="rect">
            <a:avLst/>
          </a:prstGeom>
          <a:ln w="0">
            <a:noFill/>
          </a:ln>
        </p:spPr>
      </p:pic>
      <p:cxnSp>
        <p:nvCxnSpPr>
          <p:cNvPr id="381" name="Прямая со стрелкой 8"/>
          <p:cNvCxnSpPr/>
          <p:nvPr/>
        </p:nvCxnSpPr>
        <p:spPr>
          <a:xfrm>
            <a:off x="6500520" y="5214600"/>
            <a:ext cx="572040" cy="4294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15"/>
          <p:cNvCxnSpPr>
            <a:endCxn id="383" idx="2"/>
          </p:cNvCxnSpPr>
          <p:nvPr/>
        </p:nvCxnSpPr>
        <p:spPr>
          <a:xfrm flipV="1">
            <a:off x="4499640" y="1642680"/>
            <a:ext cx="214920" cy="5724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18"/>
          <p:cNvCxnSpPr/>
          <p:nvPr/>
        </p:nvCxnSpPr>
        <p:spPr>
          <a:xfrm flipH="1" flipV="1">
            <a:off x="1999800" y="1643040"/>
            <a:ext cx="1000800" cy="6433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21"/>
          <p:cNvCxnSpPr/>
          <p:nvPr/>
        </p:nvCxnSpPr>
        <p:spPr>
          <a:xfrm>
            <a:off x="3927960" y="5357880"/>
            <a:ext cx="214920" cy="35784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6" name="Прямая со стрелкой 25"/>
          <p:cNvCxnSpPr/>
          <p:nvPr/>
        </p:nvCxnSpPr>
        <p:spPr>
          <a:xfrm flipV="1">
            <a:off x="5571720" y="1856520"/>
            <a:ext cx="1072440" cy="3582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7" name="Скругленный прямоугольник 9"/>
          <p:cNvSpPr/>
          <p:nvPr/>
        </p:nvSpPr>
        <p:spPr>
          <a:xfrm>
            <a:off x="214200" y="928800"/>
            <a:ext cx="23576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Монитор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кругленный прямоугольник 10"/>
          <p:cNvSpPr/>
          <p:nvPr/>
        </p:nvSpPr>
        <p:spPr>
          <a:xfrm>
            <a:off x="3000240" y="1071720"/>
            <a:ext cx="3429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истемный 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Скругленный прямоугольник 11"/>
          <p:cNvSpPr/>
          <p:nvPr/>
        </p:nvSpPr>
        <p:spPr>
          <a:xfrm>
            <a:off x="6643800" y="1500120"/>
            <a:ext cx="200016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Диско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Скругленный прямоугольник 16"/>
          <p:cNvSpPr/>
          <p:nvPr/>
        </p:nvSpPr>
        <p:spPr>
          <a:xfrm>
            <a:off x="6786720" y="5643720"/>
            <a:ext cx="178596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Скругленный прямоугольник 17"/>
          <p:cNvSpPr/>
          <p:nvPr/>
        </p:nvSpPr>
        <p:spPr>
          <a:xfrm>
            <a:off x="2000160" y="5715000"/>
            <a:ext cx="385776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85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85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3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85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850"/>
                            </p:stCondLst>
                            <p:childTnLst>
                              <p:par>
                                <p:cTn id="1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85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857160" y="64296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Прямая со стрелкой 4"/>
          <p:cNvCxnSpPr/>
          <p:nvPr/>
        </p:nvCxnSpPr>
        <p:spPr>
          <a:xfrm>
            <a:off x="5285880" y="1571400"/>
            <a:ext cx="715320" cy="2862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6929280" y="28584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3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143160" cy="28782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13"/>
          <p:cNvSpPr/>
          <p:nvPr/>
        </p:nvSpPr>
        <p:spPr>
          <a:xfrm>
            <a:off x="1928880" y="642960"/>
            <a:ext cx="5786280" cy="928800"/>
          </a:xfrm>
          <a:prstGeom prst="rect">
            <a:avLst/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4"/>
          <p:cNvSpPr/>
          <p:nvPr/>
        </p:nvSpPr>
        <p:spPr>
          <a:xfrm>
            <a:off x="2143080" y="714240"/>
            <a:ext cx="5500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ный блок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главное устройство компью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Овал 15"/>
          <p:cNvSpPr/>
          <p:nvPr/>
        </p:nvSpPr>
        <p:spPr>
          <a:xfrm>
            <a:off x="4929120" y="1857240"/>
            <a:ext cx="2786040" cy="1357560"/>
          </a:xfrm>
          <a:prstGeom prst="ellipse">
            <a:avLst/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Овал 16"/>
          <p:cNvSpPr/>
          <p:nvPr/>
        </p:nvSpPr>
        <p:spPr>
          <a:xfrm>
            <a:off x="500040" y="1857240"/>
            <a:ext cx="3214800" cy="1285920"/>
          </a:xfrm>
          <a:prstGeom prst="ellipse">
            <a:avLst/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214200" y="1928880"/>
            <a:ext cx="371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ыполняет программы, состоящие из команд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5286240" y="2000160"/>
            <a:ext cx="214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ранит данные и программ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Овал 20"/>
          <p:cNvSpPr/>
          <p:nvPr/>
        </p:nvSpPr>
        <p:spPr>
          <a:xfrm>
            <a:off x="1000080" y="4071960"/>
            <a:ext cx="3357720" cy="1714320"/>
          </a:xfrm>
          <a:prstGeom prst="ellipse">
            <a:avLst/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21"/>
          <p:cNvSpPr/>
          <p:nvPr/>
        </p:nvSpPr>
        <p:spPr>
          <a:xfrm>
            <a:off x="1071720" y="4286160"/>
            <a:ext cx="3357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омощью этого устройства компьютер воспроизводит зв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4" name="Прямая со стрелкой 24"/>
          <p:cNvCxnSpPr/>
          <p:nvPr/>
        </p:nvCxnSpPr>
        <p:spPr>
          <a:xfrm flipH="1">
            <a:off x="3214080" y="1571760"/>
            <a:ext cx="1143720" cy="4291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5" name="Прямоугольник 28"/>
          <p:cNvSpPr/>
          <p:nvPr/>
        </p:nvSpPr>
        <p:spPr>
          <a:xfrm>
            <a:off x="1857240" y="642960"/>
            <a:ext cx="5786640" cy="928800"/>
          </a:xfrm>
          <a:prstGeom prst="rect">
            <a:avLst/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29"/>
          <p:cNvSpPr/>
          <p:nvPr/>
        </p:nvSpPr>
        <p:spPr>
          <a:xfrm>
            <a:off x="2071800" y="714240"/>
            <a:ext cx="5500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ный блок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главное устройство компью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2"/>
          <p:cNvSpPr/>
          <p:nvPr/>
        </p:nvSpPr>
        <p:spPr>
          <a:xfrm>
            <a:off x="500040" y="571680"/>
            <a:ext cx="63579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нитор компьют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устройство для отображения информации, выводимой из компьюте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3857760" y="2847960"/>
            <a:ext cx="38574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651120" y="320400"/>
            <a:ext cx="5276880" cy="59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entury Gothic"/>
              </a:rPr>
              <a:t>Загадка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Эту мышку даже мама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Может смело в руки брать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У нее на спинке кнопки,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Чтоб программы набирать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0" name="Picture 5" descr="C:\Users\1\AppData\Local\Microsoft\Windows\Temporary Internet Files\Content.IE5\YXUXD8NP\MC900434411[1].wmf"/>
          <p:cNvPicPr/>
          <p:nvPr/>
        </p:nvPicPr>
        <p:blipFill>
          <a:blip r:embed="rId1"/>
          <a:stretch/>
        </p:blipFill>
        <p:spPr>
          <a:xfrm>
            <a:off x="357120" y="1071720"/>
            <a:ext cx="32148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3"/>
          <p:cNvSpPr/>
          <p:nvPr/>
        </p:nvSpPr>
        <p:spPr>
          <a:xfrm>
            <a:off x="1071720" y="571680"/>
            <a:ext cx="70005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мпьютерная  мыш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стройство ввода информации в компью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2143080" y="2286000"/>
            <a:ext cx="52149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785880" y="4287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мощью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виату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компьютер вводят текстовую информацию и коман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571760" y="1681200"/>
            <a:ext cx="58579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566640" y="-865080"/>
            <a:ext cx="8193240" cy="7089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1\AppData\Local\Microsoft\Windows\Temporary Internet Files\Content.IE5\5IXK780R\MP900387505[1].jpg"/>
          <p:cNvPicPr/>
          <p:nvPr/>
        </p:nvPicPr>
        <p:blipFill>
          <a:blip r:embed="rId2"/>
          <a:stretch/>
        </p:blipFill>
        <p:spPr>
          <a:xfrm>
            <a:off x="2743200" y="4357800"/>
            <a:ext cx="365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00040" y="407880"/>
            <a:ext cx="8193240" cy="167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343240" y="2143080"/>
            <a:ext cx="44575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Прямоугольник 3"/>
          <p:cNvSpPr/>
          <p:nvPr/>
        </p:nvSpPr>
        <p:spPr>
          <a:xfrm>
            <a:off x="571680" y="1928880"/>
            <a:ext cx="7429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спитание информационной культуры и дисциплинированности учащихся, внимательности, аккуратности,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Формирование умения  грамотно излагать свою точку з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формировать представление о классификации ЭВ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вести понятие компьютер и его основных ча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вивать внимание, память, логическое мышление, умение делать вы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C:\Users\1\AppData\Local\Microsoft\Windows\Temporary Internet Files\Content.IE5\YXUXD8NP\MM900318092[1].gif"/>
          <p:cNvPicPr/>
          <p:nvPr/>
        </p:nvPicPr>
        <p:blipFill>
          <a:blip r:embed="rId1"/>
          <a:stretch/>
        </p:blipFill>
        <p:spPr>
          <a:xfrm>
            <a:off x="6215040" y="785880"/>
            <a:ext cx="2071800" cy="1218960"/>
          </a:xfrm>
          <a:prstGeom prst="rect">
            <a:avLst/>
          </a:prstGeom>
          <a:ln w="0">
            <a:noFill/>
          </a:ln>
        </p:spPr>
      </p:pic>
      <p:pic>
        <p:nvPicPr>
          <p:cNvPr id="351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Ох и умная машина,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Только кнопочку нажмёшь,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Все программы в миг осилит,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В интернет легко войдёт!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entury Gothic"/>
              </a:rPr>
              <a:t>Компьютер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57120" y="499680"/>
            <a:ext cx="83296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Чем компьютер помогает людям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Где он применяется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6" descr="C:\Users\User\Desktop\imgpreview (1).jpg"/>
          <p:cNvPicPr/>
          <p:nvPr/>
        </p:nvPicPr>
        <p:blipFill>
          <a:blip r:embed="rId1"/>
          <a:stretch/>
        </p:blipFill>
        <p:spPr>
          <a:xfrm>
            <a:off x="4143240" y="3071880"/>
            <a:ext cx="41752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5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6840" y="1722240"/>
            <a:ext cx="36147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Блез Паскаль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Леонардо да Винчи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5000760" y="2428920"/>
            <a:ext cx="3143160" cy="3643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C:\Users\User\Desktop\imgpreview (2).jpg"/>
          <p:cNvPicPr/>
          <p:nvPr/>
        </p:nvPicPr>
        <p:blipFill>
          <a:blip r:embed="rId3"/>
          <a:stretch/>
        </p:blipFill>
        <p:spPr>
          <a:xfrm>
            <a:off x="571680" y="2428920"/>
            <a:ext cx="30715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4" descr=""/>
          <p:cNvPicPr/>
          <p:nvPr/>
        </p:nvPicPr>
        <p:blipFill>
          <a:blip r:embed="rId1"/>
          <a:stretch/>
        </p:blipFill>
        <p:spPr>
          <a:xfrm>
            <a:off x="633240" y="182520"/>
            <a:ext cx="8060040" cy="963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6286680" y="1214280"/>
            <a:ext cx="2643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 октябре 1945 года в США был создан первый компьютер ENIAC . В ЭВМ первого поколения использовались электронные ламп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6" descr="C:\Users\User\Desktop\imgpreview (3).jpg"/>
          <p:cNvPicPr/>
          <p:nvPr/>
        </p:nvPicPr>
        <p:blipFill>
          <a:blip r:embed="rId2"/>
          <a:stretch/>
        </p:blipFill>
        <p:spPr>
          <a:xfrm>
            <a:off x="214200" y="1143000"/>
            <a:ext cx="6286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User\Desktop\agat-01.jpg"/>
          <p:cNvPicPr/>
          <p:nvPr/>
        </p:nvPicPr>
        <p:blipFill>
          <a:blip r:embed="rId1"/>
          <a:stretch/>
        </p:blipFill>
        <p:spPr>
          <a:xfrm>
            <a:off x="500040" y="500040"/>
            <a:ext cx="2786040" cy="2917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C:\Users\User\Desktop\11.jpg"/>
          <p:cNvPicPr/>
          <p:nvPr/>
        </p:nvPicPr>
        <p:blipFill>
          <a:blip r:embed="rId2"/>
          <a:stretch/>
        </p:blipFill>
        <p:spPr>
          <a:xfrm>
            <a:off x="1357200" y="3524400"/>
            <a:ext cx="6667560" cy="3333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C:\Users\User\Desktop\imgpreview (5).jpg"/>
          <p:cNvPicPr/>
          <p:nvPr/>
        </p:nvPicPr>
        <p:blipFill>
          <a:blip r:embed="rId3"/>
          <a:stretch/>
        </p:blipFill>
        <p:spPr>
          <a:xfrm>
            <a:off x="4857840" y="428760"/>
            <a:ext cx="37162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714240" y="857160"/>
            <a:ext cx="4626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Gothic"/>
              </a:rPr>
              <a:t>Настольные ПК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иболее распространёнными являются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настольные ПК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, которые позволяют легко изменять конфигурацию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7" descr="tem2_1_1-1"/>
          <p:cNvPicPr/>
          <p:nvPr/>
        </p:nvPicPr>
        <p:blipFill>
          <a:blip r:embed="rId1"/>
          <a:stretch/>
        </p:blipFill>
        <p:spPr>
          <a:xfrm>
            <a:off x="5072040" y="1989000"/>
            <a:ext cx="3821040" cy="3338640"/>
          </a:xfrm>
          <a:prstGeom prst="rect">
            <a:avLst/>
          </a:prstGeom>
          <a:ln w="0">
            <a:noFill/>
          </a:ln>
        </p:spPr>
      </p:pic>
      <p:sp>
        <p:nvSpPr>
          <p:cNvPr id="368" name="Овал 5"/>
          <p:cNvSpPr/>
          <p:nvPr/>
        </p:nvSpPr>
        <p:spPr>
          <a:xfrm>
            <a:off x="857160" y="4643280"/>
            <a:ext cx="3500640" cy="57168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Скругленная прямоугольная выноска 6"/>
          <p:cNvSpPr/>
          <p:nvPr/>
        </p:nvSpPr>
        <p:spPr>
          <a:xfrm>
            <a:off x="5214960" y="1714680"/>
            <a:ext cx="3500280" cy="3857400"/>
          </a:xfrm>
          <a:prstGeom prst="wedgeRoundRectCallout">
            <a:avLst>
              <a:gd name="adj1" fmla="val -73893"/>
              <a:gd name="adj2" fmla="val 32129"/>
              <a:gd name="adj3" fmla="val 16667"/>
            </a:avLst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5143680" y="2143080"/>
            <a:ext cx="3571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ешнее очертание, а также взаимное расположение предметов или их ч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651120" y="320400"/>
            <a:ext cx="5276880" cy="59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Gothic"/>
              </a:rPr>
              <a:t>Портативные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компьютер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добны для пользования, имеют средства компьютерной связи. Системный блок, монитор и клавиатура портативных ПК размещены в одном корпусе: системный блок находится под клавиатурой, а монитор встроен в крышку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Picture 4" descr="tem2_1_1-2"/>
          <p:cNvPicPr/>
          <p:nvPr/>
        </p:nvPicPr>
        <p:blipFill>
          <a:blip r:embed="rId1"/>
          <a:stretch/>
        </p:blipFill>
        <p:spPr>
          <a:xfrm>
            <a:off x="0" y="1285920"/>
            <a:ext cx="34560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5:44:07Z</dcterms:created>
  <dc:creator>Анютка</dc:creator>
  <dc:description/>
  <dc:language>en-US</dc:language>
  <cp:lastModifiedBy>User</cp:lastModifiedBy>
  <dcterms:modified xsi:type="dcterms:W3CDTF">2018-12-05T13:59:34Z</dcterms:modified>
  <cp:revision>82</cp:revision>
  <dc:subject/>
  <dc:title>Муниципальное общеобразовательное учреждение Жаворонковская СОШ</dc:title>
</cp:coreProperties>
</file>