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182-DA4C-482D-8926-6BFF67A9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15F-1848-4FB9-B96B-BF668244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73F-DF02-4738-95E7-FC40C250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1B7-91B7-469B-985C-4C532C16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DF0-E9B1-41B5-A07A-28F9ECE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7FF-4266-4B2F-85BC-6478F3B3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1ED-2FAE-4262-87D4-B647B2DB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A94-0A41-416C-9C4F-54D1F480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AC0-C5D7-437B-BB1F-D53C89E1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F4B-EAB5-447A-86A0-CA9E71A2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E41-12F4-4198-92E4-753D066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037-1604-4D02-81D1-54A51C01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BD6-BA5E-4B96-9645-ED0DAA7CD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6000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филактика жестокого обращения с детьми и детской агрессив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teen-02"/>
          <p:cNvPicPr/>
          <p:nvPr/>
        </p:nvPicPr>
        <p:blipFill>
          <a:blip r:embed="rId1"/>
          <a:stretch/>
        </p:blipFill>
        <p:spPr>
          <a:xfrm>
            <a:off x="2071800" y="2286000"/>
            <a:ext cx="550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Профилактика и коррекция агрессивного пове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499680"/>
            <a:ext cx="9001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                    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Занятия спортом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Медленный счет до десяти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Коллекционировать анекд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Смотреть юмористические  фильмы  телепередач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Подурачиться у зерк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Овладеть методами саморегуляц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Научиться позитивно воспринимать ми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Переключение внимания на нейтральные темы- умение представить ситуацию покоя, например  лес, пляж, или другие условия, когда чувство душевного покоя у человека наиболее выражено. При этом использовать стихи любимого поэта, успокаивающую музыку и т.д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Самоубеждение - умение проанализировать сложившуюся ситуацию, поговорить с самим собой и убедить себя в несерьезности собственных переживаний. Формулы самовнушения («Для меня это не очень важно», «Я все могу» и т.д.) помогают кратковременно « выключить эмоции, не давая им перейти  предел управляем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Упражнения мимических мышц, снижающие напряжение мышц ли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.Самовнушение. Смысл успокаивающих «формул» состоит в том, чтобы последовательно направлять свое внимание на отдельные части своего тела( руки, ноги, шею, лицо, туловище) и внушать себе, что они расслабляются, согреваются и обездвиживаются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.Дыхательные упражнения- упорядоченные физические дыхания, при выполнении которых выдох следу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лать примерно вдвое длиннее вдоха (если необходимо снять острое напряжение, можно сделать глубокий вдо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задержать дыхание на 20-30 секунд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.Физические упражнения- движения, осуществляемые для расслабления. Наиболее полезны упражнения на растягивание мышц, на расслабление (типа потряхивания), а также упражнения со статическим усилием и задержкой дых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84807"/>
                </a:solidFill>
                <a:latin typeface="Calibri"/>
              </a:rPr>
              <a:t>Величайшее в жизни счасть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это уверенность в том, что нас любят,  любят за то, что мы такие, какие мы есть, или несмотря на то, что мы такие, какие мы ес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Виктор Гюг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 rot="10800000">
            <a:off x="457200" y="6125400"/>
            <a:ext cx="822960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semya1"/>
          <p:cNvPicPr/>
          <p:nvPr/>
        </p:nvPicPr>
        <p:blipFill>
          <a:blip r:embed="rId1"/>
          <a:stretch/>
        </p:blipFill>
        <p:spPr>
          <a:xfrm>
            <a:off x="785880" y="2500200"/>
            <a:ext cx="44290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                                        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. Краткая характеристика подростково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. Понятие агрессии и агрессивности. Формы проявления агре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. Тестирование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.  Сравнительный  анализ   результатов   тестов детей   и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I. Способы профилактики и коррекции агрессивного поведения подростка. (Практику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Краткая характеристика подросткового возрас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785520"/>
            <a:ext cx="8929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ростковый возраст – один из наиболее сложных периодов развития человека. Несмотря на относительную кратковременность (с 13 до 18 лет), он практически во многом определяет всю дальнейшую жизнь индивидуума. Именно в подростковом возрасте преимущественно происходит формирование характера и других основ личности. Эти обстоятельства: переход от опекаемого взрослыми детства к самостоятельности, смена привычного школьного обучения на другие виды социальной деятельности, а также бурная гормональная перестройка организма – делают подростка особенно уязвимым и податливым к отрицательным влияниям среды. При этом необходимо учитывать свойственное подросткам стремление высвободиться из-под опёки и контроля родных, учителей и других воспитателей. Нередко это стремление приводит и к отрицанию духовных ценностей и стандартов жизни вообще старшего поколения.  Это проявляется  в повышенной возбудимости и агрессивности подрост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428760"/>
            <a:ext cx="91440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Calibri"/>
              </a:rPr>
              <a:t>Агресс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это поведение или действие, направленное на нанесение физического или психического вреда другим людя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Calibri"/>
              </a:rPr>
              <a:t>Агресс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акт напа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Calibri"/>
              </a:rPr>
              <a:t>Агрессивнос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риобретенное личное качество, готовность к агресс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Calibri"/>
              </a:rPr>
              <a:t>Агрессивнос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формируется в течение жизни и, в частности, в процессе социализации лич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Формы проявления агресси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изическая агрес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свенная агрессия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дражение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гативизм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идчивость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озрительность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рбальная агрессия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увство вины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500040"/>
            <a:ext cx="8715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Возрастные кризис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0т 0 до1года,3,7,13-14,17-18, 45, 55 лет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дростковый возраст (высокая эмоциональность, возбудимос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f497d"/>
                </a:solidFill>
                <a:latin typeface="Calibri"/>
              </a:rPr>
              <a:t>Причины   агрессивного поведения людей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Жизненные кризис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плекс неполноцен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грессивное поведение между членами семь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зцы социально отрицательного поведения сверстник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даптация к социальным условия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ощрение агрессивного повед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ледствен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Жестокое воспита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1f497d"/>
                </a:solidFill>
                <a:latin typeface="Calibri"/>
              </a:rPr>
              <a:t>Причины подростковой агрессивност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4200" y="785520"/>
            <a:ext cx="8786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ышенное внимание к себ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Некоторые подростки не проявляют интереса к окружающим, даже не пытаются понять, что у каждого человека есть своё мнение и желания, которые могут отличаться от их собственных. Тогда окружающий мир становится враждебным и непонят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  Окружающие интересуют подрос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только если он может получить от них какую-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год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ни  не умеют сопереживать или сочувствовать. В итоге их поведение бывает очень агрессивным, и в ответ они также становятся объектом агре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мейные проблем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о приводят к всплеску агрессивности. Например, развод родителей или рождение младшего брата или сестры может сделать подростка раздражительным. Ещё хуже, если один из членов семьи постоянно становится объектом агрессии. Так бывает в семьях, где отец пьёт и третирует близких. Как правило, сын копирует отношение отца к домашним и переносит его на сверст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  В семьях, где предпочитаю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вторитарный стиль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где подростку отдают приказания и требуют безоговорочного их исполнения, подростки также проявляют повышенную агрессию во взаимоотношениях со сверст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  На сознание подростка в большой степени и пагубно вли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я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ую он получа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 телевизионных передач, кинофильмов, слышит по ради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грессия родите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ткрыта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Негативное восприятие происходящих событ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:непринятие пола ребенка, особенностей, склад характера, темперамента. Похожесть ребенка на супруга, оставившего сем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грессия у ребенка может быть обусловлена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итанием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оказана взаимосвязь между повышением тревожности, нервозности и агрессивности и употреблением шоколада. Не стоит чрезмерно ограничивать потребление детьми жи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.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лияние шума, вибрации, тесноты, температуры воздух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Связь уровня шума в доме с агрессивностью очевид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стал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Жар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стресс для нашего организма. А потому мы становимся особенно раздражительны и возбуди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еснот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еще один могучий провокатор нашей агрессив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         </a:t>
            </a:r>
            <a:r>
              <a:rPr b="1" lang="ru-RU" sz="2700" spc="-1" strike="noStrike">
                <a:solidFill>
                  <a:srgbClr val="1f497d"/>
                </a:solidFill>
                <a:latin typeface="Calibri"/>
              </a:rPr>
              <a:t>Существуют четыре основных способа выражения гнев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Прямо (вербально или невербально) заявить о своих чувствах, при этом давая выход отрицательным эмоци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Выразить гнев в косвенной форме, вымещая его на человеке или предмете, который представляется разгневанному неопасным. (Подушка, боксерская груша, портрет обидчик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Сдерживать свой гнев, "загоняя" его внутрь. В этом случае постепенно накапливающиеся отрицательные чувства будут способствовать возникновению стрес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Задерживать негативную эмоцию до момента ее наступления, не давая ей возможности развиться, при этом человек пытается выяснить причину гнева и устранить ее в кратчайший сро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6</dc:creator>
  <dc:description/>
  <dc:language>en-US</dc:language>
  <cp:lastModifiedBy>6</cp:lastModifiedBy>
  <dcterms:modified xsi:type="dcterms:W3CDTF">2018-04-24T12:35:28Z</dcterms:modified>
  <cp:revision>7</cp:revision>
  <dc:subject/>
  <dc:title>Причины подростковой агрессии и как ее преодолеть.</dc:title>
</cp:coreProperties>
</file>