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1738-DE28-4360-92C4-8741402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91143-F8D4-4E00-AFBF-D9D21713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9625-B456-4E4B-93A4-52482B7D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D1B33-EB62-45CC-B02B-16661AB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0415-4E98-4208-9134-D0F9277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68389-7A07-4BDB-9430-9A0BC66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21EC-CC93-4185-885F-E6EA07D5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5AAB-ABFA-4096-9954-F2DCBE3B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B08D4-988F-4F4C-BF37-B3405711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21692-D26D-43ED-99DE-7BE7CCB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9FB4-550E-4020-BA44-27F49DC8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D9D0-5F62-4CE5-A593-A8C4F5B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1EDC1-D7E1-49D4-93B8-D97F4929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D0E29-747D-4C92-9CC7-6CB3840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962D0-828F-43D7-A689-E98D4A77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9C9FC-8045-49AF-9F1F-30AC4ED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3C10A-0198-4939-A0D7-4455088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881CD-7593-4045-B64E-C5B2743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4635B-C437-4B5F-AA68-9AAF3AEF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A4F07-63EA-4C5A-B313-52C7AC00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D6718-ACE7-4FB6-84D6-0A4DFE5A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24F25-46A0-4DFE-A84C-7D3D1A83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5A8C1-53C9-41B2-9AE4-44CA361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3BBAD-6A69-4642-9502-782838C7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48456-B169-479A-86DC-2B17EDD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D2FA0-E778-4102-94CF-CA693C1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D57B6-068D-47DF-A86F-EE3519B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F792D-CA9F-4DDA-891B-1F522D0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82A43-DE4E-48DC-BFA7-2317C17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E9C8-24CA-4ED5-A690-D9E8B9E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AB9-14ED-4CE4-A6E0-F19C4433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34DA7-2B7F-4768-BFAE-D37388D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C8F4-4D2F-4970-A87E-E66EED60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C0DFF-7851-46DF-A47A-F9AF28F2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6BFDA-B054-499B-B5ED-0DF3433A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53A6-96E6-4BE4-A1B8-BC8F55E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A1996-7DB0-4B1E-A284-C55E0932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DB07-6DA2-460F-BED2-45BBCD2C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181A5-3237-4C22-9B97-D2288896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01EF6-F80D-47DF-98B4-E5511AF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565EE-4C20-4503-AF93-F7F9D34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1EE-E5EA-4E68-8678-6C2EDAC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8413-557A-4C5B-8375-1D819AC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07BD-424E-46A8-B41B-22CBB5E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C53A-BD9B-43C6-9A3C-CBA5837C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E336-C904-42E1-AD24-5240B143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D0B4D-0A9D-4FD9-A9FD-4A67660D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5F7-D0CE-4859-992D-CFD646BB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B40-F911-4D5C-B22C-2DF6C684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F64-B737-4F68-A0C5-9300564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E05-BDF6-46E2-AA21-F1AA2D3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827-6421-4414-A04A-0524373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8DD-6FC5-4935-9055-B40B042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11C-A03E-4F3E-B9F6-3885432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F84-3764-4CE4-B8A3-1F000DE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88E-7447-4D75-AB7D-001BC8E5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0CC-B603-4A01-9C8A-90637222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898-77B9-4F75-ADF5-F122EFDF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ED12-693A-4E73-B5B9-1BF2025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5C3-AE39-4A85-8E65-A3CDCE11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4BA1-4F6A-4977-A32D-A976FAA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916F-9FA6-4D1E-BF9C-ACC62D1F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560-1345-4985-BCB7-AE8C2DA0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25CC-D69B-43EC-A1B3-926B31B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7E68-0F32-47E0-9D6A-0DE0E44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FBD-DCB1-4315-B645-BDC312F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6A7E-8C57-471A-A8C3-0B03822D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E5B-884F-4C9B-A7A9-A9000B7C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5DDD-3682-4696-BCB0-CBB59894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426F-F955-4E57-AC8F-DF531DCD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1A62-4913-46EC-9943-4919F92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F5A2-B670-45DF-BDE1-DCCF130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A9C3-C817-447B-BA1E-DFA5344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F925-2258-42A0-995E-CF2269F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FCAF-B223-47AC-80E2-FA5861B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8467-8C70-4324-8ED5-B99B23C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155D-E23E-48BE-8C90-4774D4B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A14E-F3B0-43E1-9C19-7342749B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E273-6F4F-47C9-BFCE-6B32C8E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A580-441F-4BDC-B56D-1DA4AD49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10FA-DE68-4CAC-962A-C8D9302D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C6C5-E76B-4218-9C4C-6564F5F0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41ED9-C1B7-465F-978C-8AEAEBAF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1864-A8C5-4A54-9E77-8D9A24CC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09B29-89DC-4BA8-ADEE-185254A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3975-1FFD-4248-B54C-0B0DA75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F27E-CE05-43C3-BBE6-99E5745A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3B40-ECFF-4AA2-9E09-2C64F67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AA9A-EF4A-45B3-9AAD-48DC07F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705D-C87D-4E6F-9695-24B726E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F87B-8D13-422E-B5E5-F06C7E99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731B-5F07-4638-A4E3-EA7D08BA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E3BE-0541-4316-B3B4-2FB8B8A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459E-F755-45E1-B223-A283539C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5E32-960A-46EA-907E-A03AF84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3879-943E-4265-BEA5-D26D21FF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AC1C-7E88-4EC4-9AE4-5D55E26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4000-40F5-40B8-ABD6-F3D8CB41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0234-AA90-4AAB-87F1-B2332F6F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3652-9509-4680-A630-6FADF53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80763-95F1-40CD-8703-BCF8FD4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A849B-6DAA-4181-9E56-0C3DF92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F116-851E-4DD6-A90A-AE3957A5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A38A-8293-446B-AE97-7896FE61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6BDB-0FF4-4335-93B3-A66CABB1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667AB-CE32-405B-BC33-B646A92A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BF14-FCFD-4B05-9262-E7C8C52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C9FC-331D-4A0D-974D-D8F3C37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F8843-2390-4E9A-B8A8-FAB9ED5B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72F8-5DBA-44BD-9053-AC92762A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544D-6A91-4A1C-A7BE-08DCD83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C956-6758-4EF7-9BEA-7F1AC05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E9C0E-4B0D-4EB1-B288-7B07FC3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D103-A4FC-4598-91EE-8E4347C5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5EE4-B0D0-42D4-A609-1857660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4B55-CD0F-410A-93B0-72FBAEBA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1E40-2DEB-4AC2-9D35-E0B88ABA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4CC75-ECF1-4AB7-9899-8A1CD3BC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1FF8-9BCC-46FA-8215-32B5771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D29A8-2D3C-45AA-8E1B-E17DC6F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BDA9-3898-43DA-B9D1-7EF5725C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9412-AF91-4B2B-A797-96FBF71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FBE38-AA91-42D8-B07D-A9B95F3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2F464-FCDB-41A3-8E5C-418BE23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DA9F-B1CA-48D7-B9F3-1BA5B795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78CC-339B-46D2-9171-4E87A15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F98F-7F75-460C-B526-E533672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5C68-BEB9-4D4B-B7C8-D46D61E2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931DD-0A99-4DD6-AF9E-4D7D510C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3915-2D29-4BC9-BC39-6A5D70BE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5CA16-6A2E-439B-BDC4-811EDB02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5444-F0B0-48D7-B426-8ABEFB5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544-1026-44BC-AC18-30705760AEDD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8AB-0C02-4FA1-943E-DC73E8C9707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00F-95D5-46DD-8E65-09A6015286F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46DE-E807-4410-8552-B7E19A5D0E9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4D1B-9AAA-4E30-947B-090862A733FC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C58-3266-4CB5-A2DB-C551C10C163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F65-C69C-4B66-B73D-26CAAABE31A5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B5FA-0A7A-4A16-8FB5-3185D812A118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346-10CF-43FE-8202-AE4736C32C4D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28B-F09B-4F2A-81FA-39C6B0DFC951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060640" y="1563840"/>
            <a:ext cx="4813200" cy="83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C43-84A6-4C2F-BE09-17BCB452671C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Рисунок 4" descr=""/>
          <p:cNvPicPr/>
          <p:nvPr/>
        </p:nvPicPr>
        <p:blipFill>
          <a:blip r:embed="rId1"/>
          <a:stretch/>
        </p:blipFill>
        <p:spPr>
          <a:xfrm>
            <a:off x="700200" y="1413000"/>
            <a:ext cx="7743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2000" y="2636640"/>
            <a:ext cx="62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619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ОСНОВНЫЕ КОМПОНЕНТЫ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14360" y="2142720"/>
            <a:ext cx="5786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3"/>
          <p:cNvSpPr/>
          <p:nvPr/>
        </p:nvSpPr>
        <p:spPr>
          <a:xfrm>
            <a:off x="2286000" y="2274840"/>
            <a:ext cx="4572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вукопроизнош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ксический зап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мматический стр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язная реч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вукопроизно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714680" y="1785600"/>
            <a:ext cx="53798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ностью исчезает смягченное произношение  соглас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4 годам правильное произношение свистящих звук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, СЬ, З, ЗЬ, Ц 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5 годам почти все дети произносят шипящие звуки Ш, Ж, Ч, Щ.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5 годам появляются сонорные звуки Л,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ловарный зап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714680" y="1643040"/>
            <a:ext cx="5379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4 – 5 годам достигает 2500 – 3000 с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ет  притяжательные прилагательные  (лисий хвост, заячья избу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ва, указывающие на свойства предметов, качества, материал, из которого они сделаны (железный ключ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ечия, местоимения, сложные предл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з-под, около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бщающие слова (посуда, одежда, мебель, овощи, фрук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амматический ст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13880" y="1571760"/>
            <a:ext cx="785844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оит высказывания из 2-3 простых распространенных предложений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ет использовать  в речи сложноподчиненные предложения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Я люблю рисовать красками,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тому что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ни красивые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или («Я хочу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не сварили кашу»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ти не допускает в речи грамматических ошибок (правильно образует существительные с уменьшительно-ласкательными суффиксами,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зайчик, столик, вазочка, образует множественное число существительных, согласует существительные и числительные,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два карандаша … пять карандашей… одна лопата…. шесть лоп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28400" y="5715000"/>
            <a:ext cx="82580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вязная реч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ересказывает текст прочитанной сказки или расск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 все могут самостоятельно без помощи взрослых пересказать тек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одержимое 3" descr=""/>
          <p:cNvPicPr/>
          <p:nvPr/>
        </p:nvPicPr>
        <p:blipFill>
          <a:blip r:embed="rId1"/>
          <a:stretch/>
        </p:blipFill>
        <p:spPr>
          <a:xfrm>
            <a:off x="706320" y="1852560"/>
            <a:ext cx="79869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18920" y="1125360"/>
            <a:ext cx="6048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ечевой сл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6560" y="1809720"/>
            <a:ext cx="475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личают в речи взрослы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вышение и понижение громкости голо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нтон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огут сами воспроизводить различные интонации, подражая героям ска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Рисунок 2" descr=""/>
          <p:cNvPicPr/>
          <p:nvPr/>
        </p:nvPicPr>
        <p:blipFill>
          <a:blip r:embed="rId1"/>
          <a:stretch/>
        </p:blipFill>
        <p:spPr>
          <a:xfrm>
            <a:off x="5003640" y="2881440"/>
            <a:ext cx="335916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674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АРУШЕНИЕ РЕЧЕВ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2640" y="221472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к 4 - м годам  у ребёнка нарушены все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пы звуков 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пящи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Ш, Ж, Ч, Щ ), свистящие (С, З, Ц), заднеязычные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,Г, Х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имеется нарушение слоговой структуры слов, перестановки и замены слогов. Говорят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каша во рт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18920" y="785520"/>
            <a:ext cx="60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Логопун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13920" y="1642680"/>
            <a:ext cx="74725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:   развитие всей речевой системы в целом, а именно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ррекция и автоматизация нарушенных зву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е артикуляционной мото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е общей и мелкой моторики ру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ование фонематического слуха и воспри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е физиологического и речевого дых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е голосо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емпа и ритма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тие, обогащение, расширение словарного зап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ование грамматического строя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ование связной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ование навыка обучению грам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Шаблон Фокиной Л. П.</dc:creator>
  <dc:description/>
  <dc:language>en-US</dc:language>
  <cp:lastModifiedBy>Пользователь Windows</cp:lastModifiedBy>
  <dcterms:modified xsi:type="dcterms:W3CDTF">2019-10-22T12:42:50Z</dcterms:modified>
  <cp:revision>54</cp:revision>
  <dc:subject/>
  <dc:title>Шаблон презентации</dc:title>
</cp:coreProperties>
</file>