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E1A-435E-4E6D-BF68-950A0489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70E-B3F0-49BE-9A39-0C036C4C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54E-FD7E-438D-80E3-158EDF31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74B-502D-4095-81A4-CA93CD7E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662-5C8D-4E5F-99FE-F291C8D6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94FF-4CF4-403A-8A28-AC48BC03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6FF-FA20-432C-88ED-AA64A10D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B12-BE94-4443-A3BD-F316ADFF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9E0-7445-4FBF-ADA0-A0280406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96E-1B4D-4538-B3DD-4EC5A515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93A-05E9-4602-91FC-2D17D287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444-25A3-48F2-823E-396CBB4E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8850-9DBC-4B00-95B8-15DE12EF4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3" descr="1.jpg"/>
          <p:cNvPicPr/>
          <p:nvPr/>
        </p:nvPicPr>
        <p:blipFill>
          <a:blip r:embed="rId1"/>
          <a:stretch/>
        </p:blipFill>
        <p:spPr>
          <a:xfrm>
            <a:off x="57240" y="42840"/>
            <a:ext cx="908676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42920" y="274320"/>
            <a:ext cx="424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Настроение дете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3236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тор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споко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у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хи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и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F:\4 кл.сочинения\Картина Первый снег Пластов.jpg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43280" y="1125360"/>
            <a:ext cx="4500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вет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тёп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озова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лил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бледно-голуб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еровато-розовый                             ф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Тона картин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F:\4 кл.сочинения\Картина Первый снег Пластов.jpg"/>
          <p:cNvPicPr/>
          <p:nvPr/>
        </p:nvPicPr>
        <p:blipFill>
          <a:blip r:embed="rId2"/>
          <a:stretch/>
        </p:blipFill>
        <p:spPr>
          <a:xfrm>
            <a:off x="0" y="0"/>
            <a:ext cx="4564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План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ff"/>
                </a:solidFill>
                <a:latin typeface="Arial"/>
              </a:rPr>
              <a:t>Первый снег глазами худож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ff"/>
                </a:solidFill>
                <a:latin typeface="Arial"/>
              </a:rPr>
              <a:t>2. Первый день зи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ff"/>
                </a:solidFill>
                <a:latin typeface="Arial"/>
              </a:rPr>
              <a:t>3. Радость де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ff"/>
                </a:solidFill>
                <a:latin typeface="Arial"/>
              </a:rPr>
              <a:t>4. Цвет и настроение карт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ff"/>
                </a:solidFill>
                <a:latin typeface="Arial"/>
              </a:rPr>
              <a:t>5. Моё отношение к карти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1197000"/>
            <a:ext cx="3600360" cy="43164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тупительная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826920" y="2421000"/>
            <a:ext cx="2808360" cy="358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сновная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55640" y="4581360"/>
            <a:ext cx="3600360" cy="3603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лючительная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62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Закончить свой рассказ по этой картине можн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У меня возникает ощущение радости, счастья, праздника, когда я смотрю на эту карти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Я благодарен художнику, что еще раз могу пережить чувство радости при виде первого сне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Трудно оставаться равнодушным, когда видишь первый с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рт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удож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Изобраз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00720" y="333360"/>
            <a:ext cx="4464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произведение живописи, пол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автор картины, живописец, Аркадий Пла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показал, запечатлел, пере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5280" y="105264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омните!</a:t>
            </a: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Главное - передать своё отношение к картине, найти свои слова: яркие, эмоциональные, помогающие зрительно представить то, что изобразил худож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04960" y="40428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План: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1. Первый снег глазами художника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2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ервый день зимы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3. Радость детей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4. Цвет и настроение картины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5. Моё отношение к картин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7280" y="1773000"/>
            <a:ext cx="50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Снег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елый, пушистый, падает мохнатыми хлопьями, надел меховые шапки на крыши домов,  укутал всю землю белоснежным ковром, медленно кружится в воздухе, как стая белых мошек, чист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Девочк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бело-розовом платьице; большие чёрные валенки; без пальто выбежала на крыльцо; с удивлением наблюдает; восхищённо смотрит; заворожённо смотрит на снег; лёгкий пла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Мальчик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чёрный пиджак; на голову нахлобучил шапку-ушанку; одет по-зимнему; мечтает покататься на санках; давно наблюд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Берёз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арая; могучая; с белым стволом; ветки у берёзы гибкие, длинные, раскидистые.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       </a:t>
            </a: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Ворона</a:t>
            </a:r>
            <a:r>
              <a:rPr b="1" lang="ru-RU" sz="1600" spc="-1" strike="noStrike">
                <a:solidFill>
                  <a:srgbClr val="cc00ff"/>
                </a:solidFill>
                <a:latin typeface="Arial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койная; важная; шагающая по сне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Настроение детей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дость, восторг, восхищение, интер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Тона картин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ветлые, тёплые, розоватые, лиловые, бледно-голубые, серовато-розовый ф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F:\4 кл.сочинения\Картина Первый снег Пластов.jpg"/>
          <p:cNvPicPr/>
          <p:nvPr/>
        </p:nvPicPr>
        <p:blipFill>
          <a:blip r:embed="rId1"/>
          <a:stretch/>
        </p:blipFill>
        <p:spPr>
          <a:xfrm>
            <a:off x="0" y="476280"/>
            <a:ext cx="4397400" cy="6381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1692360" y="2565360"/>
            <a:ext cx="576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f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ркадий Александрович Пла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1893-197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palitra.co/wp-content/uploads/2012/08/img-i970fE.jpg"/>
          <p:cNvPicPr/>
          <p:nvPr/>
        </p:nvPicPr>
        <p:blipFill>
          <a:blip r:embed="rId1"/>
          <a:stretch/>
        </p:blipFill>
        <p:spPr>
          <a:xfrm>
            <a:off x="2268360" y="1628640"/>
            <a:ext cx="482472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4076640"/>
            <a:ext cx="8507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есь проводил он большую часть своей жизни. Здесь поля, на которых работали его родители. Здесь жили и работали герои его картин. Много произведений посвятил жизни деревенских реб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50920" y="259920"/>
            <a:ext cx="5041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кадий Александрович  Пластов – известный советский художник. Пластов родился и вырос в селе Прислониха Ульяновской области. Здесь прошло его дет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www.palitra.co/wp-content/uploads/2012/08/img-i970fE.jpg"/>
          <p:cNvPicPr/>
          <p:nvPr/>
        </p:nvPicPr>
        <p:blipFill>
          <a:blip r:embed="rId1"/>
          <a:stretch/>
        </p:blipFill>
        <p:spPr>
          <a:xfrm>
            <a:off x="395280" y="260280"/>
            <a:ext cx="36259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105520" y="764640"/>
            <a:ext cx="403848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дев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ма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берё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тона кар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настроение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F:\4 кл.сочинения\Картина Первый снег Пластов.jpg"/>
          <p:cNvPicPr/>
          <p:nvPr/>
        </p:nvPicPr>
        <p:blipFill>
          <a:blip r:embed="rId2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5256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Сне</a:t>
            </a:r>
            <a:r>
              <a:rPr b="1" lang="ru-RU" sz="2800" spc="-1" strike="noStrike" u="sng">
                <a:solidFill>
                  <a:srgbClr val="cc00ff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ый, чистый, пуш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ый, падает мохнатыми хлоп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 меховые ша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 (на)крыш_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д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утал всю землю бе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ежным ков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дл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круж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ся   (в)воздухе, как стая  белых мош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F:\4 кл.сочинения\Картина Первый снег Пластов.jpg"/>
          <p:cNvPicPr/>
          <p:nvPr/>
        </p:nvPicPr>
        <p:blipFill>
          <a:blip r:embed="rId1"/>
          <a:stretch/>
        </p:blipFill>
        <p:spPr>
          <a:xfrm>
            <a:off x="5059440" y="260280"/>
            <a:ext cx="408456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6588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ел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овом плать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ц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ие чёрные валенк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п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ьто выб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ла на крыльц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д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ением 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ю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ённо смотри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но смотрит на сн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 пл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-541440" y="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Девоч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F:\4 кл.сочинения\Картина Первый снег Пластов.jpg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60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в) чёрный пиджа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голову нахлобучи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апку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шанку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т по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имнем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чтает поката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я на санка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вно наблюд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613080" y="475920"/>
            <a:ext cx="6985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Мальчик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:\4 кл.сочинения\Картина Первый снег Пластов.jpg"/>
          <p:cNvPicPr/>
          <p:nvPr/>
        </p:nvPicPr>
        <p:blipFill>
          <a:blip r:embed="rId1"/>
          <a:stretch/>
        </p:blipFill>
        <p:spPr>
          <a:xfrm>
            <a:off x="5302080" y="0"/>
            <a:ext cx="38419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1640" y="26028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ередний план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рыльцо, ещё не полностью засыпанное снегом; мальчик и девочка (сестра и бра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скидистая берё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дний план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ревенская ул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орона, крыши домов покрыты сне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F:\4 кл.сочинения\Картина Первый снег Пластов.jpg"/>
          <p:cNvPicPr/>
          <p:nvPr/>
        </p:nvPicPr>
        <p:blipFill>
          <a:blip r:embed="rId1"/>
          <a:stretch/>
        </p:blipFill>
        <p:spPr>
          <a:xfrm>
            <a:off x="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518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рая; могуча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белым ств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м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ки у б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ёз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, дли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ые, р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идист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В_р_н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окойн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жная; шагающ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сне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68000" y="0"/>
            <a:ext cx="4537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Б</a:t>
            </a:r>
            <a:r>
              <a:rPr b="1" lang="ru-RU" sz="4400" spc="-1" strike="noStrike" u="sng">
                <a:solidFill>
                  <a:srgbClr val="cc00ff"/>
                </a:solidFill>
                <a:uFillTx/>
                <a:latin typeface="Arial"/>
              </a:rPr>
              <a:t>  </a:t>
            </a: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рё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:\4 кл.сочинения\Картина Первый снег Пластов.jpg"/>
          <p:cNvPicPr/>
          <p:nvPr/>
        </p:nvPicPr>
        <p:blipFill>
          <a:blip r:embed="rId1"/>
          <a:stretch/>
        </p:blipFill>
        <p:spPr>
          <a:xfrm>
            <a:off x="4946760" y="0"/>
            <a:ext cx="41972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7:48:28Z</dcterms:created>
  <dc:creator>Татьяна</dc:creator>
  <dc:description/>
  <dc:language>en-US</dc:language>
  <cp:lastModifiedBy>АЛЛА</cp:lastModifiedBy>
  <dcterms:modified xsi:type="dcterms:W3CDTF">2019-11-13T17:12:55Z</dcterms:modified>
  <cp:revision>17</cp:revision>
  <dc:subject/>
  <dc:title>Слайд 1</dc:title>
</cp:coreProperties>
</file>