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C4B-1389-41ED-A4D9-E03A34D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480-4656-4B17-BDE5-7168507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87E-BD92-47B0-A442-FF02EFA8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43B-23B0-4F7C-AB6A-2378CCD9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671-ED83-41AE-9E55-43BAB1A5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9B3E-AD3A-401C-8C0E-4465B68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E12-A590-43C7-B8D3-F5557AB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F08E-636F-4E7C-8EC1-43739AFA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4C9-D196-44F6-B378-D9BC462F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F503-D19E-4C90-9C0B-8B20F9F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619-EABF-4AAB-AA0A-A996E62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095-4A21-417C-9B08-EA76E48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D79-F32B-42DF-A44D-90F4A51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5ABB-5501-4561-B778-68F07B3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B3D2-7EDB-47C0-8872-F8CBDFB2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02C6-D5D7-4A6B-AF47-78255066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CB99-85CB-4CD6-A120-0DD6C35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F20F-5C0F-40F5-A2FF-11EB17B2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B64E-E7B0-4DD7-87FF-8B4F7249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D922-D059-4EBF-B321-60469CD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689A-BAF3-4D76-AA2C-F93C0FC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F7E2-5779-4F8E-91EE-06678FD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B09-59E2-4B72-A636-EBA64A6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F81C-14F5-412B-8E34-CC7F84A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B3F3-808A-4860-93FD-FE0AE3C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C047-7255-4DA0-A5C5-43DA1A5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BF6E-690A-444B-8865-53EC8AB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80DA-0F7C-4F25-B045-E08ED47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E5BA-80F9-47A4-A846-36C59B6E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14B0-D4F9-442B-B133-CA688738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75DA-6CD8-4E34-9B27-3A92C04A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AF78-D5B1-4921-87FC-622DCD97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28E4-CC39-4C49-A3F8-FEEF3E77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2DE-6305-4C0E-A0B7-C0AD135C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957A-AC1F-4018-9DFA-D46E47F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89E8-4F22-483D-A406-91DFFB3E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1B6FA-385E-4A9E-A582-9A49B1D7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3E37-809E-4056-BE9E-6C21A76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80C74-34E9-4D5B-A0B9-F6DA677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DA52-E475-4DF5-A09B-3F9DF9D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86A78-F030-46FE-89EB-A7EA23A6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962C3-ED36-44CE-AFCF-F0C1CE6F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E53F-C131-4445-A496-C2F66F37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2AC-8388-4B4D-8CFF-4431527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D5C-8DD7-4775-8D8F-77208F6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95B-78A4-4553-AF63-4D43CEE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E6A-5CD7-47A3-BB12-943C629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5C9-771F-4320-BEC2-9C9CA68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4532-8FB9-489A-9B12-93E69193BCB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F1B-B8E8-4A67-A183-D80D775F9E8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C65-383D-4228-AC80-D791DBD2D9D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EE7-CE80-4111-B1C4-CA1B22C3604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60680" y="421920"/>
            <a:ext cx="6864480" cy="51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детские писатели </a:t>
            </a:r>
            <a:br>
              <a:rPr sz="72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екомендации для родителей)</a:t>
            </a:r>
            <a:br>
              <a:rPr sz="5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687400" y="4516200"/>
            <a:ext cx="68929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ончукова С.В., воспитатель ГБДОУ д/с № 69 комбинированного вида Калининского района Санкт-Петербург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2019 г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1"/>
          <a:stretch/>
        </p:blipFill>
        <p:spPr>
          <a:xfrm rot="20967600">
            <a:off x="9675720" y="378000"/>
            <a:ext cx="2279880" cy="280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2"/>
          <a:stretch/>
        </p:blipFill>
        <p:spPr>
          <a:xfrm rot="20931000">
            <a:off x="482400" y="420840"/>
            <a:ext cx="2317680" cy="2787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"/>
          <p:cNvPicPr/>
          <p:nvPr/>
        </p:nvPicPr>
        <p:blipFill>
          <a:blip r:embed="rId3"/>
          <a:stretch/>
        </p:blipFill>
        <p:spPr>
          <a:xfrm rot="811800">
            <a:off x="765000" y="3381480"/>
            <a:ext cx="2095560" cy="2612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"/>
          <p:cNvPicPr/>
          <p:nvPr/>
        </p:nvPicPr>
        <p:blipFill>
          <a:blip r:embed="rId4"/>
          <a:stretch/>
        </p:blipFill>
        <p:spPr>
          <a:xfrm>
            <a:off x="9482040" y="3238560"/>
            <a:ext cx="215100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1036332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дуард  Николаевич Успенский</a:t>
            </a:r>
            <a:br>
              <a:rPr sz="3200"/>
            </a:b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22.12.1937 г. – 14.08.2018 г.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174960" y="2263320"/>
            <a:ext cx="91155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дуард Николаевич Успенский — советский писатель и известный автор детских книг. Одними из самых его известных персонажей являются крокодил Гена и Чебурашка, пес Шарик и кот Матроскин, почтальон Печкин, Дядя Федор, Тр-тр Митя, браться Колобки, гарантийные человеч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Э.Успенский является одним из создателей передачи «Спокойной ночи, малыши!», «АБВГДейка» и «Радионяня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5" descr="Новый проект «Союзмультфильма» «Переезд» будет посвящен Эдуарду Успенскому"/>
          <p:cNvPicPr/>
          <p:nvPr/>
        </p:nvPicPr>
        <p:blipFill>
          <a:blip r:embed="rId1"/>
          <a:stretch/>
        </p:blipFill>
        <p:spPr>
          <a:xfrm>
            <a:off x="9013680" y="1641600"/>
            <a:ext cx="291636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3880" y="420840"/>
            <a:ext cx="92743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орка книг Э.Н.Успенского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82520" y="2203200"/>
            <a:ext cx="8453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низ по волшебной реке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кро-человечки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рокодил Гена и его друзья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и из Простоквашино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ледствие ведут колобки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еховой интернат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756560" y="1238400"/>
            <a:ext cx="2279520" cy="2960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 rot="454800">
            <a:off x="9526680" y="668160"/>
            <a:ext cx="2235240" cy="274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3"/>
          <a:stretch/>
        </p:blipFill>
        <p:spPr>
          <a:xfrm rot="21368400">
            <a:off x="5457600" y="1252080"/>
            <a:ext cx="2260440" cy="2898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 rot="21216600">
            <a:off x="9566280" y="3474720"/>
            <a:ext cx="2265480" cy="2911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/>
          <p:cNvPicPr/>
          <p:nvPr/>
        </p:nvPicPr>
        <p:blipFill>
          <a:blip r:embed="rId5"/>
          <a:stretch/>
        </p:blipFill>
        <p:spPr>
          <a:xfrm rot="1230000">
            <a:off x="5344920" y="3454560"/>
            <a:ext cx="2341440" cy="3090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6"/>
          <a:stretch/>
        </p:blipFill>
        <p:spPr>
          <a:xfrm>
            <a:off x="7499520" y="3639960"/>
            <a:ext cx="23428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8960" y="0"/>
            <a:ext cx="9840960" cy="12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ские графические романы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17440" y="914040"/>
            <a:ext cx="96379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е романы, в простонародье известные как «комиксы» уже давно стали куда более серьезными, чем детские книжки с картинками. В современное время их популярность не уступает кинофильмам, мультфильмам и книгам в их привычном  формат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ксы перестали быть развлекательным чтивом для самых маленьких, сейчас – это настоящее искусство, над ними работают известные писатели и художни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е детские романы — это удивительно нарисованные масштабные многослойные истории о дружбе и пронзительном одиночестве, загадках, вдохновении и поисках себя. Об обычных людях, жизнь которых сложилась необычно, о выдуманных мирах и ярких геро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31840"/>
            <a:ext cx="1063944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орка графических романов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C:\Users\Детсад\Desktop\IMG_20191207_090332.jpg"/>
          <p:cNvPicPr/>
          <p:nvPr/>
        </p:nvPicPr>
        <p:blipFill>
          <a:blip r:embed="rId1"/>
          <a:stretch/>
        </p:blipFill>
        <p:spPr>
          <a:xfrm rot="10287600">
            <a:off x="963360" y="2074680"/>
            <a:ext cx="4641840" cy="334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Детсад\Desktop\IMG_20191207_090319.jpg"/>
          <p:cNvPicPr/>
          <p:nvPr/>
        </p:nvPicPr>
        <p:blipFill>
          <a:blip r:embed="rId2"/>
          <a:stretch/>
        </p:blipFill>
        <p:spPr>
          <a:xfrm rot="828600">
            <a:off x="6667200" y="2165400"/>
            <a:ext cx="4616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66760" y="604440"/>
            <a:ext cx="91440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Интерес ребенка к чтению зарождается с первых строчек и картинок и наша задача - укрепить эту связь с каждой прочитанной книг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И если ребенок полюбит книгу, это значит, что рядом с ним всегда будет надежный, верный друг и помощник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Удачи вам и успехов, коллеги, в приобщении воспитанников к современной художественной литературе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Спасибо за внимание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8877240" y="4433760"/>
            <a:ext cx="29671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1154592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ение – это один из источников мышления и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умственного развития»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В.А. Сухомлинский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63480" y="1397160"/>
            <a:ext cx="107920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Давайте представим хотя бы на миг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вдруг мы лишились журналов и кни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люди не знают, что значит поэт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нет Чебурашки, Хоттабыча н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будто никто никогда в этом мире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И слыхом не слыхивал о Мойдодыре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нету Незнайки, вруна-недотепы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то нет Айболита, и нет дяди Сте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Наверно нельзя и представить таког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Так здравствуй же, умное, доброе слово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Пусть книги друзьями заходят в дом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Читайте всю жизнь, набирайтесь ума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Андрей Анпил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 rot="517200">
            <a:off x="8012160" y="2082960"/>
            <a:ext cx="2651040" cy="373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365040"/>
            <a:ext cx="859644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1436400"/>
            <a:ext cx="92631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Главная задача знакомства дошкольников с художественной литературой – это воспитание любви и интереса к книге, стремления к общению с ней, формирования умения слушать и понимать художественный текст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Книга вводит ребенка в мир человеческих чувств: радостей, страданий, побуждений, мыслей, поступков, характер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Книга раскрывает человеческие и духовные цен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Книга, прочитанная в детстве оставляет более сильный след, чем книга, прочитанная в зрелом возраст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30464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Владимировна Ракитина</a:t>
            </a:r>
            <a:br>
              <a:rPr sz="54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.09.1969 г.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1687680"/>
            <a:ext cx="92883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книги Елены Владимировны Ракитиной – живые, добрые, светлые,  с занимательным сюжетом и мягким юмором . Это «Приключения новогодних игрушек» и «Страна новогодних игрушек», наполненные радостным ожиданием волшебного праздника, сказка «Серёжик» о маленьком храбром ежике, рассказы про неунывающих мальчишек, двух верных друзей Мишку Черкашина и Егорку Синицына, с которыми каждую минуту происходит что-то забавное и необыкновенное, и многие другие.          Елена Владимировна просто и мудро рассказывает маленькому человеку о большом мире и о том, что в нем важнее всего. «Мне кажется, – говорит она, – что хорошая детская книжка должна быть одинаково интересна и взрослому, и ребенку. Я желаю нашим детям всем сердцем полюбить чтение, чтобы невзгоды жизненные переносились легче, мир воспринимался сердцем, и оно чаще пело, чем грустило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4" descr="C:\Users\Детсад\Desktop\274px-Елена_Ракитина_(2015_г.).jpg"/>
          <p:cNvPicPr/>
          <p:nvPr/>
        </p:nvPicPr>
        <p:blipFill>
          <a:blip r:embed="rId1"/>
          <a:stretch/>
        </p:blipFill>
        <p:spPr>
          <a:xfrm>
            <a:off x="9528120" y="1698480"/>
            <a:ext cx="24494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760" y="247680"/>
            <a:ext cx="1045548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орка книг Е.В.Ракитино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3000" y="1800360"/>
            <a:ext cx="624204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рана новогодних игрушек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Если бы у меня была своя планет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ольшое путешествие домой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рёжик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лючения новогодних игрушек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стерская новогодних игрушек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 rot="772800">
            <a:off x="6297480" y="3900240"/>
            <a:ext cx="1959120" cy="2546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2"/>
          <a:stretch/>
        </p:blipFill>
        <p:spPr>
          <a:xfrm>
            <a:off x="10005840" y="619200"/>
            <a:ext cx="1906920" cy="2525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3"/>
          <a:stretch/>
        </p:blipFill>
        <p:spPr>
          <a:xfrm rot="20943000">
            <a:off x="5846760" y="1293480"/>
            <a:ext cx="1986120" cy="2533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4"/>
          <a:stretch/>
        </p:blipFill>
        <p:spPr>
          <a:xfrm rot="20920800">
            <a:off x="8186400" y="3794040"/>
            <a:ext cx="2004840" cy="2560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5"/>
          <a:stretch/>
        </p:blipFill>
        <p:spPr>
          <a:xfrm>
            <a:off x="7905600" y="1225440"/>
            <a:ext cx="1940040" cy="2532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6"/>
          <a:stretch/>
        </p:blipFill>
        <p:spPr>
          <a:xfrm rot="509400">
            <a:off x="9878760" y="3722760"/>
            <a:ext cx="1952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847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 Остер</a:t>
            </a:r>
            <a:br>
              <a:rPr sz="54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27.11.1947 г.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1720" y="1842840"/>
            <a:ext cx="8823240" cy="41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игорий Остер – популярный детский писатель, сценарист и телеведущий, на «Вредных советах» которого выросли уже несколько поколений читателей. Когда-то он хотел быть «взрослым» поэтом, но со временем понял, что дети – куда более благодарная и искренняя публика, и посвятил творческую карьеру именно им. Широкую известность писателю принес детский сборник «Как хорошо дарить подарки». Именно в нем впервые появились 4 героя – Удав, Слоненок, Попугай и Мартышка, которые потом стали персонажами мультфильмов «38 попугаев» и «Бабушка удава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4" descr="C:\Users\Детсад\Desktop\Без названия.jpg"/>
          <p:cNvPicPr/>
          <p:nvPr/>
        </p:nvPicPr>
        <p:blipFill>
          <a:blip r:embed="rId1"/>
          <a:stretch/>
        </p:blipFill>
        <p:spPr>
          <a:xfrm>
            <a:off x="9396360" y="1901880"/>
            <a:ext cx="2621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290160"/>
            <a:ext cx="9931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орка книг Г.Б.Остер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90160" y="1654200"/>
            <a:ext cx="89838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38 попугаев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ключения Пифа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бинзон и 13 жадностей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редные советы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тька микроб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 rot="351000">
            <a:off x="9326520" y="522000"/>
            <a:ext cx="2079720" cy="2703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9901080" y="3741840"/>
            <a:ext cx="2079720" cy="2600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 rot="21034800">
            <a:off x="4606920" y="3966840"/>
            <a:ext cx="2166840" cy="2651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4"/>
          <a:stretch/>
        </p:blipFill>
        <p:spPr>
          <a:xfrm rot="20655000">
            <a:off x="6605640" y="1392120"/>
            <a:ext cx="2116080" cy="274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5"/>
          <a:stretch/>
        </p:blipFill>
        <p:spPr>
          <a:xfrm rot="740400">
            <a:off x="7418160" y="3952440"/>
            <a:ext cx="2074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63120" y="174600"/>
            <a:ext cx="859644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Григорьевич Козлов </a:t>
            </a:r>
            <a:br>
              <a:rPr sz="54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22.08.1939 г. - 09.01.2010 г.)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2080" y="1828440"/>
            <a:ext cx="86198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ский писатель- сказочник, поэт и сценарист. Его наиболее известные произведения – рассказ и сценарий к одноименному мультфильму «Ежик в тумане», другие рассказы о Ежике и Медвежонке, истории о Львенке и Черепахе, стихи для мультфильма  «Как львенок и черепаха пели песню»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4" descr="C:\Users\Детсад\Desktop\25113.jpg"/>
          <p:cNvPicPr/>
          <p:nvPr/>
        </p:nvPicPr>
        <p:blipFill>
          <a:blip r:embed="rId1"/>
          <a:stretch/>
        </p:blipFill>
        <p:spPr>
          <a:xfrm>
            <a:off x="8931240" y="1523880"/>
            <a:ext cx="3029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323640"/>
            <a:ext cx="859644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орка книг С.Г. Козлов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81160" y="2244600"/>
            <a:ext cx="82864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 Ежика и Медвежонк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ольшая книга сказок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овогодняя сказка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авда, мы будем всегда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казки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Ежикина радость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 rot="442800">
            <a:off x="9516960" y="375840"/>
            <a:ext cx="2395800" cy="3106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 rot="21046200">
            <a:off x="5318280" y="1622520"/>
            <a:ext cx="2433600" cy="3151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3"/>
          <a:stretch/>
        </p:blipFill>
        <p:spPr>
          <a:xfrm rot="20886000">
            <a:off x="7829280" y="1405080"/>
            <a:ext cx="2349360" cy="274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4"/>
          <a:stretch/>
        </p:blipFill>
        <p:spPr>
          <a:xfrm rot="529200">
            <a:off x="9650520" y="3681360"/>
            <a:ext cx="2138400" cy="275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5"/>
          <a:stretch/>
        </p:blipFill>
        <p:spPr>
          <a:xfrm>
            <a:off x="7450200" y="3686040"/>
            <a:ext cx="2427120" cy="2905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6"/>
          <a:stretch/>
        </p:blipFill>
        <p:spPr>
          <a:xfrm rot="672000">
            <a:off x="4924080" y="3728520"/>
            <a:ext cx="23702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6:26:36Z</dcterms:created>
  <dc:creator>ASUS</dc:creator>
  <dc:description/>
  <dc:language>en-US</dc:language>
  <cp:lastModifiedBy>Детсад</cp:lastModifiedBy>
  <dcterms:modified xsi:type="dcterms:W3CDTF">2019-12-17T11:42:06Z</dcterms:modified>
  <cp:revision>75</cp:revision>
  <dc:subject/>
  <dc:title>Литературная викторина по произведениям Агнии Львовны Барто</dc:title>
</cp:coreProperties>
</file>