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C64E-E4E0-4F0D-8B30-7A446E049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AF67-6459-45CB-9E4A-1DBB5C1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5A81-98A2-4278-9AF3-1A80C8A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9ED5-1FB7-4CEB-9107-A49DCFB22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A2208-9E4C-4CF5-866D-4DC62D59F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2158-847C-4781-99F3-F8CEE091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941D-42AC-4B0A-AE1F-60BF6C8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A2D86-0A73-4409-8D1A-F29F736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7B458-782A-4523-93B4-A9FC2A5F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AD45-B3B6-4EDC-9BB6-888A7819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04B41-9C00-4EF8-9331-6B92C182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2676-A5F8-4E57-A00B-42C5B029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87865-7663-4BD4-A69A-CC45A786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A2051-7A52-4AA7-A414-28C695C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F7916-5015-4594-B42A-0116E56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1222D-B8D7-4967-B1F2-67E78680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F8393-BC1D-479D-8691-70616BCEB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964D-72E2-44FA-8B92-DF5C4580F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122-C7E3-4AAD-83B6-78CE6E3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9E50-0E2D-48AB-BCC5-E08537F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FAE-0B87-4463-8361-2A99D894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39C-A9D4-4C83-B203-67D2AED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3AB7-6F26-44F3-8039-5A4BC54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2C9-529D-4702-95A0-CE8B4986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2EF-A02C-4374-B55E-D4147BC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17B3-A6BD-41E5-A92A-684FF89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E98E-FB44-4FAB-9EED-12AB3B1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40F6-C1C7-41DA-95FD-FFAD5F7F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156-4365-4005-AB6F-AA186DC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8E7E-791A-4FB5-9C36-1FF57A583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6BA83-5921-41E6-A8EF-218087C6F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10214-84FF-4C30-9647-5F657067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E4E40-0481-454D-937C-B2FF1ED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4AB9-5CA1-4608-801C-4BC3B40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802A2-5AFC-4C44-94C0-5725585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D585B-5553-49C6-AA5E-217C3AB6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68B2A-9CE0-45A1-96F0-937E2D41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D1316-D6CE-48AC-AAA8-EBD6553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C1AFB-92B3-40FA-9FAC-1543772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F353E-9C22-4C42-83B2-57AE3B0D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EED40-3944-455E-8F4C-EED1028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CB820-70CE-4069-9D18-39AE754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6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0200" y="7318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6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0200" y="2546280"/>
            <a:ext cx="206028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E3E0E-443D-4FA7-A180-FDC35F540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BE38-0E46-4B97-A88A-7B1C4F9C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102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9A9A-F9A3-4E75-85FB-D27B065D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82B1-21D9-4797-B5AA-7FB51C2E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240" y="25462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1555-4229-4DD5-88E3-C8081FD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240" y="731880"/>
            <a:ext cx="312264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399360" cy="16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9600-7AAD-42F0-A0D6-E8453EC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256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65720"/>
            <a:ext cx="25131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1707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65720"/>
            <a:ext cx="18273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1F59C3-019F-4F89-9A5B-F82941A531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25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6F82AA-271F-4D5A-9488-7442799F330E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256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256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25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93939A-F56E-43C2-A11B-7AC6656B5981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25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25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272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95B4B8-04CF-4059-9F64-BA83A19C97E3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58920" y="189000"/>
            <a:ext cx="676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душный транспорт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4797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Степанова Ю.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4360" y="774720"/>
            <a:ext cx="8891640" cy="4886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тивн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44360" y="566100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ивный самолёт предназначается для участия в авиационных соревнованиях, пилотажа, тренировок, установления рекорд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дро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144360" y="587700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дросамолёт (также летающая лодка) способен взлетать и приземляться на водную поверхност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4360" y="765000"/>
            <a:ext cx="8891640" cy="49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/>
          <p:nvPr/>
        </p:nvSpPr>
        <p:spPr>
          <a:xfrm>
            <a:off x="144360" y="558972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олёт - винтокрылый летательный аппарат, обладающий свойством совершать взлёт и посадку по вертикали, зависать в воздухе и перемещаться в любом направлен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4360" y="782640"/>
            <a:ext cx="8891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ый верт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144360" y="558972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енный вертолёт - винтокрылый летательный аппарат предназначенный для доставки войск, оружия и другого военного оборуд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360" y="752400"/>
            <a:ext cx="889164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р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144360" y="591984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ёр или планер - это безмоторный летательный аппара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360" y="846000"/>
            <a:ext cx="889164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ьтаплан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/>
          <p:nvPr/>
        </p:nvSpPr>
        <p:spPr>
          <a:xfrm>
            <a:off x="144360" y="558972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ьтаплан - это легкий планер. На нем можно парить также, как и на планере, пролетать значительные расстояния и держаться в воздух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5240" y="765000"/>
            <a:ext cx="887076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ижабль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144360" y="5229360"/>
            <a:ext cx="88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ижабль - летательный аппарат легче воздуха (наполнен газом, который легче воздуха), с двигателем, благодаря которому дирижабль может двигаться независимо от направления воздушных пото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4360" y="752400"/>
            <a:ext cx="889164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эроста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3673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эростат (воздушный шар) - летательный аппарат легче воздуха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68360" y="647640"/>
            <a:ext cx="6407280" cy="56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200" y="506736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сажирский самолёт предназначен и оборудован для перевозки пассажиров и багаж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У самолёта есть: корпус, крылья, хвост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ллюминаторы, шасс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1080" y="63360"/>
            <a:ext cx="8891640" cy="4977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8360" y="1159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сажирски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4360" y="836640"/>
            <a:ext cx="8891640" cy="4829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портн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144360" y="566100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ый самолёт предназначен для транспортировки различных грузов. Часто один и тот же самолёт бывает грузовым и пассажирским, изменяется только оборудов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о-транспортн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44360" y="580536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енно-транспортный самолёт предназначен для доставки войск, оружия и другого военного оборудов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360" y="851040"/>
            <a:ext cx="889164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ребитель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44360" y="583884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ребитель предназначен в первую очередь для уничтожения воздушных целей против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280" y="781200"/>
            <a:ext cx="882036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рхзвуково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/>
          <p:nvPr/>
        </p:nvSpPr>
        <p:spPr>
          <a:xfrm>
            <a:off x="144360" y="5805360"/>
            <a:ext cx="889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рхзвуковой самолёт способен совершать полёт со скоростью, превышающей скорость звука в воздух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360" y="752400"/>
            <a:ext cx="88916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360" y="752400"/>
            <a:ext cx="8820360" cy="5052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тов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59500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товый самолет полностью переоборудован для перевозки грузов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360" y="773280"/>
            <a:ext cx="8820360" cy="4887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н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/>
          <p:nvPr/>
        </p:nvSpPr>
        <p:spPr>
          <a:xfrm>
            <a:off x="144360" y="566100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жарный самолёт предназначен для тушения пожаров путём водной бомбардировки - сброса воды с борта самолёта на пожар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4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льскохозяйственный самолет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144360" y="5229360"/>
            <a:ext cx="88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ьскохозяйственный самолет использует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роведения сельскохозяйственных рабо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всего сельскохозяйственная авиация применяется для распыления  удобрений, иногда для посева семя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4360" y="782640"/>
            <a:ext cx="8820360" cy="446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4:08:22Z</dcterms:created>
  <dc:creator>Анжела</dc:creator>
  <dc:description/>
  <dc:language>en-US</dc:language>
  <cp:lastModifiedBy>Анжела</cp:lastModifiedBy>
  <dcterms:modified xsi:type="dcterms:W3CDTF">2018-02-16T18:42:26Z</dcterms:modified>
  <cp:revision>10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240000000000010243100207f6000400038000</vt:lpwstr>
  </property>
</Properties>
</file>