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7947-175E-4DBE-95CC-68A900143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AE01-13F4-4418-AC28-3A98DCF7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E98D-9A49-46B0-AC7C-89B8359C4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E6D5-16D4-4A9E-AC1C-348C1093F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BD40-C639-4D95-A5F6-A7892FD7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A2BA-DFF9-4928-98C8-68081BF1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6582-859F-41A0-BD46-FE3A9568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C2C7-9209-41C7-B485-F7979E9E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03BD-1031-445F-B790-EFCEEF75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6B9A-9974-45E7-8E67-26057D08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2DC1-F0F0-4B10-BC2E-BAF820CD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E6C4-7126-4450-A7FF-A5293EF0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27D1-FE68-4559-A68D-A6361B5C76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osfineart.ru/content/print/images/full/372.jpg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" Target="slide3.xml"/><Relationship Id="rId4" Type="http://schemas.openxmlformats.org/officeDocument/2006/relationships/image" Target="../media/image6.jpeg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image" Target="../media/image7.jpeg"/><Relationship Id="rId8" Type="http://schemas.openxmlformats.org/officeDocument/2006/relationships/slide" Target="slide17.xml"/><Relationship Id="rId9" Type="http://schemas.openxmlformats.org/officeDocument/2006/relationships/image" Target="../media/image8.jpeg"/><Relationship Id="rId10" Type="http://schemas.openxmlformats.org/officeDocument/2006/relationships/slide" Target="slide22.xml"/><Relationship Id="rId11" Type="http://schemas.openxmlformats.org/officeDocument/2006/relationships/slide" Target="slide22.xml"/><Relationship Id="rId12" Type="http://schemas.openxmlformats.org/officeDocument/2006/relationships/image" Target="../media/image9.jpeg"/><Relationship Id="rId13" Type="http://schemas.openxmlformats.org/officeDocument/2006/relationships/slide" Target="slide29.xml"/><Relationship Id="rId14" Type="http://schemas.openxmlformats.org/officeDocument/2006/relationships/slide" Target="slide29.xml"/><Relationship Id="rId15" Type="http://schemas.openxmlformats.org/officeDocument/2006/relationships/slide" Target="slide29.xml"/><Relationship Id="rId16" Type="http://schemas.openxmlformats.org/officeDocument/2006/relationships/image" Target="../media/image10.jpeg"/><Relationship Id="rId17" Type="http://schemas.openxmlformats.org/officeDocument/2006/relationships/slide" Target="slide35.xml"/><Relationship Id="rId18" Type="http://schemas.openxmlformats.org/officeDocument/2006/relationships/slide" Target="slide35.xml"/><Relationship Id="rId19" Type="http://schemas.openxmlformats.org/officeDocument/2006/relationships/image" Target="../media/image11.jpeg"/><Relationship Id="rId20" Type="http://schemas.openxmlformats.org/officeDocument/2006/relationships/slide" Target="slide40.xml"/><Relationship Id="rId21" Type="http://schemas.openxmlformats.org/officeDocument/2006/relationships/slide" Target="slide40.xml"/><Relationship Id="rId22" Type="http://schemas.openxmlformats.org/officeDocument/2006/relationships/image" Target="../media/image12.jpeg"/><Relationship Id="rId23" Type="http://schemas.openxmlformats.org/officeDocument/2006/relationships/slide" Target="slide46.xml"/><Relationship Id="rId24" Type="http://schemas.openxmlformats.org/officeDocument/2006/relationships/slide" Target="slide46.xml"/><Relationship Id="rId25" Type="http://schemas.openxmlformats.org/officeDocument/2006/relationships/image" Target="../media/image13.jpeg"/><Relationship Id="rId26" Type="http://schemas.openxmlformats.org/officeDocument/2006/relationships/slide" Target="slide94.xml"/><Relationship Id="rId27" Type="http://schemas.openxmlformats.org/officeDocument/2006/relationships/slide" Target="slide94.xml"/><Relationship Id="rId28" Type="http://schemas.openxmlformats.org/officeDocument/2006/relationships/image" Target="../media/image14.jpeg"/><Relationship Id="rId29" Type="http://schemas.openxmlformats.org/officeDocument/2006/relationships/slide" Target="slide58.xml"/><Relationship Id="rId30" Type="http://schemas.openxmlformats.org/officeDocument/2006/relationships/slide" Target="slide58.xml"/><Relationship Id="rId31" Type="http://schemas.openxmlformats.org/officeDocument/2006/relationships/slide" Target=""/><Relationship Id="rId3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63640" y="2349000"/>
            <a:ext cx="712944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3300"/>
                </a:solidFill>
                <a:latin typeface="Comic Sans MS"/>
              </a:rPr>
              <a:t>Выдающиеся русские художн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image010b"/>
          <p:cNvPicPr/>
          <p:nvPr/>
        </p:nvPicPr>
        <p:blipFill>
          <a:blip r:embed="rId2"/>
          <a:stretch/>
        </p:blipFill>
        <p:spPr>
          <a:xfrm>
            <a:off x="0" y="0"/>
            <a:ext cx="17208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2"/>
          <p:cNvSpPr/>
          <p:nvPr/>
        </p:nvSpPr>
        <p:spPr>
          <a:xfrm>
            <a:off x="900000" y="404640"/>
            <a:ext cx="368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5">
            <a:hlinkClick r:id="rId3" action="ppaction://hlinksldjump"/>
          </p:cNvPr>
          <p:cNvSpPr/>
          <p:nvPr/>
        </p:nvSpPr>
        <p:spPr>
          <a:xfrm>
            <a:off x="817236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6"/>
          <p:cNvSpPr/>
          <p:nvPr/>
        </p:nvSpPr>
        <p:spPr>
          <a:xfrm>
            <a:off x="262728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3300"/>
                </a:solidFill>
                <a:uFillTx/>
                <a:latin typeface="Comic Sans MS"/>
                <a:hlinkClick r:id="rId1" action="ppaction://hlinksldjump"/>
              </a:rPr>
              <a:t>АВТОПОРТРЕТ</a:t>
            </a:r>
            <a:r>
              <a:rPr b="1" lang="ru-RU" sz="4000" spc="-1" strike="noStrike">
                <a:solidFill>
                  <a:srgbClr val="663300"/>
                </a:solidFill>
                <a:latin typeface="Comic Sans MS"/>
              </a:rPr>
              <a:t> Рокотова Ф. 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27280" y="148428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Одним из первых овладел европейскими изобразительными приём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Он создал большую портретную галерею царственных особ и зна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13080979_Portret_neizvestnogo_molodogo_cheloveka"/>
          <p:cNvPicPr/>
          <p:nvPr/>
        </p:nvPicPr>
        <p:blipFill>
          <a:blip r:embed="rId2"/>
          <a:stretch/>
        </p:blipFill>
        <p:spPr>
          <a:xfrm>
            <a:off x="684360" y="1557360"/>
            <a:ext cx="3309840" cy="452592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3" name="Rectangle 8"/>
          <p:cNvSpPr/>
          <p:nvPr/>
        </p:nvSpPr>
        <p:spPr>
          <a:xfrm>
            <a:off x="-324000" y="60228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9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22960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АВТОПОРТРЕТ. Портрет написанный с самого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Arial"/>
              </a:rPr>
              <a:t>ПОРТРЕТИСТ. Художник создающий портреты: мастер по портре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3300"/>
                </a:solidFill>
                <a:latin typeface="Arial"/>
              </a:rPr>
              <a:t>С. И. Оже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>
            <a:hlinkClick r:id="rId1" action="ppaction://hlinksldjump"/>
          </p:cNvPr>
          <p:cNvSpPr/>
          <p:nvPr/>
        </p:nvSpPr>
        <p:spPr>
          <a:xfrm>
            <a:off x="774072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7493"/>
                </a:moveTo>
                <a:lnTo>
                  <a:pt x="8644" y="7493"/>
                </a:lnTo>
                <a:lnTo>
                  <a:pt x="8644" y="12828"/>
                </a:lnTo>
                <a:cubicBezTo>
                  <a:pt x="8644" y="13751"/>
                  <a:pt x="9444" y="14482"/>
                  <a:pt x="10480" y="14482"/>
                </a:cubicBezTo>
                <a:lnTo>
                  <a:pt x="12142" y="14482"/>
                </a:lnTo>
                <a:cubicBezTo>
                  <a:pt x="13178" y="14482"/>
                  <a:pt x="13979" y="13751"/>
                  <a:pt x="13979" y="12828"/>
                </a:cubicBezTo>
                <a:lnTo>
                  <a:pt x="13979" y="7493"/>
                </a:lnTo>
                <a:lnTo>
                  <a:pt x="12142" y="7493"/>
                </a:lnTo>
                <a:lnTo>
                  <a:pt x="15650" y="3985"/>
                </a:lnTo>
                <a:lnTo>
                  <a:pt x="19323" y="7493"/>
                </a:lnTo>
                <a:lnTo>
                  <a:pt x="17486" y="7493"/>
                </a:lnTo>
                <a:lnTo>
                  <a:pt x="17486" y="12828"/>
                </a:lnTo>
                <a:cubicBezTo>
                  <a:pt x="17486" y="15596"/>
                  <a:pt x="14910" y="18155"/>
                  <a:pt x="12142" y="18155"/>
                </a:cubicBezTo>
                <a:lnTo>
                  <a:pt x="10480" y="18155"/>
                </a:lnTo>
                <a:cubicBezTo>
                  <a:pt x="7712" y="18155"/>
                  <a:pt x="5136" y="15596"/>
                  <a:pt x="5136" y="12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2124000" y="630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716000" y="2205000"/>
            <a:ext cx="424836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Рокотов Ф. С. «Екатерина II с орденом Св. Георгия 1-й ст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9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3" descr="8422d8b3c4a5"/>
          <p:cNvPicPr/>
          <p:nvPr/>
        </p:nvPicPr>
        <p:blipFill>
          <a:blip r:embed="rId1"/>
          <a:stretch/>
        </p:blipFill>
        <p:spPr>
          <a:xfrm>
            <a:off x="755640" y="620640"/>
            <a:ext cx="4259160" cy="543420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859280" y="1484280"/>
            <a:ext cx="40384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Рокотов Ф. С. </a:t>
            </a:r>
            <a:br>
              <a:rPr sz="2800"/>
            </a:b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«Портрет Александры Петровны Струйско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Художник показал возвышенность образа молодой женщи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0" descr="kartina_530_ultrabig"/>
          <p:cNvPicPr/>
          <p:nvPr/>
        </p:nvPicPr>
        <p:blipFill>
          <a:blip r:embed="rId1"/>
          <a:stretch/>
        </p:blipFill>
        <p:spPr>
          <a:xfrm>
            <a:off x="684360" y="692280"/>
            <a:ext cx="4248000" cy="554508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3" name="Rectangle 11"/>
          <p:cNvSpPr/>
          <p:nvPr/>
        </p:nvSpPr>
        <p:spPr>
          <a:xfrm>
            <a:off x="2052360" y="59421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3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2124000" y="6093000"/>
            <a:ext cx="56516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85928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663300"/>
                </a:solidFill>
                <a:uFillTx/>
                <a:latin typeface="Arial"/>
              </a:rPr>
              <a:t>Рокотов Ф. С. </a:t>
            </a: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«Портрет неизвестной в розовом плать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Женский портрет «Неизвестная в розовом платье» считается одним из шедевров Рокото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1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2" descr="Rokotov_Fedor_Stepanovich_Portrait_of_Unknown_Woman_in_a_Pink_Dress_picture_b"/>
          <p:cNvPicPr/>
          <p:nvPr/>
        </p:nvPicPr>
        <p:blipFill>
          <a:blip r:embed="rId1"/>
          <a:stretch/>
        </p:blipFill>
        <p:spPr>
          <a:xfrm>
            <a:off x="684360" y="765000"/>
            <a:ext cx="3914640" cy="547236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ШЕДЕВР. Исключительное по своим достоинствам произведение искусства, образцовое создание маст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3300"/>
                </a:solidFill>
                <a:latin typeface="Arial"/>
              </a:rPr>
              <a:t>С. И. Оже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>
            <a:hlinkClick r:id="rId1" action="ppaction://hlinksldjump"/>
          </p:cNvPr>
          <p:cNvSpPr/>
          <p:nvPr/>
        </p:nvSpPr>
        <p:spPr>
          <a:xfrm>
            <a:off x="774072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7493"/>
                </a:moveTo>
                <a:lnTo>
                  <a:pt x="8644" y="7493"/>
                </a:lnTo>
                <a:lnTo>
                  <a:pt x="8644" y="12828"/>
                </a:lnTo>
                <a:cubicBezTo>
                  <a:pt x="8644" y="13751"/>
                  <a:pt x="9444" y="14482"/>
                  <a:pt x="10480" y="14482"/>
                </a:cubicBezTo>
                <a:lnTo>
                  <a:pt x="12142" y="14482"/>
                </a:lnTo>
                <a:cubicBezTo>
                  <a:pt x="13178" y="14482"/>
                  <a:pt x="13979" y="13751"/>
                  <a:pt x="13979" y="12828"/>
                </a:cubicBezTo>
                <a:lnTo>
                  <a:pt x="13979" y="7493"/>
                </a:lnTo>
                <a:lnTo>
                  <a:pt x="12142" y="7493"/>
                </a:lnTo>
                <a:lnTo>
                  <a:pt x="15650" y="3985"/>
                </a:lnTo>
                <a:lnTo>
                  <a:pt x="19323" y="7493"/>
                </a:lnTo>
                <a:lnTo>
                  <a:pt x="17486" y="7493"/>
                </a:lnTo>
                <a:lnTo>
                  <a:pt x="17486" y="12828"/>
                </a:lnTo>
                <a:cubicBezTo>
                  <a:pt x="17486" y="15596"/>
                  <a:pt x="14910" y="18155"/>
                  <a:pt x="12142" y="18155"/>
                </a:cubicBezTo>
                <a:lnTo>
                  <a:pt x="10480" y="18155"/>
                </a:lnTo>
                <a:cubicBezTo>
                  <a:pt x="7712" y="18155"/>
                  <a:pt x="5136" y="15596"/>
                  <a:pt x="5136" y="12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1260360" y="6237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148360" y="2276280"/>
            <a:ext cx="4140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Рокотов Ф. С. </a:t>
            </a:r>
            <a:br>
              <a:rPr sz="2800"/>
            </a:b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«Портрет И. Л. Голенищева-Кутузо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репродукция картины Рокотов Федор - Портрет директора морского шляхтетского корпуса Ивана Логиновича Голенищева-Кутузова, впоследствии адмирала, президента Адмиралтейств-коллеги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620640"/>
            <a:ext cx="4560840" cy="554508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4" name="AutoShape 12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Comic Sans MS"/>
              </a:rPr>
              <a:t>Кипренский Орест Адамович</a:t>
            </a:r>
            <a:r>
              <a:rPr b="1" lang="ru-RU" sz="4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(1782 - 1836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859280" y="1841040"/>
            <a:ext cx="4038480" cy="30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Замечательный мастер портрета.</a:t>
            </a:r>
            <a:br>
              <a:rPr sz="2800"/>
            </a:b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Кипренский О. А. писал портреты знаменитых людей своего време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Автопортрет худож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611280" y="5445000"/>
            <a:ext cx="26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3" descr="Портрет Ореста Адамовича Кипренского"/>
          <p:cNvPicPr/>
          <p:nvPr/>
        </p:nvPicPr>
        <p:blipFill>
          <a:blip r:embed="rId1"/>
          <a:stretch/>
        </p:blipFill>
        <p:spPr>
          <a:xfrm>
            <a:off x="1187280" y="1844640"/>
            <a:ext cx="3822840" cy="446400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9" name="AutoShape 14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9"/>
          <p:cNvSpPr/>
          <p:nvPr/>
        </p:nvSpPr>
        <p:spPr>
          <a:xfrm>
            <a:off x="247968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Портрет Василия Андреевича Жуковского"/>
          <p:cNvPicPr/>
          <p:nvPr/>
        </p:nvPicPr>
        <p:blipFill>
          <a:blip r:embed="rId1"/>
          <a:stretch/>
        </p:blipFill>
        <p:spPr>
          <a:xfrm>
            <a:off x="468360" y="836640"/>
            <a:ext cx="4646520" cy="504036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105520" y="2276640"/>
            <a:ext cx="4038480" cy="26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Кипренский О. А. </a:t>
            </a:r>
            <a:br>
              <a:rPr sz="2800"/>
            </a:b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"Портрет Василия Андреевича Жуковского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2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0" descr="Портрет князя Александра Михайловича Голицына"/>
          <p:cNvPicPr/>
          <p:nvPr/>
        </p:nvPicPr>
        <p:blipFill>
          <a:blip r:embed="rId1"/>
          <a:stretch/>
        </p:blipFill>
        <p:spPr>
          <a:xfrm>
            <a:off x="611280" y="549360"/>
            <a:ext cx="4037040" cy="557532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42920" y="2421000"/>
            <a:ext cx="403884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Кипренский О. А. </a:t>
            </a:r>
            <a:br>
              <a:rPr sz="2800"/>
            </a:b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«Портрет князя Александра Михайловича Голицына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1763640" y="616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3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Преподобный Андрей Рублев, Иконописец"/>
          <p:cNvPicPr/>
          <p:nvPr/>
        </p:nvPicPr>
        <p:blipFill>
          <a:blip r:embed="rId2"/>
          <a:stretch/>
        </p:blipFill>
        <p:spPr>
          <a:xfrm>
            <a:off x="684360" y="404640"/>
            <a:ext cx="892080" cy="120672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68000" y="1700280"/>
            <a:ext cx="1297080" cy="62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cc3300"/>
                </a:solidFill>
                <a:uFillTx/>
                <a:latin typeface="Comic Sans MS"/>
                <a:hlinkClick r:id="rId3" action="ppaction://hlinksldjump"/>
              </a:rPr>
              <a:t>Андрей Рублё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081223011409"/>
          <p:cNvPicPr/>
          <p:nvPr/>
        </p:nvPicPr>
        <p:blipFill>
          <a:blip r:embed="rId4"/>
          <a:stretch/>
        </p:blipFill>
        <p:spPr>
          <a:xfrm>
            <a:off x="2771640" y="404640"/>
            <a:ext cx="943200" cy="122256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" name="Rectangle 8"/>
          <p:cNvSpPr/>
          <p:nvPr/>
        </p:nvSpPr>
        <p:spPr>
          <a:xfrm>
            <a:off x="1835280" y="1700280"/>
            <a:ext cx="273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Comic Sans MS"/>
                <a:hlinkClick r:id="rId5" action="ppaction://hlinksldjump"/>
              </a:rPr>
              <a:t>Роко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Comic Sans MS"/>
                <a:hlinkClick r:id="rId6" action="ppaction://hlinksldjump"/>
              </a:rPr>
              <a:t>Фёдор Степа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3995640" y="4005360"/>
            <a:ext cx="129708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7" descr="Портрет Ореста Адамовича Кипренского"/>
          <p:cNvPicPr/>
          <p:nvPr/>
        </p:nvPicPr>
        <p:blipFill>
          <a:blip r:embed="rId7"/>
          <a:stretch/>
        </p:blipFill>
        <p:spPr>
          <a:xfrm>
            <a:off x="5003640" y="404640"/>
            <a:ext cx="987480" cy="115272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2" name="Rectangle 18"/>
          <p:cNvSpPr/>
          <p:nvPr/>
        </p:nvSpPr>
        <p:spPr>
          <a:xfrm>
            <a:off x="4284720" y="1628640"/>
            <a:ext cx="2257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Comic Sans MS"/>
                <a:hlinkClick r:id="rId8" action="ppaction://hlinksldjump"/>
              </a:rPr>
              <a:t>Кипренский Орест Адам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9" descr="1sm"/>
          <p:cNvPicPr/>
          <p:nvPr/>
        </p:nvPicPr>
        <p:blipFill>
          <a:blip r:embed="rId9"/>
          <a:stretch/>
        </p:blipFill>
        <p:spPr>
          <a:xfrm>
            <a:off x="7093080" y="404640"/>
            <a:ext cx="1015920" cy="123984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4" name="Rectangle 20"/>
          <p:cNvSpPr/>
          <p:nvPr/>
        </p:nvSpPr>
        <p:spPr>
          <a:xfrm>
            <a:off x="6516720" y="1700280"/>
            <a:ext cx="19638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Comic Sans MS"/>
                <a:hlinkClick r:id="rId10" action="ppaction://hlinksldjump"/>
              </a:rPr>
              <a:t>Брюл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Comic Sans MS"/>
                <a:hlinkClick r:id="rId11" action="ppaction://hlinksldjump"/>
              </a:rPr>
              <a:t>Карл Павл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1" descr="Портрет Ивана Константиновича Айвазовского"/>
          <p:cNvPicPr/>
          <p:nvPr/>
        </p:nvPicPr>
        <p:blipFill>
          <a:blip r:embed="rId12"/>
          <a:stretch/>
        </p:blipFill>
        <p:spPr>
          <a:xfrm>
            <a:off x="1619280" y="2565360"/>
            <a:ext cx="1012680" cy="122400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6" name="Rectangle 22"/>
          <p:cNvSpPr/>
          <p:nvPr/>
        </p:nvSpPr>
        <p:spPr>
          <a:xfrm>
            <a:off x="539640" y="3860640"/>
            <a:ext cx="29149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Comic Sans MS"/>
                <a:hlinkClick r:id="rId13" action="ppaction://hlinksldjump"/>
              </a:rPr>
              <a:t>Айвазов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Comic Sans MS"/>
                <a:hlinkClick r:id="rId14" action="ppaction://hlinksldjump"/>
              </a:rPr>
              <a:t>Иван Константинович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Comic Sans MS"/>
                <a:hlinkClick r:id="rId15" action="ppaction://hlinksldjump"/>
              </a:rPr>
              <a:t>_x000b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3" descr="10"/>
          <p:cNvPicPr/>
          <p:nvPr/>
        </p:nvPicPr>
        <p:blipFill>
          <a:blip r:embed="rId16"/>
          <a:stretch/>
        </p:blipFill>
        <p:spPr>
          <a:xfrm>
            <a:off x="3995640" y="2565360"/>
            <a:ext cx="976320" cy="129528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8" name="Rectangle 24"/>
          <p:cNvSpPr/>
          <p:nvPr/>
        </p:nvSpPr>
        <p:spPr>
          <a:xfrm>
            <a:off x="3419640" y="3933720"/>
            <a:ext cx="2130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Comic Sans MS"/>
                <a:hlinkClick r:id="rId17" action="ppaction://hlinksldjump"/>
              </a:rPr>
              <a:t>Шишк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Comic Sans MS"/>
                <a:hlinkClick r:id="rId18" action="ppaction://hlinksldjump"/>
              </a:rPr>
              <a:t>Иван Ива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5" descr="17kat80"/>
          <p:cNvPicPr/>
          <p:nvPr/>
        </p:nvPicPr>
        <p:blipFill>
          <a:blip r:embed="rId19"/>
          <a:stretch/>
        </p:blipFill>
        <p:spPr>
          <a:xfrm>
            <a:off x="6227640" y="2565360"/>
            <a:ext cx="981360" cy="129528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0" name="Rectangle 26"/>
          <p:cNvSpPr/>
          <p:nvPr/>
        </p:nvSpPr>
        <p:spPr>
          <a:xfrm>
            <a:off x="5803200" y="3933720"/>
            <a:ext cx="19774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Comic Sans MS"/>
                <a:hlinkClick r:id="rId20" action="ppaction://hlinksldjump"/>
              </a:rPr>
              <a:t>Реп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Comic Sans MS"/>
                <a:hlinkClick r:id="rId21" action="ppaction://hlinksldjump"/>
              </a:rPr>
              <a:t>Илья Ефим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7" descr="surikov_big"/>
          <p:cNvPicPr/>
          <p:nvPr/>
        </p:nvPicPr>
        <p:blipFill>
          <a:blip r:embed="rId22"/>
          <a:stretch/>
        </p:blipFill>
        <p:spPr>
          <a:xfrm>
            <a:off x="900000" y="4653000"/>
            <a:ext cx="879480" cy="122544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2" name="Rectangle 28"/>
          <p:cNvSpPr/>
          <p:nvPr/>
        </p:nvSpPr>
        <p:spPr>
          <a:xfrm>
            <a:off x="171360" y="5950080"/>
            <a:ext cx="23356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Comic Sans MS"/>
                <a:hlinkClick r:id="rId23" action="ppaction://hlinksldjump"/>
              </a:rPr>
              <a:t>Сур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Comic Sans MS"/>
                <a:hlinkClick r:id="rId24" action="ppaction://hlinksldjump"/>
              </a:rPr>
              <a:t>Василий Ива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9" descr="artlib_user-1671-photo_img_orig"/>
          <p:cNvPicPr/>
          <p:nvPr/>
        </p:nvPicPr>
        <p:blipFill>
          <a:blip r:embed="rId25"/>
          <a:stretch/>
        </p:blipFill>
        <p:spPr>
          <a:xfrm>
            <a:off x="4140360" y="4724280"/>
            <a:ext cx="979200" cy="122400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4" name="Rectangle 30"/>
          <p:cNvSpPr/>
          <p:nvPr/>
        </p:nvSpPr>
        <p:spPr>
          <a:xfrm>
            <a:off x="3344400" y="6021360"/>
            <a:ext cx="24804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Comic Sans MS"/>
                <a:hlinkClick r:id="rId26" action="ppaction://hlinksldjump"/>
              </a:rPr>
              <a:t>Васнец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Comic Sans MS"/>
                <a:hlinkClick r:id="rId27" action="ppaction://hlinksldjump"/>
              </a:rPr>
              <a:t>Виктор Михайл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1" descr="64"/>
          <p:cNvPicPr/>
          <p:nvPr/>
        </p:nvPicPr>
        <p:blipFill>
          <a:blip r:embed="rId28"/>
          <a:stretch/>
        </p:blipFill>
        <p:spPr>
          <a:xfrm>
            <a:off x="6804000" y="4724280"/>
            <a:ext cx="909720" cy="129708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6" name="Rectangle 32"/>
          <p:cNvSpPr/>
          <p:nvPr/>
        </p:nvSpPr>
        <p:spPr>
          <a:xfrm>
            <a:off x="6375600" y="6021360"/>
            <a:ext cx="16315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Comic Sans MS"/>
                <a:hlinkClick r:id="rId29" action="ppaction://hlinksldjump"/>
              </a:rPr>
              <a:t>Левит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Comic Sans MS"/>
                <a:hlinkClick r:id="rId30" action="ppaction://hlinksldjump"/>
              </a:rPr>
              <a:t>Исаак Иль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3">
            <a:hlinkClick r:id="rId31" action="ppaction://hlinksldjump"/>
          </p:cNvPr>
          <p:cNvSpPr/>
          <p:nvPr/>
        </p:nvSpPr>
        <p:spPr>
          <a:xfrm>
            <a:off x="824400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Кипренский О. А. </a:t>
            </a:r>
            <a:br>
              <a:rPr sz="2800"/>
            </a:b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«Портрет лейб-гусарского полковника Евграфа Давыдо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1117440" y="6237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1" descr="2"/>
          <p:cNvPicPr/>
          <p:nvPr/>
        </p:nvPicPr>
        <p:blipFill>
          <a:blip r:embed="rId1"/>
          <a:stretch/>
        </p:blipFill>
        <p:spPr>
          <a:xfrm>
            <a:off x="611280" y="476280"/>
            <a:ext cx="4005000" cy="564984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1" name="AutoShape 12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932000" y="1125000"/>
            <a:ext cx="3965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Кипренский О. А. </a:t>
            </a:r>
            <a:br>
              <a:rPr sz="2800"/>
            </a:b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"Портрет Александра Сергеевича Пушки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Одно из лучших произведений художн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2771640" y="609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0" descr="Портрет Александра Сергеевича Пушкина"/>
          <p:cNvPicPr/>
          <p:nvPr/>
        </p:nvPicPr>
        <p:blipFill>
          <a:blip r:embed="rId1"/>
          <a:stretch/>
        </p:blipFill>
        <p:spPr>
          <a:xfrm>
            <a:off x="684360" y="907920"/>
            <a:ext cx="4440240" cy="518508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5" name="AutoShape 13">
            <a:hlinkClick r:id="rId2" action="ppaction://hlinksldjump"/>
          </p:cNvPr>
          <p:cNvSpPr/>
          <p:nvPr/>
        </p:nvSpPr>
        <p:spPr>
          <a:xfrm>
            <a:off x="831708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7493"/>
                </a:moveTo>
                <a:lnTo>
                  <a:pt x="8644" y="7493"/>
                </a:lnTo>
                <a:lnTo>
                  <a:pt x="8644" y="12828"/>
                </a:lnTo>
                <a:cubicBezTo>
                  <a:pt x="8644" y="13751"/>
                  <a:pt x="9444" y="14482"/>
                  <a:pt x="10480" y="14482"/>
                </a:cubicBezTo>
                <a:lnTo>
                  <a:pt x="12142" y="14482"/>
                </a:lnTo>
                <a:cubicBezTo>
                  <a:pt x="13178" y="14482"/>
                  <a:pt x="13979" y="13751"/>
                  <a:pt x="13979" y="12828"/>
                </a:cubicBezTo>
                <a:lnTo>
                  <a:pt x="13979" y="7493"/>
                </a:lnTo>
                <a:lnTo>
                  <a:pt x="12142" y="7493"/>
                </a:lnTo>
                <a:lnTo>
                  <a:pt x="15650" y="3985"/>
                </a:lnTo>
                <a:lnTo>
                  <a:pt x="19323" y="7493"/>
                </a:lnTo>
                <a:lnTo>
                  <a:pt x="17486" y="7493"/>
                </a:lnTo>
                <a:lnTo>
                  <a:pt x="17486" y="12828"/>
                </a:lnTo>
                <a:cubicBezTo>
                  <a:pt x="17486" y="15596"/>
                  <a:pt x="14910" y="18155"/>
                  <a:pt x="12142" y="18155"/>
                </a:cubicBezTo>
                <a:lnTo>
                  <a:pt x="10480" y="18155"/>
                </a:lnTo>
                <a:cubicBezTo>
                  <a:pt x="7712" y="18155"/>
                  <a:pt x="5136" y="15596"/>
                  <a:pt x="5136" y="12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Comic Sans MS"/>
              </a:rPr>
              <a:t>Брюллов Карл Павлович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(1799-1852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007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Выдающийся русский исторический живописец, портретист, пейзажист, автор </a:t>
            </a: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"/>
                <a:hlinkClick r:id="rId1" action="ppaction://hlinksldjump"/>
              </a:rPr>
              <a:t>монументальных </a:t>
            </a: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роспис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2843280" y="6165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0" descr="1sm"/>
          <p:cNvPicPr/>
          <p:nvPr/>
        </p:nvPicPr>
        <p:blipFill>
          <a:blip r:embed="rId2"/>
          <a:stretch/>
        </p:blipFill>
        <p:spPr>
          <a:xfrm>
            <a:off x="611280" y="1773360"/>
            <a:ext cx="3659040" cy="446400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0" name="AutoShape 11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ЖИВОПИСЕЦ. Художник занимающийся живопис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ЖИВОПИСЬ. Изобразительное искусство – создание художественных образов с помощью кра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3300"/>
                </a:solidFill>
                <a:latin typeface="Arial"/>
              </a:rPr>
              <a:t>С. И. Оже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5">
            <a:hlinkClick r:id="rId1" action="ppaction://hlinksldjump"/>
          </p:cNvPr>
          <p:cNvSpPr/>
          <p:nvPr/>
        </p:nvSpPr>
        <p:spPr>
          <a:xfrm>
            <a:off x="831708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7493"/>
                </a:moveTo>
                <a:lnTo>
                  <a:pt x="8644" y="7493"/>
                </a:lnTo>
                <a:lnTo>
                  <a:pt x="8644" y="12828"/>
                </a:lnTo>
                <a:cubicBezTo>
                  <a:pt x="8644" y="13751"/>
                  <a:pt x="9444" y="14482"/>
                  <a:pt x="10480" y="14482"/>
                </a:cubicBezTo>
                <a:lnTo>
                  <a:pt x="12142" y="14482"/>
                </a:lnTo>
                <a:cubicBezTo>
                  <a:pt x="13178" y="14482"/>
                  <a:pt x="13979" y="13751"/>
                  <a:pt x="13979" y="12828"/>
                </a:cubicBezTo>
                <a:lnTo>
                  <a:pt x="13979" y="7493"/>
                </a:lnTo>
                <a:lnTo>
                  <a:pt x="12142" y="7493"/>
                </a:lnTo>
                <a:lnTo>
                  <a:pt x="15650" y="3985"/>
                </a:lnTo>
                <a:lnTo>
                  <a:pt x="19323" y="7493"/>
                </a:lnTo>
                <a:lnTo>
                  <a:pt x="17486" y="7493"/>
                </a:lnTo>
                <a:lnTo>
                  <a:pt x="17486" y="12828"/>
                </a:lnTo>
                <a:cubicBezTo>
                  <a:pt x="17486" y="15596"/>
                  <a:pt x="14910" y="18155"/>
                  <a:pt x="12142" y="18155"/>
                </a:cubicBezTo>
                <a:lnTo>
                  <a:pt x="10480" y="18155"/>
                </a:lnTo>
                <a:cubicBezTo>
                  <a:pt x="7712" y="18155"/>
                  <a:pt x="5136" y="15596"/>
                  <a:pt x="5136" y="12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МОНУМЕНТАЛЬНЫЙ. Об искусстве: относящийся к созданию монументов, памятников, к оформлению архитектурных сооруж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3300"/>
                </a:solidFill>
                <a:latin typeface="Arial"/>
              </a:rPr>
              <a:t>С. И. Ожег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4">
            <a:hlinkClick r:id="rId1" action="ppaction://hlinksldjump"/>
          </p:cNvPr>
          <p:cNvSpPr/>
          <p:nvPr/>
        </p:nvSpPr>
        <p:spPr>
          <a:xfrm>
            <a:off x="831708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7493"/>
                </a:moveTo>
                <a:lnTo>
                  <a:pt x="8644" y="7493"/>
                </a:lnTo>
                <a:lnTo>
                  <a:pt x="8644" y="12828"/>
                </a:lnTo>
                <a:cubicBezTo>
                  <a:pt x="8644" y="13751"/>
                  <a:pt x="9444" y="14482"/>
                  <a:pt x="10480" y="14482"/>
                </a:cubicBezTo>
                <a:lnTo>
                  <a:pt x="12142" y="14482"/>
                </a:lnTo>
                <a:cubicBezTo>
                  <a:pt x="13178" y="14482"/>
                  <a:pt x="13979" y="13751"/>
                  <a:pt x="13979" y="12828"/>
                </a:cubicBezTo>
                <a:lnTo>
                  <a:pt x="13979" y="7493"/>
                </a:lnTo>
                <a:lnTo>
                  <a:pt x="12142" y="7493"/>
                </a:lnTo>
                <a:lnTo>
                  <a:pt x="15650" y="3985"/>
                </a:lnTo>
                <a:lnTo>
                  <a:pt x="19323" y="7493"/>
                </a:lnTo>
                <a:lnTo>
                  <a:pt x="17486" y="7493"/>
                </a:lnTo>
                <a:lnTo>
                  <a:pt x="17486" y="12828"/>
                </a:lnTo>
                <a:cubicBezTo>
                  <a:pt x="17486" y="15596"/>
                  <a:pt x="14910" y="18155"/>
                  <a:pt x="12142" y="18155"/>
                </a:cubicBezTo>
                <a:lnTo>
                  <a:pt x="10480" y="18155"/>
                </a:lnTo>
                <a:cubicBezTo>
                  <a:pt x="7712" y="18155"/>
                  <a:pt x="5136" y="15596"/>
                  <a:pt x="5136" y="12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0" descr="Портрет архитектора и художника Александра Брюллова"/>
          <p:cNvPicPr/>
          <p:nvPr/>
        </p:nvPicPr>
        <p:blipFill>
          <a:blip r:embed="rId1"/>
          <a:stretch/>
        </p:blipFill>
        <p:spPr>
          <a:xfrm>
            <a:off x="539640" y="549360"/>
            <a:ext cx="4230720" cy="575928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Брюллов К. П. "Портрет архитектора и художника Александра Брюллова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97164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2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9"/>
          <p:cNvSpPr/>
          <p:nvPr/>
        </p:nvSpPr>
        <p:spPr>
          <a:xfrm>
            <a:off x="2484360" y="472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0" descr="Всадница"/>
          <p:cNvPicPr/>
          <p:nvPr/>
        </p:nvPicPr>
        <p:blipFill>
          <a:blip r:embed="rId1"/>
          <a:stretch/>
        </p:blipFill>
        <p:spPr>
          <a:xfrm>
            <a:off x="900000" y="549360"/>
            <a:ext cx="4029120" cy="586404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932360" y="2852280"/>
            <a:ext cx="403848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Брюллов К. П.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"Всадница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2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0" descr="Портрет баснописца Ивана Андреевича Крылова"/>
          <p:cNvPicPr/>
          <p:nvPr/>
        </p:nvPicPr>
        <p:blipFill>
          <a:blip r:embed="rId1"/>
          <a:stretch/>
        </p:blipFill>
        <p:spPr>
          <a:xfrm>
            <a:off x="468360" y="620640"/>
            <a:ext cx="4699080" cy="550548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788000" y="2491920"/>
            <a:ext cx="403848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Брюллов К. П. "Портрет баснописца Ивана Андреевича Крылова"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0" y="6237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3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-1405080" y="630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Брюллова К. П.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 «</a:t>
            </a: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Последний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день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Помпеи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». Главное произведение художника, как исторического живописц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9" descr="9d57bece9249e41c769d944e48a6a1d8"/>
          <p:cNvPicPr/>
          <p:nvPr/>
        </p:nvPicPr>
        <p:blipFill>
          <a:blip r:embed="rId1"/>
          <a:stretch/>
        </p:blipFill>
        <p:spPr>
          <a:xfrm>
            <a:off x="1619280" y="1943280"/>
            <a:ext cx="6192720" cy="450036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72" name="AutoShape 14">
            <a:hlinkClick r:id="rId2" action="ppaction://hlinksldjump"/>
          </p:cNvPr>
          <p:cNvSpPr/>
          <p:nvPr/>
        </p:nvSpPr>
        <p:spPr>
          <a:xfrm>
            <a:off x="831708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7493"/>
                </a:moveTo>
                <a:lnTo>
                  <a:pt x="8644" y="7493"/>
                </a:lnTo>
                <a:lnTo>
                  <a:pt x="8644" y="12828"/>
                </a:lnTo>
                <a:cubicBezTo>
                  <a:pt x="8644" y="13751"/>
                  <a:pt x="9444" y="14482"/>
                  <a:pt x="10480" y="14482"/>
                </a:cubicBezTo>
                <a:lnTo>
                  <a:pt x="12142" y="14482"/>
                </a:lnTo>
                <a:cubicBezTo>
                  <a:pt x="13178" y="14482"/>
                  <a:pt x="13979" y="13751"/>
                  <a:pt x="13979" y="12828"/>
                </a:cubicBezTo>
                <a:lnTo>
                  <a:pt x="13979" y="7493"/>
                </a:lnTo>
                <a:lnTo>
                  <a:pt x="12142" y="7493"/>
                </a:lnTo>
                <a:lnTo>
                  <a:pt x="15650" y="3985"/>
                </a:lnTo>
                <a:lnTo>
                  <a:pt x="19323" y="7493"/>
                </a:lnTo>
                <a:lnTo>
                  <a:pt x="17486" y="7493"/>
                </a:lnTo>
                <a:lnTo>
                  <a:pt x="17486" y="12828"/>
                </a:lnTo>
                <a:cubicBezTo>
                  <a:pt x="17486" y="15596"/>
                  <a:pt x="14910" y="18155"/>
                  <a:pt x="12142" y="18155"/>
                </a:cubicBezTo>
                <a:lnTo>
                  <a:pt x="10480" y="18155"/>
                </a:lnTo>
                <a:cubicBezTo>
                  <a:pt x="7712" y="18155"/>
                  <a:pt x="5136" y="15596"/>
                  <a:pt x="5136" y="12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71280"/>
            <a:ext cx="8218440" cy="13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Айвазовский </a:t>
            </a:r>
            <a:br>
              <a:rPr sz="4000"/>
            </a:b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Иван Константинович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(1817-19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355640" y="2708280"/>
            <a:ext cx="447516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Айвазовский создал своеобразный метод цвето-линейного построения картин и свой живописный язы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755640" y="630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" descr="photo_aivaz_420"/>
          <p:cNvPicPr/>
          <p:nvPr/>
        </p:nvPicPr>
        <p:blipFill>
          <a:blip r:embed="rId1"/>
          <a:stretch/>
        </p:blipFill>
        <p:spPr>
          <a:xfrm>
            <a:off x="900000" y="1773360"/>
            <a:ext cx="3211560" cy="446544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77" name="AutoShape 11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Comic Sans MS"/>
              </a:rPr>
              <a:t>Андрей Рублёв</a:t>
            </a:r>
            <a:r>
              <a:rPr b="1" lang="ru-RU" sz="40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0" i="1" lang="ru-RU" sz="2800" spc="-1" strike="noStrike">
                <a:solidFill>
                  <a:srgbClr val="663300"/>
                </a:solidFill>
                <a:latin typeface="Comic Sans MS"/>
              </a:rPr>
              <a:t>(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между 1360/1370 – 1430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6633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788000" y="213372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Создавал изумительные по красоте и духовности ико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4140360" y="6237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Преподобный Андрей Рублев, Иконописец"/>
          <p:cNvPicPr/>
          <p:nvPr/>
        </p:nvPicPr>
        <p:blipFill>
          <a:blip r:embed="rId1"/>
          <a:stretch/>
        </p:blipFill>
        <p:spPr>
          <a:xfrm>
            <a:off x="684360" y="1557360"/>
            <a:ext cx="3460680" cy="468000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2" name="AutoShape 15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284360" y="1412640"/>
            <a:ext cx="460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Никто не мог так правильно изобразить морские просторы, как  Айвазовский И. 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Его произведения занимают почётное место в крупнейших музеях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" descr="Портрет Ивана Константиновича Айвазовского"/>
          <p:cNvPicPr/>
          <p:nvPr/>
        </p:nvPicPr>
        <p:blipFill>
          <a:blip r:embed="rId1"/>
          <a:stretch/>
        </p:blipFill>
        <p:spPr>
          <a:xfrm>
            <a:off x="304920" y="941400"/>
            <a:ext cx="4135320" cy="500868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0" name="Rectangle 8"/>
          <p:cNvSpPr/>
          <p:nvPr/>
        </p:nvSpPr>
        <p:spPr>
          <a:xfrm>
            <a:off x="684360" y="40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9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Айвазовский И. К. «Море. Коктебел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1692360" y="6237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9" descr="Море. Коктебель"/>
          <p:cNvPicPr/>
          <p:nvPr/>
        </p:nvPicPr>
        <p:blipFill>
          <a:blip r:embed="rId1"/>
          <a:stretch/>
        </p:blipFill>
        <p:spPr>
          <a:xfrm>
            <a:off x="1258920" y="1413000"/>
            <a:ext cx="6553080" cy="473220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5" name="AutoShape 20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Айвазовский И. К. «Девятый вал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1981080" y="64911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3" descr="Иван Константинович Айвазовский. Девятый вал. 1850 г. Санкт-Петербург. Государственный Русский музей"/>
          <p:cNvPicPr/>
          <p:nvPr/>
        </p:nvPicPr>
        <p:blipFill>
          <a:blip r:embed="rId1"/>
          <a:stretch/>
        </p:blipFill>
        <p:spPr>
          <a:xfrm>
            <a:off x="900000" y="1341360"/>
            <a:ext cx="6913800" cy="477684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9" name="AutoShape 14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Айвазовский И. К. «Утро на море»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 18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0" descr="130"/>
          <p:cNvPicPr/>
          <p:nvPr/>
        </p:nvPicPr>
        <p:blipFill>
          <a:blip r:embed="rId1"/>
          <a:stretch/>
        </p:blipFill>
        <p:spPr>
          <a:xfrm>
            <a:off x="1042920" y="1268280"/>
            <a:ext cx="6985080" cy="469764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2" name="Rectangle 11"/>
          <p:cNvSpPr/>
          <p:nvPr/>
        </p:nvSpPr>
        <p:spPr>
          <a:xfrm>
            <a:off x="2050920" y="616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2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Айвазовский И. К. «Неаполитанский зали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2844720" y="5877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Неаполитанский залив"/>
          <p:cNvPicPr/>
          <p:nvPr/>
        </p:nvPicPr>
        <p:blipFill>
          <a:blip r:embed="rId1"/>
          <a:stretch/>
        </p:blipFill>
        <p:spPr>
          <a:xfrm>
            <a:off x="1116000" y="1197000"/>
            <a:ext cx="6842160" cy="471168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7" name="AutoShape 14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Шишкин Иван Иванович</a:t>
            </a:r>
            <a:br>
              <a:rPr sz="4000"/>
            </a:b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(1832-1898)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42920" y="2205000"/>
            <a:ext cx="40388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Один из крупнейших русских пейзажис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Шишкин И. И. знал и любил русскую природ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2050920" y="616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0" descr="10"/>
          <p:cNvPicPr/>
          <p:nvPr/>
        </p:nvPicPr>
        <p:blipFill>
          <a:blip r:embed="rId1"/>
          <a:srcRect l="0" t="0" r="0" b="30308"/>
          <a:stretch/>
        </p:blipFill>
        <p:spPr>
          <a:xfrm>
            <a:off x="127080" y="1704960"/>
            <a:ext cx="4444920" cy="411336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02" name="AutoShape 11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Шишкин И. И. «Рожь»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(187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1116000" y="609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0" descr="85"/>
          <p:cNvPicPr/>
          <p:nvPr/>
        </p:nvPicPr>
        <p:blipFill>
          <a:blip r:embed="rId1"/>
          <a:stretch/>
        </p:blipFill>
        <p:spPr>
          <a:xfrm>
            <a:off x="971640" y="1268280"/>
            <a:ext cx="6840360" cy="466740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06" name="AutoShape 11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Шишкин И. И. «Среди долины ровныя...»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(188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95280" y="6237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0" descr="114"/>
          <p:cNvPicPr/>
          <p:nvPr/>
        </p:nvPicPr>
        <p:blipFill>
          <a:blip r:embed="rId1"/>
          <a:stretch/>
        </p:blipFill>
        <p:spPr>
          <a:xfrm>
            <a:off x="971640" y="1484280"/>
            <a:ext cx="6985080" cy="452772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10" name="AutoShape 11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Шишкин И. И.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Утро в сосновом лесу»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(188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1800" y="61657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1" descr="96"/>
          <p:cNvPicPr/>
          <p:nvPr/>
        </p:nvPicPr>
        <p:blipFill>
          <a:blip r:embed="rId1"/>
          <a:stretch/>
        </p:blipFill>
        <p:spPr>
          <a:xfrm>
            <a:off x="1258920" y="1413000"/>
            <a:ext cx="6697800" cy="454644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14" name="AutoShape 12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859280" y="2852280"/>
            <a:ext cx="403848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Шишкин И. И. «Корабельная роща»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(18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684360" y="6021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2" descr="31"/>
          <p:cNvPicPr/>
          <p:nvPr/>
        </p:nvPicPr>
        <p:blipFill>
          <a:blip r:embed="rId1"/>
          <a:stretch/>
        </p:blipFill>
        <p:spPr>
          <a:xfrm>
            <a:off x="817560" y="549360"/>
            <a:ext cx="3841920" cy="583236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18" name="AutoShape 13"/>
          <p:cNvSpPr/>
          <p:nvPr/>
        </p:nvSpPr>
        <p:spPr>
          <a:xfrm>
            <a:off x="831708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7493"/>
                </a:moveTo>
                <a:lnTo>
                  <a:pt x="8644" y="7493"/>
                </a:lnTo>
                <a:lnTo>
                  <a:pt x="8644" y="12828"/>
                </a:lnTo>
                <a:cubicBezTo>
                  <a:pt x="8644" y="13751"/>
                  <a:pt x="9444" y="14482"/>
                  <a:pt x="10480" y="14482"/>
                </a:cubicBezTo>
                <a:lnTo>
                  <a:pt x="12142" y="14482"/>
                </a:lnTo>
                <a:cubicBezTo>
                  <a:pt x="13178" y="14482"/>
                  <a:pt x="13979" y="13751"/>
                  <a:pt x="13979" y="12828"/>
                </a:cubicBezTo>
                <a:lnTo>
                  <a:pt x="13979" y="7493"/>
                </a:lnTo>
                <a:lnTo>
                  <a:pt x="12142" y="7493"/>
                </a:lnTo>
                <a:lnTo>
                  <a:pt x="15650" y="3985"/>
                </a:lnTo>
                <a:lnTo>
                  <a:pt x="19323" y="7493"/>
                </a:lnTo>
                <a:lnTo>
                  <a:pt x="17486" y="7493"/>
                </a:lnTo>
                <a:lnTo>
                  <a:pt x="17486" y="12828"/>
                </a:lnTo>
                <a:cubicBezTo>
                  <a:pt x="17486" y="15596"/>
                  <a:pt x="14910" y="18155"/>
                  <a:pt x="12142" y="18155"/>
                </a:cubicBezTo>
                <a:lnTo>
                  <a:pt x="10480" y="18155"/>
                </a:lnTo>
                <a:cubicBezTo>
                  <a:pt x="7712" y="18155"/>
                  <a:pt x="5136" y="15596"/>
                  <a:pt x="5136" y="12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Андрей Рублев, Троица"/>
          <p:cNvPicPr/>
          <p:nvPr/>
        </p:nvPicPr>
        <p:blipFill>
          <a:blip r:embed="rId1"/>
          <a:stretch/>
        </p:blipFill>
        <p:spPr>
          <a:xfrm>
            <a:off x="684360" y="765000"/>
            <a:ext cx="4419360" cy="550260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4" name="Rectangle 7"/>
          <p:cNvSpPr/>
          <p:nvPr/>
        </p:nvSpPr>
        <p:spPr>
          <a:xfrm>
            <a:off x="5148360" y="2563560"/>
            <a:ext cx="34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Андрей Рублё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Икона «Святая Троиц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3709800" y="6021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0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Репин Илья Ефимович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4000"/>
            </a:b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(1844-19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43308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Основные свойства творческой натуры Репина И. Е.  -  это широта интересов, отзывчивость талан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9528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0" descr="17kat80"/>
          <p:cNvPicPr/>
          <p:nvPr/>
        </p:nvPicPr>
        <p:blipFill>
          <a:blip r:embed="rId1"/>
          <a:stretch/>
        </p:blipFill>
        <p:spPr>
          <a:xfrm>
            <a:off x="5043600" y="1719360"/>
            <a:ext cx="3247920" cy="428616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23" name="AutoShape 11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Comic Sans MS"/>
              </a:rPr>
              <a:t>Автопортрет Репина И. Е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(1887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9" descr="129"/>
          <p:cNvPicPr/>
          <p:nvPr/>
        </p:nvPicPr>
        <p:blipFill>
          <a:blip r:embed="rId1"/>
          <a:stretch/>
        </p:blipFill>
        <p:spPr>
          <a:xfrm>
            <a:off x="971640" y="1557360"/>
            <a:ext cx="3330360" cy="473544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27640" y="2133720"/>
            <a:ext cx="425448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Репин И. Е. создавал картины на исторические темы, писал портреты, натюрморты, пейзаж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755640" y="587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2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Репин И. Е. «Бурлаки на Волге»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(1870-187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611280" y="6021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3" descr="23"/>
          <p:cNvPicPr/>
          <p:nvPr/>
        </p:nvPicPr>
        <p:blipFill>
          <a:blip r:embed="rId1"/>
          <a:stretch/>
        </p:blipFill>
        <p:spPr>
          <a:xfrm>
            <a:off x="900000" y="2133720"/>
            <a:ext cx="7488360" cy="340992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32" name="AutoShape 14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932360" y="1628640"/>
            <a:ext cx="40384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Репин И. 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«Девочка с букетом цветов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(Вера Репина)</a:t>
            </a: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(187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2987640" y="4365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1" descr="89"/>
          <p:cNvPicPr/>
          <p:nvPr/>
        </p:nvPicPr>
        <p:blipFill>
          <a:blip r:embed="rId1"/>
          <a:stretch/>
        </p:blipFill>
        <p:spPr>
          <a:xfrm>
            <a:off x="684360" y="907920"/>
            <a:ext cx="4165560" cy="528984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36" name="AutoShape 12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Репин И. Е. «Запорожцы пишут письмо турецкому султану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(1880 – 189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2627280" y="616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1" descr="46"/>
          <p:cNvPicPr/>
          <p:nvPr/>
        </p:nvPicPr>
        <p:blipFill>
          <a:blip r:embed="rId1"/>
          <a:stretch/>
        </p:blipFill>
        <p:spPr>
          <a:xfrm>
            <a:off x="971640" y="1484280"/>
            <a:ext cx="7273800" cy="430056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40" name="AutoShape 12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859280" y="2205000"/>
            <a:ext cx="403848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Репин И. Е. «Портрет Льва Толстого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(188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611280" y="573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1" descr="132"/>
          <p:cNvPicPr/>
          <p:nvPr/>
        </p:nvPicPr>
        <p:blipFill>
          <a:blip r:embed="rId1"/>
          <a:stretch/>
        </p:blipFill>
        <p:spPr>
          <a:xfrm>
            <a:off x="826920" y="549360"/>
            <a:ext cx="3872160" cy="583236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44" name="AutoShape 12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Суриков Василий Иванович</a:t>
            </a:r>
            <a:br>
              <a:rPr sz="4400"/>
            </a:b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(1848-191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0" y="26370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Основой произведений художника были исторические сюже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2" descr="Суриков - Автопортрет"/>
          <p:cNvPicPr/>
          <p:nvPr/>
        </p:nvPicPr>
        <p:blipFill>
          <a:blip r:embed="rId1"/>
          <a:stretch/>
        </p:blipFill>
        <p:spPr>
          <a:xfrm>
            <a:off x="888840" y="1700280"/>
            <a:ext cx="3441960" cy="493560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48" name="Rectangle 13"/>
          <p:cNvSpPr/>
          <p:nvPr/>
        </p:nvSpPr>
        <p:spPr>
          <a:xfrm>
            <a:off x="2050920" y="5084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4"/>
          <p:cNvSpPr/>
          <p:nvPr/>
        </p:nvSpPr>
        <p:spPr>
          <a:xfrm>
            <a:off x="1835280" y="623736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АВТО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5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Comic Sans MS"/>
              </a:rPr>
              <a:t>Автопортрет Сурикова В. И.</a:t>
            </a:r>
            <a:r>
              <a:rPr b="1" lang="ru-RU" sz="4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i="1" lang="ru-RU" sz="2800" spc="-1" strike="noStrike">
                <a:solidFill>
                  <a:srgbClr val="663300"/>
                </a:solidFill>
                <a:latin typeface="Comic Sans MS"/>
              </a:rPr>
              <a:t>(1876)</a:t>
            </a:r>
            <a:r>
              <a:rPr b="0" i="1" lang="ru-RU" sz="4000" spc="-1" strike="noStrike">
                <a:solidFill>
                  <a:srgbClr val="6633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4" descr="surikov_big"/>
          <p:cNvPicPr/>
          <p:nvPr/>
        </p:nvPicPr>
        <p:blipFill>
          <a:blip r:embed="rId1"/>
          <a:stretch/>
        </p:blipFill>
        <p:spPr>
          <a:xfrm>
            <a:off x="2843280" y="1844640"/>
            <a:ext cx="3147840" cy="439272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53" name="Rectangle 15"/>
          <p:cNvSpPr/>
          <p:nvPr/>
        </p:nvSpPr>
        <p:spPr>
          <a:xfrm>
            <a:off x="0" y="3716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6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Суриков В. И. «Утро стрелецкой казни»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(188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250920" y="5950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1" descr="1"/>
          <p:cNvPicPr/>
          <p:nvPr/>
        </p:nvPicPr>
        <p:blipFill>
          <a:blip r:embed="rId1"/>
          <a:stretch/>
        </p:blipFill>
        <p:spPr>
          <a:xfrm>
            <a:off x="900000" y="1628640"/>
            <a:ext cx="7272360" cy="420696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58" name="AutoShape 12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Суриков В. И. «Боярыня Морозова»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(188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324000" y="5950080"/>
            <a:ext cx="568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1" descr="3"/>
          <p:cNvPicPr/>
          <p:nvPr/>
        </p:nvPicPr>
        <p:blipFill>
          <a:blip r:embed="rId1"/>
          <a:stretch/>
        </p:blipFill>
        <p:spPr>
          <a:xfrm>
            <a:off x="755640" y="1916280"/>
            <a:ext cx="7561440" cy="376704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62" name="AutoShape 12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Благовещение"/>
          <p:cNvPicPr/>
          <p:nvPr/>
        </p:nvPicPr>
        <p:blipFill>
          <a:blip r:embed="rId1"/>
          <a:stretch/>
        </p:blipFill>
        <p:spPr>
          <a:xfrm>
            <a:off x="755640" y="765000"/>
            <a:ext cx="3963960" cy="558324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8" name="Rectangle 9"/>
          <p:cNvSpPr/>
          <p:nvPr/>
        </p:nvSpPr>
        <p:spPr>
          <a:xfrm>
            <a:off x="298764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5292720" y="2924280"/>
            <a:ext cx="331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Андрей Рублё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Икона «Благовеще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3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Суриков В. И. «Взятие снежного городка»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(189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75564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8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2" descr="5"/>
          <p:cNvPicPr/>
          <p:nvPr/>
        </p:nvPicPr>
        <p:blipFill>
          <a:blip r:embed="rId1"/>
          <a:stretch/>
        </p:blipFill>
        <p:spPr>
          <a:xfrm>
            <a:off x="900000" y="1628640"/>
            <a:ext cx="7309080" cy="402768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strips dir="l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Суриков В. И. «Покорение Сибири Ермаком»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(189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2268360" y="6021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1" descr="20"/>
          <p:cNvPicPr/>
          <p:nvPr/>
        </p:nvPicPr>
        <p:blipFill>
          <a:blip r:embed="rId1"/>
          <a:stretch/>
        </p:blipFill>
        <p:spPr>
          <a:xfrm>
            <a:off x="755640" y="1484280"/>
            <a:ext cx="7777080" cy="368928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70" name="AutoShape 12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932360" y="2492280"/>
            <a:ext cx="403848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Суриков В. И. «Переход Суворова через Альпы»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(18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6" descr="9"/>
          <p:cNvPicPr/>
          <p:nvPr/>
        </p:nvPicPr>
        <p:blipFill>
          <a:blip r:embed="rId1"/>
          <a:stretch/>
        </p:blipFill>
        <p:spPr>
          <a:xfrm>
            <a:off x="611280" y="476280"/>
            <a:ext cx="4360680" cy="590544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74" name="Rectangle 7"/>
          <p:cNvSpPr/>
          <p:nvPr/>
        </p:nvSpPr>
        <p:spPr>
          <a:xfrm>
            <a:off x="3851280" y="429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831708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7493"/>
                </a:moveTo>
                <a:lnTo>
                  <a:pt x="8644" y="7493"/>
                </a:lnTo>
                <a:lnTo>
                  <a:pt x="8644" y="12828"/>
                </a:lnTo>
                <a:cubicBezTo>
                  <a:pt x="8644" y="13751"/>
                  <a:pt x="9444" y="14482"/>
                  <a:pt x="10480" y="14482"/>
                </a:cubicBezTo>
                <a:lnTo>
                  <a:pt x="12142" y="14482"/>
                </a:lnTo>
                <a:cubicBezTo>
                  <a:pt x="13178" y="14482"/>
                  <a:pt x="13979" y="13751"/>
                  <a:pt x="13979" y="12828"/>
                </a:cubicBezTo>
                <a:lnTo>
                  <a:pt x="13979" y="7493"/>
                </a:lnTo>
                <a:lnTo>
                  <a:pt x="12142" y="7493"/>
                </a:lnTo>
                <a:lnTo>
                  <a:pt x="15650" y="3985"/>
                </a:lnTo>
                <a:lnTo>
                  <a:pt x="19323" y="7493"/>
                </a:lnTo>
                <a:lnTo>
                  <a:pt x="17486" y="7493"/>
                </a:lnTo>
                <a:lnTo>
                  <a:pt x="17486" y="12828"/>
                </a:lnTo>
                <a:cubicBezTo>
                  <a:pt x="17486" y="15596"/>
                  <a:pt x="14910" y="18155"/>
                  <a:pt x="12142" y="18155"/>
                </a:cubicBezTo>
                <a:lnTo>
                  <a:pt x="10480" y="18155"/>
                </a:lnTo>
                <a:cubicBezTo>
                  <a:pt x="7712" y="18155"/>
                  <a:pt x="5136" y="15596"/>
                  <a:pt x="5136" y="12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Васнецов Виктор Михайлович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(1848-192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Выдающийся русский живописец Васнецов В. М. создавал монументальные эпические полотна на сюжеты русской истории, былин и народных сказ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7" descr="artlib_user-1671-photo_img_orig"/>
          <p:cNvPicPr/>
          <p:nvPr/>
        </p:nvPicPr>
        <p:blipFill>
          <a:blip r:embed="rId1"/>
          <a:stretch/>
        </p:blipFill>
        <p:spPr>
          <a:xfrm>
            <a:off x="539640" y="1844640"/>
            <a:ext cx="3767400" cy="470556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79" name="AutoShape 8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932360" y="3141720"/>
            <a:ext cx="40384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Васнецов В. М. </a:t>
            </a: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«Буке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0" y="5300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1" descr="62"/>
          <p:cNvPicPr/>
          <p:nvPr/>
        </p:nvPicPr>
        <p:blipFill>
          <a:blip r:embed="rId1"/>
          <a:stretch/>
        </p:blipFill>
        <p:spPr>
          <a:xfrm>
            <a:off x="669960" y="549360"/>
            <a:ext cx="4595760" cy="575928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3" name="AutoShape 12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859280" y="3068640"/>
            <a:ext cx="403848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Васнецов В. М. </a:t>
            </a: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«Алёнушка»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(188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6" descr="1"/>
          <p:cNvPicPr/>
          <p:nvPr/>
        </p:nvPicPr>
        <p:blipFill>
          <a:blip r:embed="rId1"/>
          <a:stretch/>
        </p:blipFill>
        <p:spPr>
          <a:xfrm>
            <a:off x="684360" y="692280"/>
            <a:ext cx="3993840" cy="568944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7" name="Rectangle 8"/>
          <p:cNvSpPr/>
          <p:nvPr/>
        </p:nvSpPr>
        <p:spPr>
          <a:xfrm>
            <a:off x="1619280" y="4149720"/>
            <a:ext cx="51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2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788000" y="2781360"/>
            <a:ext cx="40384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Васнецов В. М. </a:t>
            </a: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«Иван-Царевич на Сером Волке»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(188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111600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1" descr="20"/>
          <p:cNvPicPr/>
          <p:nvPr/>
        </p:nvPicPr>
        <p:blipFill>
          <a:blip r:embed="rId1"/>
          <a:stretch/>
        </p:blipFill>
        <p:spPr>
          <a:xfrm>
            <a:off x="611280" y="476280"/>
            <a:ext cx="4319640" cy="583236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92" name="AutoShape 12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Васнецов В. М. </a:t>
            </a: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«Богатыри»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(18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755640" y="616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11" descr="53"/>
          <p:cNvPicPr/>
          <p:nvPr/>
        </p:nvPicPr>
        <p:blipFill>
          <a:blip r:embed="rId1"/>
          <a:stretch/>
        </p:blipFill>
        <p:spPr>
          <a:xfrm>
            <a:off x="971640" y="1413000"/>
            <a:ext cx="7127640" cy="464796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96" name="AutoShape 12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Левитан Исаак Ильич</a:t>
            </a:r>
            <a:br>
              <a:rPr sz="4400"/>
            </a:b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(1860-19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211640" y="1699920"/>
            <a:ext cx="464328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Художник  - пейзажи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Его называют создателем «пейзажа настроения». В своих работах он передавал эмоциональное состояние приро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1042920" y="609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0" descr="0013-061"/>
          <p:cNvPicPr/>
          <p:nvPr/>
        </p:nvPicPr>
        <p:blipFill>
          <a:blip r:embed="rId1"/>
          <a:stretch/>
        </p:blipFill>
        <p:spPr>
          <a:xfrm>
            <a:off x="447840" y="1557360"/>
            <a:ext cx="3595680" cy="474192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01" name="AutoShape 11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Левитан И. И. «Золотая осень»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(1884)</a:t>
            </a: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17928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11" descr="3"/>
          <p:cNvPicPr/>
          <p:nvPr/>
        </p:nvPicPr>
        <p:blipFill>
          <a:blip r:embed="rId1"/>
          <a:stretch/>
        </p:blipFill>
        <p:spPr>
          <a:xfrm>
            <a:off x="1042920" y="1341360"/>
            <a:ext cx="6912000" cy="463716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05" name="AutoShape 12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932360" y="2491920"/>
            <a:ext cx="40384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Андрей Рублё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Икона «Вознесение Господн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0" y="5611680"/>
            <a:ext cx="1843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1" descr="Вознесение"/>
          <p:cNvPicPr/>
          <p:nvPr/>
        </p:nvPicPr>
        <p:blipFill>
          <a:blip r:embed="rId1"/>
          <a:stretch/>
        </p:blipFill>
        <p:spPr>
          <a:xfrm>
            <a:off x="900000" y="692280"/>
            <a:ext cx="3829320" cy="547200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4" name="AutoShape 13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6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Левитан И. И. «Март»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(189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250920" y="630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1" descr="51"/>
          <p:cNvPicPr/>
          <p:nvPr/>
        </p:nvPicPr>
        <p:blipFill>
          <a:blip r:embed="rId1"/>
          <a:stretch/>
        </p:blipFill>
        <p:spPr>
          <a:xfrm>
            <a:off x="1476360" y="1125360"/>
            <a:ext cx="6192720" cy="507852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09" name="AutoShape 12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5105520" y="2923920"/>
            <a:ext cx="4038480" cy="16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Левитан И. И.«Весна. Большая вода»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(1897)</a:t>
            </a: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1403280" y="6237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11" descr="6"/>
          <p:cNvPicPr/>
          <p:nvPr/>
        </p:nvPicPr>
        <p:blipFill>
          <a:blip r:embed="rId1"/>
          <a:stretch/>
        </p:blipFill>
        <p:spPr>
          <a:xfrm>
            <a:off x="571680" y="620640"/>
            <a:ext cx="4632120" cy="550548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13" name="AutoShape 12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Левитан И. И. «Озеро»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189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3348000" y="6237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11" descr="7"/>
          <p:cNvPicPr/>
          <p:nvPr/>
        </p:nvPicPr>
        <p:blipFill>
          <a:blip r:embed="rId1"/>
          <a:stretch/>
        </p:blipFill>
        <p:spPr>
          <a:xfrm>
            <a:off x="1187280" y="1197000"/>
            <a:ext cx="6697800" cy="459900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17" name="AutoShape 12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Архангел Михаил"/>
          <p:cNvPicPr/>
          <p:nvPr/>
        </p:nvPicPr>
        <p:blipFill>
          <a:blip r:embed="rId1"/>
          <a:stretch/>
        </p:blipFill>
        <p:spPr>
          <a:xfrm>
            <a:off x="826920" y="549360"/>
            <a:ext cx="3853080" cy="582768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6" name="Rectangle 7"/>
          <p:cNvSpPr/>
          <p:nvPr/>
        </p:nvSpPr>
        <p:spPr>
          <a:xfrm>
            <a:off x="2556000" y="573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5076720" y="2641680"/>
            <a:ext cx="375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Андрей Рублё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Икона «Архангел Михаил»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0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2" descr="sp175z"/>
          <p:cNvPicPr/>
          <p:nvPr/>
        </p:nvPicPr>
        <p:blipFill>
          <a:blip r:embed="rId1"/>
          <a:stretch/>
        </p:blipFill>
        <p:spPr>
          <a:xfrm>
            <a:off x="5364000" y="2852640"/>
            <a:ext cx="2567160" cy="345780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0" name="Rectangle 13"/>
          <p:cNvSpPr/>
          <p:nvPr/>
        </p:nvSpPr>
        <p:spPr>
          <a:xfrm>
            <a:off x="104292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5" descr="DSC02174"/>
          <p:cNvPicPr/>
          <p:nvPr/>
        </p:nvPicPr>
        <p:blipFill>
          <a:blip r:embed="rId2"/>
          <a:stretch/>
        </p:blipFill>
        <p:spPr>
          <a:xfrm>
            <a:off x="755640" y="765000"/>
            <a:ext cx="3790800" cy="505800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2" name="Rectangle 16"/>
          <p:cNvSpPr/>
          <p:nvPr/>
        </p:nvSpPr>
        <p:spPr>
          <a:xfrm>
            <a:off x="1332000" y="1700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4427640" y="404640"/>
            <a:ext cx="4152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Андрей Рублёв расписывал Троицкий собор Троице-Сергиева монасты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9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Comic Sans MS"/>
              </a:rPr>
              <a:t>Рокотов Федор Степанович</a:t>
            </a:r>
            <a:r>
              <a:rPr b="1" lang="ru-RU" sz="4000" spc="-1" strike="noStrike">
                <a:solidFill>
                  <a:srgbClr val="cc3300"/>
                </a:solidFill>
                <a:latin typeface="Comic Sans MS"/>
              </a:rPr>
              <a:t> </a:t>
            </a:r>
            <a:br>
              <a:rPr sz="4000"/>
            </a:b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(1735 - 1808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Русский художник, один из лучших русских портретистов </a:t>
            </a: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XVIII </a:t>
            </a: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684360" y="580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3" descr="081223011409"/>
          <p:cNvPicPr/>
          <p:nvPr/>
        </p:nvPicPr>
        <p:blipFill>
          <a:blip r:embed="rId1"/>
          <a:srcRect l="2323" t="2212" r="0" b="0"/>
          <a:stretch/>
        </p:blipFill>
        <p:spPr>
          <a:xfrm>
            <a:off x="4500720" y="1773360"/>
            <a:ext cx="3406680" cy="442584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9" name="AutoShape 14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16:22:35Z</dcterms:created>
  <dc:creator>Елена</dc:creator>
  <dc:description/>
  <dc:language>en-US</dc:language>
  <cp:lastModifiedBy>валя</cp:lastModifiedBy>
  <dcterms:modified xsi:type="dcterms:W3CDTF">2019-12-17T20:39:54Z</dcterms:modified>
  <cp:revision>339</cp:revision>
  <dc:subject/>
  <dc:title>Выдающиеся русские художники</dc:title>
</cp:coreProperties>
</file>