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BBA-79DD-4F2B-B767-83CD11C2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CF1-7EE2-4BA3-89A6-48B25181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3F9-D4EB-4363-A8C3-B7BB612F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4B04-31EC-4BAD-B744-0A16613A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8AB-BF6F-414A-9C38-AC7AA3EC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302-839D-4D81-98E3-E9FCD837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4B9-971C-4857-A907-530EE7D5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7539-B2A6-4D1C-B32C-950626CB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A99-0E52-4E7B-B9E5-F0EA36E1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686-C7F4-498D-8CFA-C874C9C5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B92-4C74-44C9-A3DF-153DB157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87C-371D-4BA8-87C3-94D7536C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4640-180A-49B6-AB6F-079C4CC08B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1908000" y="692280"/>
            <a:ext cx="61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Животный мир средней полосы России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0000" y="429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Составила воспитатель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старшей группы №7 «Солнышко»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Шумкаева Юлия Валерьевн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mg14"/>
          <p:cNvPicPr/>
          <p:nvPr/>
        </p:nvPicPr>
        <p:blipFill>
          <a:blip r:embed="rId1"/>
          <a:srcRect l="0" t="28435" r="0" b="0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68360" y="508464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каждого лесного жителя есть в лесу свой дом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дведь сооружает себе берлогу, волк — волчье логово, лиса - нору, белка – дуп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Ptitsa-drozd-23"/>
          <p:cNvPicPr/>
          <p:nvPr/>
        </p:nvPicPr>
        <p:blipFill>
          <a:blip r:embed="rId1"/>
          <a:stretch/>
        </p:blipFill>
        <p:spPr>
          <a:xfrm>
            <a:off x="0" y="0"/>
            <a:ext cx="9144000" cy="5884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042920" y="59500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тичка вьет себе гнездо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незд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устраивают в дуплах, развилках ветвей, в пнях, а иногда просто на земл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6" descr="https://i.arts.in.ua/i/259/f_7375.jpg"/>
          <p:cNvPicPr/>
          <p:nvPr/>
        </p:nvPicPr>
        <p:blipFill>
          <a:blip r:embed="rId1"/>
          <a:srcRect l="9175" t="8617" r="0" b="17116"/>
          <a:stretch/>
        </p:blipFill>
        <p:spPr>
          <a:xfrm>
            <a:off x="0" y="0"/>
            <a:ext cx="9144000" cy="5378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0" y="546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95280" y="54658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ось — очень большой зверь с тяжелыми рогами, которые он сбрасывает в начале зимы. Лоси живут в лесах и питаются растения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611280" y="544500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лесах средней полосы живут зайцы-беляки и зайцы-русаки. У белого зайца уши короче, чем у русака. Заяц-беляк меняет окраску — становится на зиму белым (кроме кончиков ушей)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7" descr="img9"/>
          <p:cNvPicPr/>
          <p:nvPr/>
        </p:nvPicPr>
        <p:blipFill>
          <a:blip r:embed="rId1"/>
          <a:srcRect l="12500" t="10000" r="11252" b="11669"/>
          <a:stretch/>
        </p:blipFill>
        <p:spPr>
          <a:xfrm>
            <a:off x="1476360" y="0"/>
            <a:ext cx="702000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95280" y="60930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сица — приносит пользу тем, что ловит мышей. У нее очень красивый рыжий ценный мех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nastol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108000" y="522936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ка - растительноядное животное. Белка - небольшой зверек, целиком помещается на ладони взрослого человека. Белка проводит всю жизнь на деревьях, в дупле прячет семена, орехи, ягоды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animals-wolves-8030"/>
          <p:cNvPicPr/>
          <p:nvPr/>
        </p:nvPicPr>
        <p:blipFill>
          <a:blip r:embed="rId1"/>
          <a:stretch/>
        </p:blipFill>
        <p:spPr>
          <a:xfrm>
            <a:off x="0" y="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250920" y="530532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лк — достаточно крупный зверь. Ростом примерно по пояс взрослому человеку. Тело у волка поджарое, спина прямая, грудь широкая, лапы длинные. Волк - хищник, охотится на кабанов, лосей, зайцев, бобров, сурков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2T05:17:16Z</dcterms:created>
  <dc:creator>Валера</dc:creator>
  <dc:description/>
  <dc:language>en-US</dc:language>
  <cp:lastModifiedBy>Жар-птица</cp:lastModifiedBy>
  <dcterms:modified xsi:type="dcterms:W3CDTF">2019-12-17T09:23:31Z</dcterms:modified>
  <cp:revision>7</cp:revision>
  <dc:subject/>
  <dc:title>Слайд 1</dc:title>
</cp:coreProperties>
</file>