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FBE9-53AB-4AAD-B874-2E6E21404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AD40-DA72-47D5-9A8B-CBF98A90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08C2-7515-4B1C-81C5-AD636E314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8EFE-6642-4FB8-AFA8-3735F308F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3851-2CDE-47A7-AFFA-8E422820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F569-1C79-4952-AC82-156D4F0B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19F9-BC4E-4571-883A-09814B39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76D7-6B1D-4CE2-9992-57A69546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A928-10E7-44B9-9AFC-3F530EB0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D8CE-A8F2-4BC9-AFE9-A384AB83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A2CF-BEC6-4211-9C29-41E4B6F2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EDAB-B7B4-420C-A20A-9C0D7DE9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8F53-5D2F-4E89-9DAC-91369CC4473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1908000" y="692280"/>
            <a:ext cx="61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Животный мир средней полосы России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00000" y="429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Составила воспитатель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старшей группы №7 «Солнышко»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Шумкаева Юлия Валерьевна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img14"/>
          <p:cNvPicPr/>
          <p:nvPr/>
        </p:nvPicPr>
        <p:blipFill>
          <a:blip r:embed="rId1"/>
          <a:srcRect l="0" t="28435" r="0" b="0"/>
          <a:stretch/>
        </p:blipFill>
        <p:spPr>
          <a:xfrm>
            <a:off x="0" y="0"/>
            <a:ext cx="9144000" cy="49150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468360" y="508464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 каждого лесного жителя есть в лесу свой доми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дведь сооружает себе берлогу, волк — волчье логово, лиса - нору, белка – дуп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Ptitsa-drozd-23"/>
          <p:cNvPicPr/>
          <p:nvPr/>
        </p:nvPicPr>
        <p:blipFill>
          <a:blip r:embed="rId1"/>
          <a:stretch/>
        </p:blipFill>
        <p:spPr>
          <a:xfrm>
            <a:off x="0" y="0"/>
            <a:ext cx="9144000" cy="58849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1042920" y="595008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тичка вьет себе гнездо.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незд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устраивают в дуплах, развилках ветвей, в пнях, а иногда просто на земл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7"/>
          <p:cNvSpPr/>
          <p:nvPr/>
        </p:nvSpPr>
        <p:spPr>
          <a:xfrm>
            <a:off x="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6" descr="https://i.arts.in.ua/i/259/f_7375.jpg"/>
          <p:cNvPicPr/>
          <p:nvPr/>
        </p:nvPicPr>
        <p:blipFill>
          <a:blip r:embed="rId1"/>
          <a:srcRect l="9175" t="8617" r="0" b="17116"/>
          <a:stretch/>
        </p:blipFill>
        <p:spPr>
          <a:xfrm>
            <a:off x="0" y="0"/>
            <a:ext cx="9144000" cy="53784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8"/>
          <p:cNvSpPr/>
          <p:nvPr/>
        </p:nvSpPr>
        <p:spPr>
          <a:xfrm>
            <a:off x="0" y="546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395280" y="54658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ось — очень большой зверь с тяжелыми рогами, которые он сбрасывает в начале зимы. Лоси живут в лесах и питаются растениям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6"/>
          <p:cNvSpPr/>
          <p:nvPr/>
        </p:nvSpPr>
        <p:spPr>
          <a:xfrm>
            <a:off x="611280" y="5445000"/>
            <a:ext cx="81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лесах средней полосы живут зайцы-беляки и зайцы-русаки. У белого зайца уши короче, чем у русака. Заяц-беляк меняет окраску — становится на зиму белым (кроме кончиков ушей)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7" descr="img9"/>
          <p:cNvPicPr/>
          <p:nvPr/>
        </p:nvPicPr>
        <p:blipFill>
          <a:blip r:embed="rId1"/>
          <a:srcRect l="12500" t="10000" r="11252" b="11669"/>
          <a:stretch/>
        </p:blipFill>
        <p:spPr>
          <a:xfrm>
            <a:off x="1476360" y="0"/>
            <a:ext cx="702000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s1200?webp=false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395280" y="609300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исица — приносит пользу тем, что ловит мышей. У нее очень красивый рыжий ценный мех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nastol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108000" y="522936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елка - растительноядное животное. Белка - небольшой зверек, целиком помещается на ладони взрослого человека. Белка проводит всю жизнь на деревьях, в дупле прячет семена, орехи, ягоды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animals-wolves-8030"/>
          <p:cNvPicPr/>
          <p:nvPr/>
        </p:nvPicPr>
        <p:blipFill>
          <a:blip r:embed="rId1"/>
          <a:stretch/>
        </p:blipFill>
        <p:spPr>
          <a:xfrm>
            <a:off x="0" y="0"/>
            <a:ext cx="9144000" cy="51418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250920" y="5305320"/>
            <a:ext cx="87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лк — достаточно крупный зверь. Ростом примерно по пояс взрослому человеку. Тело у волка поджарое, спина прямая, грудь широкая, лапы длинные. Волк - хищник, охотится на кабанов, лосей, зайцев, бобров, сурков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2T05:17:16Z</dcterms:created>
  <dc:creator>Валера</dc:creator>
  <dc:description/>
  <dc:language>en-US</dc:language>
  <cp:lastModifiedBy>Жар-птица</cp:lastModifiedBy>
  <dcterms:modified xsi:type="dcterms:W3CDTF">2019-12-17T09:23:31Z</dcterms:modified>
  <cp:revision>7</cp:revision>
  <dc:subject/>
  <dc:title>Слайд 1</dc:title>
</cp:coreProperties>
</file>