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B72E-A47E-4752-A112-59A034A63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DE92-A859-4C88-8406-D6499403E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E54C-F6C2-47C0-95D8-56F288E09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0403-11DF-415B-BC8B-AD6D969B7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AFAE-4B76-4952-975E-577FDD0F6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3A72-8348-4AB5-9A61-2612CCEC2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0901-1443-4784-AF8B-B9EC00E4E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E5EC-DE57-47E8-9E7E-D86B0BE5F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254A-6DE0-4B36-91A7-7068C93C7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76A9-49C9-4E63-A9B8-20910327B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F477-1FC5-4F8F-A7F3-6B3D1F4D1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5724-63BF-4A53-8825-41FBE9EAA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8CE1A-D8C1-430A-A03D-054247CB558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1403280" y="178200"/>
            <a:ext cx="6553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чень разнообразен и богат животный мир России. Водятся у нас и ежики, и барсуки, и косули, и горностаи.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тепь на первый взгляд кажется пустынной. Но это не так. Живут здесь заяц-русак, светлый хорь, тушканчик, хомяк, суслик, мышь, серая куропатка, черный жаворонок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 полях распространены мыши, суслики, полевки, приносящие вред посевам.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т как много Животных водится в наших лесах! Кто запомнил больше всех?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Picture 6" descr="s1200?webp=false"/>
          <p:cNvPicPr/>
          <p:nvPr/>
        </p:nvPicPr>
        <p:blipFill>
          <a:blip r:embed="rId1"/>
          <a:stretch/>
        </p:blipFill>
        <p:spPr>
          <a:xfrm>
            <a:off x="0" y="4192560"/>
            <a:ext cx="4265640" cy="26654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ÐÐ´ÐµÑ ÐµÐ¶Ð¸Ðº Ð¿Ð¾ Ð´ÐµÑÐµÐ²Ñ."/>
          <p:cNvPicPr/>
          <p:nvPr/>
        </p:nvPicPr>
        <p:blipFill>
          <a:blip r:embed="rId2"/>
          <a:stretch/>
        </p:blipFill>
        <p:spPr>
          <a:xfrm>
            <a:off x="5184720" y="4218120"/>
            <a:ext cx="395928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0" y="1807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ольшое значение в природе имеют полезные насекомые: жуки - краснотелы, божьи коровки, которые поедают много вредных гусениц. 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6" descr="0_992a2_e30cc0b0_orig"/>
          <p:cNvPicPr/>
          <p:nvPr/>
        </p:nvPicPr>
        <p:blipFill>
          <a:blip r:embed="rId1"/>
          <a:stretch/>
        </p:blipFill>
        <p:spPr>
          <a:xfrm>
            <a:off x="324000" y="1197000"/>
            <a:ext cx="3387600" cy="2259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36-%D0%BA%D1%80%D0%B0%D1%81%D0%B8%D0%B2%D0%B0%D1%8F-%D0%B1%D0%BE%D0%B6%D1%8C%D1%8F-%D0%BA%D0%BE%D1%80%D0%BE%D0%B2%D0%BA%D0%B0"/>
          <p:cNvPicPr/>
          <p:nvPr/>
        </p:nvPicPr>
        <p:blipFill>
          <a:blip r:embed="rId2"/>
          <a:stretch/>
        </p:blipFill>
        <p:spPr>
          <a:xfrm>
            <a:off x="5148360" y="1268280"/>
            <a:ext cx="3440160" cy="2151360"/>
          </a:xfrm>
          <a:prstGeom prst="rect">
            <a:avLst/>
          </a:prstGeom>
          <a:ln w="0">
            <a:noFill/>
          </a:ln>
        </p:spPr>
      </p:pic>
      <p:sp>
        <p:nvSpPr>
          <p:cNvPr id="47" name="Text Box 9"/>
          <p:cNvSpPr/>
          <p:nvPr/>
        </p:nvSpPr>
        <p:spPr>
          <a:xfrm>
            <a:off x="1040760" y="3573360"/>
            <a:ext cx="696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мели, пчелы, осы, бабочки являются опылителями растен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11" descr="ÐÐµÑÐ¼Ð¾ÑÑÑ Ð½Ð° ÑÐ¾, ÑÑÐ¾ Ð¸ Ð¿ÑÐµÐ»Ñ Ð¸ ÑÐ¼ÐµÐ»Ð¸ ÑÐ¾Ð±Ð¸ÑÐ°ÑÑ Ð¿ÑÐ»ÑÑÑ Ñ ÑÐ°ÑÑÐµÐ½Ð¸Ð¹, Ð¼ÐµÐ´ Ð² Ð¸ÑÐ¾Ð³Ðµ Ñ Ð½Ð¸Ñ Ð¿Ð¾Ð»ÑÑÐ°ÐµÑÑÑ ÑÐ°Ð·Ð½ÑÐ¼. Ð¨Ð¼ÐµÐ»Ð¸Ð½ÑÐ¹ Ð¼ÐµÐ´ Ð¶Ð¸Ð´ÐºÐ¸Ð¹, Ð¾Ð½ Ð±Ð¾Ð»ÑÑÐµ Ð¿Ð¾ÑÐ¾Ð¶ Ð½Ð° ÑÐ°ÑÐ°ÑÐ½ÑÐ¹ ÑÐ¸ÑÐ¾Ð¿, Ð½Ð¾ Ð¿ÑÐ¸ ÑÑÐ¾Ð¼ Ð¾Ð½ Ð¼ÐµÐ½ÐµÐµ ÑÐ»Ð°Ð´ÐºÐ¸Ð¹ Ð¸ Ð°ÑÐ¾Ð¼Ð°ÑÐ½ÑÐ¹, ÑÐµÐ¼ Ð¿ÑÐµÐ»Ð¸Ð½ÑÐ¹. ÐÑÐ¾Ð¼Ðµ ÑÐ¾Ð³Ð¾, Ð² Ð½ÐµÐ¼ Ð³Ð¾ÑÐ°Ð·Ð´Ð¾ Ð²ÑÑÐµ ÐºÐ¾Ð½ÑÐµÐ½ÑÑÐ°ÑÐ¸Ñ ÑÐ°Ð·Ð»Ð¸ÑÐ½ÑÑ Ð¼Ð¸Ð½ÐµÑÐ°Ð»Ð¾Ð² Ð¸ Ð±ÐµÐ»ÐºÐ°, ÑÐµÐ¼ Ð² Ð¿ÑÐµÐ»Ð¸Ð½Ð¾Ð¼. Ð Ð¼ÐµÐ´Ðµ ÑÐ¼ÐµÐ»ÐµÐ¹ Ð²ÑÑÐµ ÑÐ¾Ð´ÐµÑÐ¶Ð°Ð½Ð¸Ðµ Ð²Ð¾Ð´Ñ, Ð¸ Ð¿Ð¾ ÑÑÐ¾Ð¹ Ð¿ÑÐ¸ÑÐ¸Ð½Ðµ ÑÐ¼ÐµÐ»Ð¸Ð½ÑÐ¹ Ð¼ÐµÐ´ Ð½Ðµ Ð¿ÑÐ¸ÑÐ¿Ð¾ÑÐ¾Ð±Ð»ÐµÐ½ Ðº Ð´Ð»Ð¸ÑÐµÐ»ÑÐ½Ð¾Ð¼Ñ ÑÑÐ°Ð½ÐµÐ½Ð¸Ñ Ð¸ ÐµÐ³Ð¾ Ð¼Ð¾Ð¶Ð½Ð¾ Ð´ÐµÑÐ¶Ð°ÑÑ ÑÐ¾Ð»ÑÐºÐ¾ Ð¿ÑÐ¸ ÑÐµÐ¼Ð¿ÐµÑÐ°ÑÑÑÐµ Ð½Ðµ Ð²ÑÑÐµ +8ÂºÐ¡, Ð¶ÐµÐ»Ð°ÑÐµÐ»ÑÐ½Ð¾ Ð² Ð¿ÑÐµÐ´ÐµÐ»Ð°Ñ +1â +2ÂºÐ¡.&#10;&#10;&#10;ÐÑÑÐ¾ÑÐ½Ð¸Ðº: http://travelask.ru/blog/posts/12936-pochemu-nikto-ne-razvodit-shmeley-ved-oni-tozhe-delayut-med?utm_referrer=https%3A%2F%2Fzen.yandex.com"/>
          <p:cNvPicPr/>
          <p:nvPr/>
        </p:nvPicPr>
        <p:blipFill>
          <a:blip r:embed="rId3"/>
          <a:stretch/>
        </p:blipFill>
        <p:spPr>
          <a:xfrm>
            <a:off x="179280" y="4005360"/>
            <a:ext cx="3888000" cy="2598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" descr="monarch_monarch_butterfly_butterfly_nature_wildlife_rose_garden_garden_insect-816681"/>
          <p:cNvPicPr/>
          <p:nvPr/>
        </p:nvPicPr>
        <p:blipFill>
          <a:blip r:embed="rId4"/>
          <a:stretch/>
        </p:blipFill>
        <p:spPr>
          <a:xfrm>
            <a:off x="4716360" y="4076640"/>
            <a:ext cx="385128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8" descr="grach_45_26030533"/>
          <p:cNvPicPr/>
          <p:nvPr/>
        </p:nvPicPr>
        <p:blipFill>
          <a:blip r:embed="rId1"/>
          <a:srcRect l="16627" t="0" r="20287" b="8284"/>
          <a:stretch/>
        </p:blipFill>
        <p:spPr>
          <a:xfrm>
            <a:off x="0" y="0"/>
            <a:ext cx="7020000" cy="67546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9"/>
          <p:cNvSpPr/>
          <p:nvPr/>
        </p:nvSpPr>
        <p:spPr>
          <a:xfrm>
            <a:off x="7093080" y="0"/>
            <a:ext cx="20509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есной из теплых стран к нам прилетают разные птицы, давайте отгадаем про них загадки.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сех перелетных птиц черней, 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Чистит пашню от червей.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зад-вперед по пашне вскачь, 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 зовется птица..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s1200?webp=false"/>
          <p:cNvPicPr/>
          <p:nvPr/>
        </p:nvPicPr>
        <p:blipFill>
          <a:blip r:embed="rId1"/>
          <a:stretch/>
        </p:blipFill>
        <p:spPr>
          <a:xfrm>
            <a:off x="0" y="0"/>
            <a:ext cx="6804000" cy="6804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8008920" y="3376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948360" y="907920"/>
            <a:ext cx="2016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м в хозяйстве помогает 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 охотно заселяет 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еревянный свой дворец 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емно-бронзовый..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0" y="91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 еще к нам прилетают жаворонки, ласточ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7" descr="zavoronok1200"/>
          <p:cNvPicPr/>
          <p:nvPr/>
        </p:nvPicPr>
        <p:blipFill>
          <a:blip r:embed="rId1"/>
          <a:stretch/>
        </p:blipFill>
        <p:spPr>
          <a:xfrm>
            <a:off x="0" y="804960"/>
            <a:ext cx="5148360" cy="3252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ÐÐ½Ð¾Ð³Ð¾ÑÐ¸ÑÐ»ÐµÐ½Ð½ÑÐµ ÐºÐ°ÑÑÐ¸Ð½ÐºÐ¸ Ð»Ð°ÑÑÐ¾ÑÐºÐ¸ ÑÐ¿Ð¾Ð´Ð¾Ð±Ð»ÑÑÑ ÑÑÑ ÑÐ²ÐµÑÐ»ÑÑ Ð¿ÑÐ¸ÑÑ Ð¿ÑÐ¾ÑÐ²Ð»ÐµÐ½Ð¸Ñ ÐÐ¾Ð¶ÑÐµÐ¹ ÐÐ°ÑÐµÑÐ¸, Ð° Ð² ÑÐºÐ°Ð·Ð°Ð½Ð¸ÑÑ Ð´ÑÐµÐ²Ð½Ð¸Ñ ÑÐ»Ð°Ð²ÑÐ½ Ð¾Ð½Ð° Ð¾Ð»Ð¸ÑÐµÑÐ²Ð¾ÑÑÐ»Ð° Ð±Ð¾Ð³Ð¸Ð½Ñ ÐÐ°ÐºÐ¾ÑÑ"/>
          <p:cNvPicPr/>
          <p:nvPr/>
        </p:nvPicPr>
        <p:blipFill>
          <a:blip r:embed="rId2"/>
          <a:stretch/>
        </p:blipFill>
        <p:spPr>
          <a:xfrm>
            <a:off x="5300640" y="2997360"/>
            <a:ext cx="3843360" cy="32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0" y="1814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ловьи,                                        кукушки,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6" descr="800x83598"/>
          <p:cNvPicPr/>
          <p:nvPr/>
        </p:nvPicPr>
        <p:blipFill>
          <a:blip r:embed="rId1"/>
          <a:stretch/>
        </p:blipFill>
        <p:spPr>
          <a:xfrm>
            <a:off x="0" y="692280"/>
            <a:ext cx="4106880" cy="2738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large"/>
          <p:cNvPicPr/>
          <p:nvPr/>
        </p:nvPicPr>
        <p:blipFill>
          <a:blip r:embed="rId2"/>
          <a:stretch/>
        </p:blipFill>
        <p:spPr>
          <a:xfrm>
            <a:off x="4788000" y="692280"/>
            <a:ext cx="4140000" cy="27972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9"/>
          <p:cNvSpPr/>
          <p:nvPr/>
        </p:nvSpPr>
        <p:spPr>
          <a:xfrm>
            <a:off x="4070160" y="357336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волг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11" descr="s1200"/>
          <p:cNvPicPr/>
          <p:nvPr/>
        </p:nvPicPr>
        <p:blipFill>
          <a:blip r:embed="rId3"/>
          <a:stretch/>
        </p:blipFill>
        <p:spPr>
          <a:xfrm>
            <a:off x="2627280" y="4005360"/>
            <a:ext cx="4371840" cy="26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179280" y="254160"/>
            <a:ext cx="85694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ких еще птиц вы знаете?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т как много птиц, насекомых и животных обитает в России.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тог занятия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зовите животных, которые живут в наших лесах.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зовите их жилищ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ких вы знаете птиц?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ем полезны насекомые?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22T05:17:16Z</dcterms:created>
  <dc:creator>Валера</dc:creator>
  <dc:description/>
  <dc:language>en-US</dc:language>
  <cp:lastModifiedBy>Жар-птица</cp:lastModifiedBy>
  <dcterms:modified xsi:type="dcterms:W3CDTF">2019-12-17T09:24:19Z</dcterms:modified>
  <cp:revision>7</cp:revision>
  <dc:subject/>
  <dc:title>Слайд 1</dc:title>
</cp:coreProperties>
</file>