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7817B-77D4-45E7-8B9E-658AB516E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D055F-A270-4E73-BEFD-07D8EF55B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E9987-91BF-4576-A5FC-CD95E2F6A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0FE52-7FF9-4F76-B16B-26C889676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EC620-8D61-4E7F-9C60-9C80C7510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A567C-0373-411D-A3BF-7D51ED3EC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CBBFF-B418-490E-9F57-CD4541141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CF51C-2AB3-4027-A4D5-950F90D63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EF623-11B2-45CC-9897-648EF917D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55636-6566-4148-B407-63E8BCE57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19472-0807-4AA5-8D61-A80578188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30277-5528-44EF-A23C-9902C567A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4B663-3A7C-4511-9601-181B694FF2C6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4"/>
          <p:cNvSpPr/>
          <p:nvPr/>
        </p:nvSpPr>
        <p:spPr>
          <a:xfrm>
            <a:off x="1403280" y="178200"/>
            <a:ext cx="65534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чень разнообразен и богат животный мир России. Водятся у нас и ежики, и барсуки, и косули, и горностаи.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тепь на первый взгляд кажется пустынной. Но это не так. Живут здесь заяц-русак, светлый хорь, тушканчик, хомяк, суслик, мышь, серая куропатка, черный жаворонок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а полях распространены мыши, суслики, полевки, приносящие вред посевам.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от как много Животных водится в наших лесах! Кто запомнил больше всех?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" name="Picture 6" descr="s1200?webp=false"/>
          <p:cNvPicPr/>
          <p:nvPr/>
        </p:nvPicPr>
        <p:blipFill>
          <a:blip r:embed="rId1"/>
          <a:stretch/>
        </p:blipFill>
        <p:spPr>
          <a:xfrm>
            <a:off x="0" y="4192560"/>
            <a:ext cx="4265640" cy="26654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8" descr="ÐÐ´ÐµÑ ÐµÐ¶Ð¸Ðº Ð¿Ð¾ Ð´ÐµÑÐµÐ²Ñ."/>
          <p:cNvPicPr/>
          <p:nvPr/>
        </p:nvPicPr>
        <p:blipFill>
          <a:blip r:embed="rId2"/>
          <a:stretch/>
        </p:blipFill>
        <p:spPr>
          <a:xfrm>
            <a:off x="5184720" y="4218120"/>
            <a:ext cx="3959280" cy="263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4"/>
          <p:cNvSpPr/>
          <p:nvPr/>
        </p:nvSpPr>
        <p:spPr>
          <a:xfrm>
            <a:off x="0" y="18072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Большое значение в природе имеют полезные насекомые: жуки - краснотелы, божьи коровки, которые поедают много вредных гусениц. 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" name="Picture 6" descr="0_992a2_e30cc0b0_orig"/>
          <p:cNvPicPr/>
          <p:nvPr/>
        </p:nvPicPr>
        <p:blipFill>
          <a:blip r:embed="rId1"/>
          <a:stretch/>
        </p:blipFill>
        <p:spPr>
          <a:xfrm>
            <a:off x="324000" y="1197000"/>
            <a:ext cx="3387600" cy="22590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8" descr="36-%D0%BA%D1%80%D0%B0%D1%81%D0%B8%D0%B2%D0%B0%D1%8F-%D0%B1%D0%BE%D0%B6%D1%8C%D1%8F-%D0%BA%D0%BE%D1%80%D0%BE%D0%B2%D0%BA%D0%B0"/>
          <p:cNvPicPr/>
          <p:nvPr/>
        </p:nvPicPr>
        <p:blipFill>
          <a:blip r:embed="rId2"/>
          <a:stretch/>
        </p:blipFill>
        <p:spPr>
          <a:xfrm>
            <a:off x="5148360" y="1268280"/>
            <a:ext cx="3440160" cy="2151360"/>
          </a:xfrm>
          <a:prstGeom prst="rect">
            <a:avLst/>
          </a:prstGeom>
          <a:ln w="0">
            <a:noFill/>
          </a:ln>
        </p:spPr>
      </p:pic>
      <p:sp>
        <p:nvSpPr>
          <p:cNvPr id="47" name="Text Box 9"/>
          <p:cNvSpPr/>
          <p:nvPr/>
        </p:nvSpPr>
        <p:spPr>
          <a:xfrm>
            <a:off x="1040760" y="3573360"/>
            <a:ext cx="696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Шмели, пчелы, осы, бабочки являются опылителями растени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" name="Picture 11" descr="ÐÐµÑÐ¼Ð¾ÑÑÑ Ð½Ð° ÑÐ¾, ÑÑÐ¾ Ð¸ Ð¿ÑÐµÐ»Ñ Ð¸ ÑÐ¼ÐµÐ»Ð¸ ÑÐ¾Ð±Ð¸ÑÐ°ÑÑ Ð¿ÑÐ»ÑÑÑ Ñ ÑÐ°ÑÑÐµÐ½Ð¸Ð¹, Ð¼ÐµÐ´ Ð² Ð¸ÑÐ¾Ð³Ðµ Ñ Ð½Ð¸Ñ Ð¿Ð¾Ð»ÑÑÐ°ÐµÑÑÑ ÑÐ°Ð·Ð½ÑÐ¼. Ð¨Ð¼ÐµÐ»Ð¸Ð½ÑÐ¹ Ð¼ÐµÐ´ Ð¶Ð¸Ð´ÐºÐ¸Ð¹, Ð¾Ð½ Ð±Ð¾Ð»ÑÑÐµ Ð¿Ð¾ÑÐ¾Ð¶ Ð½Ð° ÑÐ°ÑÐ°ÑÐ½ÑÐ¹ ÑÐ¸ÑÐ¾Ð¿, Ð½Ð¾ Ð¿ÑÐ¸ ÑÑÐ¾Ð¼ Ð¾Ð½ Ð¼ÐµÐ½ÐµÐµ ÑÐ»Ð°Ð´ÐºÐ¸Ð¹ Ð¸ Ð°ÑÐ¾Ð¼Ð°ÑÐ½ÑÐ¹, ÑÐµÐ¼ Ð¿ÑÐµÐ»Ð¸Ð½ÑÐ¹. ÐÑÐ¾Ð¼Ðµ ÑÐ¾Ð³Ð¾, Ð² Ð½ÐµÐ¼ Ð³Ð¾ÑÐ°Ð·Ð´Ð¾ Ð²ÑÑÐµ ÐºÐ¾Ð½ÑÐµÐ½ÑÑÐ°ÑÐ¸Ñ ÑÐ°Ð·Ð»Ð¸ÑÐ½ÑÑ Ð¼Ð¸Ð½ÐµÑÐ°Ð»Ð¾Ð² Ð¸ Ð±ÐµÐ»ÐºÐ°, ÑÐµÐ¼ Ð² Ð¿ÑÐµÐ»Ð¸Ð½Ð¾Ð¼. Ð Ð¼ÐµÐ´Ðµ ÑÐ¼ÐµÐ»ÐµÐ¹ Ð²ÑÑÐµ ÑÐ¾Ð´ÐµÑÐ¶Ð°Ð½Ð¸Ðµ Ð²Ð¾Ð´Ñ, Ð¸ Ð¿Ð¾ ÑÑÐ¾Ð¹ Ð¿ÑÐ¸ÑÐ¸Ð½Ðµ ÑÐ¼ÐµÐ»Ð¸Ð½ÑÐ¹ Ð¼ÐµÐ´ Ð½Ðµ Ð¿ÑÐ¸ÑÐ¿Ð¾ÑÐ¾Ð±Ð»ÐµÐ½ Ðº Ð´Ð»Ð¸ÑÐµÐ»ÑÐ½Ð¾Ð¼Ñ ÑÑÐ°Ð½ÐµÐ½Ð¸Ñ Ð¸ ÐµÐ³Ð¾ Ð¼Ð¾Ð¶Ð½Ð¾ Ð´ÐµÑÐ¶Ð°ÑÑ ÑÐ¾Ð»ÑÐºÐ¾ Ð¿ÑÐ¸ ÑÐµÐ¼Ð¿ÐµÑÐ°ÑÑÑÐµ Ð½Ðµ Ð²ÑÑÐµ +8ÂºÐ¡, Ð¶ÐµÐ»Ð°ÑÐµÐ»ÑÐ½Ð¾ Ð² Ð¿ÑÐµÐ´ÐµÐ»Ð°Ñ +1â +2ÂºÐ¡.&#10;&#10;&#10;ÐÑÑÐ¾ÑÐ½Ð¸Ðº: http://travelask.ru/blog/posts/12936-pochemu-nikto-ne-razvodit-shmeley-ved-oni-tozhe-delayut-med?utm_referrer=https%3A%2F%2Fzen.yandex.com"/>
          <p:cNvPicPr/>
          <p:nvPr/>
        </p:nvPicPr>
        <p:blipFill>
          <a:blip r:embed="rId3"/>
          <a:stretch/>
        </p:blipFill>
        <p:spPr>
          <a:xfrm>
            <a:off x="179280" y="4005360"/>
            <a:ext cx="3888000" cy="25984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3" descr="monarch_monarch_butterfly_butterfly_nature_wildlife_rose_garden_garden_insect-816681"/>
          <p:cNvPicPr/>
          <p:nvPr/>
        </p:nvPicPr>
        <p:blipFill>
          <a:blip r:embed="rId4"/>
          <a:stretch/>
        </p:blipFill>
        <p:spPr>
          <a:xfrm>
            <a:off x="4716360" y="4076640"/>
            <a:ext cx="3851280" cy="255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8" descr="grach_45_26030533"/>
          <p:cNvPicPr/>
          <p:nvPr/>
        </p:nvPicPr>
        <p:blipFill>
          <a:blip r:embed="rId1"/>
          <a:srcRect l="16627" t="0" r="20287" b="8284"/>
          <a:stretch/>
        </p:blipFill>
        <p:spPr>
          <a:xfrm>
            <a:off x="0" y="0"/>
            <a:ext cx="7020000" cy="6754680"/>
          </a:xfrm>
          <a:prstGeom prst="rect">
            <a:avLst/>
          </a:prstGeom>
          <a:ln w="0">
            <a:noFill/>
          </a:ln>
        </p:spPr>
      </p:pic>
      <p:sp>
        <p:nvSpPr>
          <p:cNvPr id="51" name="Text Box 9"/>
          <p:cNvSpPr/>
          <p:nvPr/>
        </p:nvSpPr>
        <p:spPr>
          <a:xfrm>
            <a:off x="7093080" y="0"/>
            <a:ext cx="205092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есной из теплых стран к нам прилетают разные птицы, давайте отгадаем про них загадки.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сех перелетных птиц черней, 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Чистит пашню от червей.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 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зад-вперед по пашне вскачь, 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А зовется птица..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5" descr="s1200?webp=false"/>
          <p:cNvPicPr/>
          <p:nvPr/>
        </p:nvPicPr>
        <p:blipFill>
          <a:blip r:embed="rId1"/>
          <a:stretch/>
        </p:blipFill>
        <p:spPr>
          <a:xfrm>
            <a:off x="0" y="0"/>
            <a:ext cx="6804000" cy="6804000"/>
          </a:xfrm>
          <a:prstGeom prst="rect">
            <a:avLst/>
          </a:prstGeom>
          <a:ln w="0">
            <a:noFill/>
          </a:ln>
        </p:spPr>
      </p:pic>
      <p:sp>
        <p:nvSpPr>
          <p:cNvPr id="53" name="Text Box 6"/>
          <p:cNvSpPr/>
          <p:nvPr/>
        </p:nvSpPr>
        <p:spPr>
          <a:xfrm>
            <a:off x="8008920" y="3376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7"/>
          <p:cNvSpPr/>
          <p:nvPr/>
        </p:nvSpPr>
        <p:spPr>
          <a:xfrm>
            <a:off x="6948360" y="907920"/>
            <a:ext cx="2016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ам в хозяйстве помогает 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И охотно заселяет 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Деревянный свой дворец 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Темно-бронзовый..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4"/>
          <p:cNvSpPr/>
          <p:nvPr/>
        </p:nvSpPr>
        <p:spPr>
          <a:xfrm>
            <a:off x="0" y="910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А еще к нам прилетают жаворонки, ласточ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Picture 7" descr="zavoronok1200"/>
          <p:cNvPicPr/>
          <p:nvPr/>
        </p:nvPicPr>
        <p:blipFill>
          <a:blip r:embed="rId1"/>
          <a:stretch/>
        </p:blipFill>
        <p:spPr>
          <a:xfrm>
            <a:off x="0" y="804960"/>
            <a:ext cx="5148360" cy="32526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9" descr="ÐÐ½Ð¾Ð³Ð¾ÑÐ¸ÑÐ»ÐµÐ½Ð½ÑÐµ ÐºÐ°ÑÑÐ¸Ð½ÐºÐ¸ Ð»Ð°ÑÑÐ¾ÑÐºÐ¸ ÑÐ¿Ð¾Ð´Ð¾Ð±Ð»ÑÑÑ ÑÑÑ ÑÐ²ÐµÑÐ»ÑÑ Ð¿ÑÐ¸ÑÑ Ð¿ÑÐ¾ÑÐ²Ð»ÐµÐ½Ð¸Ñ ÐÐ¾Ð¶ÑÐµÐ¹ ÐÐ°ÑÐµÑÐ¸, Ð° Ð² ÑÐºÐ°Ð·Ð°Ð½Ð¸ÑÑ Ð´ÑÐµÐ²Ð½Ð¸Ñ ÑÐ»Ð°Ð²ÑÐ½ Ð¾Ð½Ð° Ð¾Ð»Ð¸ÑÐµÑÐ²Ð¾ÑÑÐ»Ð° Ð±Ð¾Ð³Ð¸Ð½Ñ ÐÐ°ÐºÐ¾ÑÑ"/>
          <p:cNvPicPr/>
          <p:nvPr/>
        </p:nvPicPr>
        <p:blipFill>
          <a:blip r:embed="rId2"/>
          <a:stretch/>
        </p:blipFill>
        <p:spPr>
          <a:xfrm>
            <a:off x="5300640" y="2997360"/>
            <a:ext cx="3843360" cy="32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4"/>
          <p:cNvSpPr/>
          <p:nvPr/>
        </p:nvSpPr>
        <p:spPr>
          <a:xfrm>
            <a:off x="0" y="1814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оловьи,                                        кукушки,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" name="Picture 6" descr="800x83598"/>
          <p:cNvPicPr/>
          <p:nvPr/>
        </p:nvPicPr>
        <p:blipFill>
          <a:blip r:embed="rId1"/>
          <a:stretch/>
        </p:blipFill>
        <p:spPr>
          <a:xfrm>
            <a:off x="0" y="692280"/>
            <a:ext cx="4106880" cy="27381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8" descr="large"/>
          <p:cNvPicPr/>
          <p:nvPr/>
        </p:nvPicPr>
        <p:blipFill>
          <a:blip r:embed="rId2"/>
          <a:stretch/>
        </p:blipFill>
        <p:spPr>
          <a:xfrm>
            <a:off x="4788000" y="692280"/>
            <a:ext cx="4140000" cy="2797200"/>
          </a:xfrm>
          <a:prstGeom prst="rect">
            <a:avLst/>
          </a:prstGeom>
          <a:ln w="0">
            <a:noFill/>
          </a:ln>
        </p:spPr>
      </p:pic>
      <p:sp>
        <p:nvSpPr>
          <p:cNvPr id="61" name="Text Box 9"/>
          <p:cNvSpPr/>
          <p:nvPr/>
        </p:nvSpPr>
        <p:spPr>
          <a:xfrm>
            <a:off x="4070160" y="3573360"/>
            <a:ext cx="10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иволг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" name="Picture 11" descr="s1200"/>
          <p:cNvPicPr/>
          <p:nvPr/>
        </p:nvPicPr>
        <p:blipFill>
          <a:blip r:embed="rId3"/>
          <a:stretch/>
        </p:blipFill>
        <p:spPr>
          <a:xfrm>
            <a:off x="2627280" y="4005360"/>
            <a:ext cx="4371840" cy="267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4"/>
          <p:cNvSpPr/>
          <p:nvPr/>
        </p:nvSpPr>
        <p:spPr>
          <a:xfrm>
            <a:off x="179280" y="254160"/>
            <a:ext cx="856944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аких еще птиц вы знаете?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 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от как много птиц, насекомых и животных обитает в России.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Итог занятия.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азовите животных, которые живут в наших лесах.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азовите их жилищ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аких вы знаете птиц?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Чем полезны насекомые?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9-22T05:17:16Z</dcterms:created>
  <dc:creator>Валера</dc:creator>
  <dc:description/>
  <dc:language>en-US</dc:language>
  <cp:lastModifiedBy>Жар-птица</cp:lastModifiedBy>
  <dcterms:modified xsi:type="dcterms:W3CDTF">2019-12-17T09:24:19Z</dcterms:modified>
  <cp:revision>7</cp:revision>
  <dc:subject/>
  <dc:title>Слайд 1</dc:title>
</cp:coreProperties>
</file>