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06D5-99D6-44B2-AA4D-1960BA7C9D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822E-6131-4949-BB07-89BC9AD73B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8E4C-5AB8-4A4A-A0AE-5306292C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A08-CDE7-4CA8-A655-021635BE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BA6A-6050-4339-8873-77172EA3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D0B0-CC93-430D-AA9B-C6C3509B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3653-7160-4822-8DEB-E596BE08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8471-EB67-4275-A0E8-2EC3C25F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18D5-3B35-417D-9402-F874A964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2871-BD1B-42EC-ABDE-DD64EA78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E466-72E8-4A18-8E8F-6C29D243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D61B-5829-4C0E-95F5-BF229D41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F18E-5124-4537-AA39-0EAC3EF3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9376-19EA-40F3-937B-F75DC77E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FBF5-EE5A-4852-A98C-9882B1E0FF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shka-i.narod.ru/photo48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ushkin.niv.ru/images/mesta/mesta_12_3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7772400" cy="393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바탕"/>
                <a:ea typeface="바탕"/>
              </a:rPr>
              <a:t>Солнце русской поэзии</a:t>
            </a:r>
            <a:br>
              <a:rPr sz="4800"/>
            </a:br>
            <a:br>
              <a:rPr sz="4800"/>
            </a:b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(Жизнь и творчество А.С. Пушки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76720" y="5084640"/>
            <a:ext cx="5424480" cy="14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Занятие внеурочной деятельности «Выразительное чтени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C:\Documents and Settings\Admin\Рабочий стол\Пушкин\delvig_a_p_h170.jpg"/>
          <p:cNvPicPr/>
          <p:nvPr/>
        </p:nvPicPr>
        <p:blipFill>
          <a:blip r:embed="rId1"/>
          <a:stretch/>
        </p:blipFill>
        <p:spPr>
          <a:xfrm>
            <a:off x="214200" y="928800"/>
            <a:ext cx="2521080" cy="2857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Admin\Рабочий стол\Пушкин\puschin_i_i_h170.jpg"/>
          <p:cNvPicPr/>
          <p:nvPr/>
        </p:nvPicPr>
        <p:blipFill>
          <a:blip r:embed="rId2"/>
          <a:stretch/>
        </p:blipFill>
        <p:spPr>
          <a:xfrm>
            <a:off x="6572160" y="928800"/>
            <a:ext cx="2333880" cy="2800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214200" y="392904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Антон Антон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Дельви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6637680" y="3857760"/>
            <a:ext cx="222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Иван Иван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Пущ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831960" y="214200"/>
            <a:ext cx="74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Близкие друзья Пушкина по Лице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892080" y="5500800"/>
            <a:ext cx="732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Пушкин сохранил лицейскую дружб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и культ Лицея на всю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3"/>
          <a:stretch/>
        </p:blipFill>
        <p:spPr>
          <a:xfrm>
            <a:off x="3429000" y="1500120"/>
            <a:ext cx="2462040" cy="2938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9"/>
          <p:cNvSpPr/>
          <p:nvPr/>
        </p:nvSpPr>
        <p:spPr>
          <a:xfrm>
            <a:off x="3198960" y="4500720"/>
            <a:ext cx="28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Вильгельм Карл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Кюхельбек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16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616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116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616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116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616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1160"/>
                            </p:stCondLst>
                            <p:childTnLst>
                              <p:par>
                                <p:cTn id="2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3"/>
          <p:cNvSpPr/>
          <p:nvPr/>
        </p:nvSpPr>
        <p:spPr>
          <a:xfrm>
            <a:off x="214200" y="4643280"/>
            <a:ext cx="87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1815 г. Пушкин с триумфом прочел на экзамене свое стихотворение "Воспоминание в Царском Селе" в присутствии знаменитого поэта Г.Р.Державина. Срок пребывания в лицее кончился летом 1817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9 июня состоялись выпускные экзам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" descr="C:\Documents and Settings\Admin\Рабочий стол\Пушкин\pushkin_02.jpg"/>
          <p:cNvPicPr/>
          <p:nvPr/>
        </p:nvPicPr>
        <p:blipFill>
          <a:blip r:embed="rId1"/>
          <a:stretch/>
        </p:blipFill>
        <p:spPr>
          <a:xfrm>
            <a:off x="714240" y="357120"/>
            <a:ext cx="7623360" cy="4319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1426320" y="0"/>
            <a:ext cx="62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"Пушкин в Царском Селе«.(Картина И. Репина, 1911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Картинка 19 из 13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714240"/>
            <a:ext cx="4000680" cy="3095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214200" y="500076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 имением своей матери, селом Михайловским в Псковской губернии, Александр Сергеевич Пушкин был связан на протяжении всей своей зрелой жизни - с 1817 по 1836 г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4286160" y="214200"/>
            <a:ext cx="46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од вашу с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Михайловские рощ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Являлся 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огда вы в первый р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Увидели меня, тогда я был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еселым юнош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беспечно, жа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Я приступал лиш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только к жизни; - г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ромчалися - и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о мне прия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Усталого пришель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963360" y="3929040"/>
            <a:ext cx="23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>
            <a:off x="5357880" y="214200"/>
            <a:ext cx="3571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Bookman Old Style"/>
              </a:rPr>
              <a:t>Утром и днем Пушкин обычно работал, потом уезжал верхом или уходил в  село Тригорское, где жили соседи, с которыми он был хорошо знако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Тригорско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142920"/>
            <a:ext cx="5038920" cy="328608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6"/>
          <p:cNvSpPr/>
          <p:nvPr/>
        </p:nvSpPr>
        <p:spPr>
          <a:xfrm>
            <a:off x="214200" y="4000680"/>
            <a:ext cx="87156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</a:rPr>
              <a:t>А вечерами, когда за окном выла вьюга, он снова, как в детстве, слушал нянины сказки и песни. Вот как поэт писал брату в письме: «Знаешь ли мои занятия? До обеда  пишу записки, после обеда езжу верхом, вечером слушаю сказки… Что за прелесть эти сказки! Каждая из них поэма!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744560" y="350028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Тригор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4"/>
          <p:cNvSpPr/>
          <p:nvPr/>
        </p:nvSpPr>
        <p:spPr>
          <a:xfrm flipH="1">
            <a:off x="5286240" y="714240"/>
            <a:ext cx="3500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Чуть более двух лет длилась ссылка в с.Михайловское. Она закончилась в сентябре 1826 года. Пушкин вернулся в Моск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мае 1829 г. он посватался в Москве к юной красавиц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Наталии Николаевне Гончаро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" descr="C:\Documents and Settings\Admin\Рабочий стол\Пушкин\pushkina_n_n.jpg"/>
          <p:cNvPicPr/>
          <p:nvPr/>
        </p:nvPicPr>
        <p:blipFill>
          <a:blip r:embed="rId1"/>
          <a:stretch/>
        </p:blipFill>
        <p:spPr>
          <a:xfrm>
            <a:off x="357120" y="285840"/>
            <a:ext cx="481032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3929040" y="214200"/>
            <a:ext cx="49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18 февраля 1831 г. в церкви Вознесения Господня состоялось его венчание с Н.Н.Гончаровой. Первые месяцы семейной жизни он провел с женой в Москве, сняв квартиру на Арба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Москва. Арбат, 35. Мемориальный отдел Государственного музея Пушкина - Квартира А.С. Пушкина на Арбате."/>
          <p:cNvPicPr/>
          <p:nvPr/>
        </p:nvPicPr>
        <p:blipFill>
          <a:blip r:embed="rId1"/>
          <a:stretch/>
        </p:blipFill>
        <p:spPr>
          <a:xfrm>
            <a:off x="214200" y="214200"/>
            <a:ext cx="3581640" cy="24289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760680" y="2857680"/>
            <a:ext cx="25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вартира Пушки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 Москве на Арб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357120" y="4000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 середины октября 1831 г. и уже до конца жизни Пушкин с семьей живет в Петербур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Последняя квартира А.С. Пушкина на Набережной Мойки, 12, в Петербурге."/>
          <p:cNvPicPr/>
          <p:nvPr/>
        </p:nvPicPr>
        <p:blipFill>
          <a:blip r:embed="rId2"/>
          <a:stretch/>
        </p:blipFill>
        <p:spPr>
          <a:xfrm>
            <a:off x="5143680" y="3357720"/>
            <a:ext cx="3539880" cy="22143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9"/>
          <p:cNvSpPr/>
          <p:nvPr/>
        </p:nvSpPr>
        <p:spPr>
          <a:xfrm>
            <a:off x="5468040" y="5643720"/>
            <a:ext cx="26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вартира Пушкин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етербург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абережной Мо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E:\новое\новое\pushkin_a_a.jpg"/>
          <p:cNvPicPr/>
          <p:nvPr/>
        </p:nvPicPr>
        <p:blipFill>
          <a:blip r:embed="rId1"/>
          <a:stretch/>
        </p:blipFill>
        <p:spPr>
          <a:xfrm>
            <a:off x="2571840" y="3786120"/>
            <a:ext cx="1942920" cy="2714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E:\новое\новое\pushkin_g_a.jpg"/>
          <p:cNvPicPr/>
          <p:nvPr/>
        </p:nvPicPr>
        <p:blipFill>
          <a:blip r:embed="rId2"/>
          <a:stretch/>
        </p:blipFill>
        <p:spPr>
          <a:xfrm>
            <a:off x="4857840" y="3759120"/>
            <a:ext cx="1762200" cy="2741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E:\новое\новое\pushkina_m_a.jpg"/>
          <p:cNvPicPr/>
          <p:nvPr/>
        </p:nvPicPr>
        <p:blipFill>
          <a:blip r:embed="rId3"/>
          <a:stretch/>
        </p:blipFill>
        <p:spPr>
          <a:xfrm>
            <a:off x="2500200" y="214200"/>
            <a:ext cx="2000520" cy="29512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7"/>
          <p:cNvSpPr/>
          <p:nvPr/>
        </p:nvSpPr>
        <p:spPr>
          <a:xfrm>
            <a:off x="214200" y="928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таршая доч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ария Александ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ушкин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2-1919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8"/>
          <p:cNvSpPr/>
          <p:nvPr/>
        </p:nvSpPr>
        <p:spPr>
          <a:xfrm>
            <a:off x="214200" y="4357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тарший сын Александр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3-1914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0"/>
          <p:cNvSpPr/>
          <p:nvPr/>
        </p:nvSpPr>
        <p:spPr>
          <a:xfrm>
            <a:off x="6715080" y="44290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ладший сын Григорий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5-1913г.)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E:\новое\новое\pushkina_n_a.jpg"/>
          <p:cNvPicPr/>
          <p:nvPr/>
        </p:nvPicPr>
        <p:blipFill>
          <a:blip r:embed="rId4"/>
          <a:stretch/>
        </p:blipFill>
        <p:spPr>
          <a:xfrm>
            <a:off x="4572000" y="357120"/>
            <a:ext cx="2127240" cy="271476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2"/>
          <p:cNvSpPr/>
          <p:nvPr/>
        </p:nvSpPr>
        <p:spPr>
          <a:xfrm>
            <a:off x="6786720" y="857160"/>
            <a:ext cx="21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ладшая дочь Наталья Александровна Пушкин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6-1913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373320" y="3357720"/>
            <a:ext cx="830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У А.С.Пушкина и Натальи Гончаровой было четверо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6920"/>
                            </p:stCondLst>
                            <p:childTnLst>
                              <p:par>
                                <p:cTn id="4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192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692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3"/>
          <p:cNvSpPr/>
          <p:nvPr/>
        </p:nvSpPr>
        <p:spPr>
          <a:xfrm>
            <a:off x="3643200" y="785880"/>
            <a:ext cx="500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ачале 1834 г. в Петербурге появился француз барон Дантес. Он влюбился в жену Пушкина и ст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 ней ухажи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Documents and Settings\Admin\Рабочий стол\Пушкин\dantes_h167.jpg"/>
          <p:cNvPicPr/>
          <p:nvPr/>
        </p:nvPicPr>
        <p:blipFill>
          <a:blip r:embed="rId1"/>
          <a:stretch/>
        </p:blipFill>
        <p:spPr>
          <a:xfrm>
            <a:off x="714240" y="357120"/>
            <a:ext cx="2571840" cy="28638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8"/>
          <p:cNvSpPr/>
          <p:nvPr/>
        </p:nvSpPr>
        <p:spPr>
          <a:xfrm>
            <a:off x="447840" y="3500280"/>
            <a:ext cx="35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Ж. Дантес-Геккерн. 183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214200" y="407196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8 февраля 1837 года, в 5-м часу вечера, на Черной речке в Петербурге состоялась роковая дуэль, на которой Пушкин был смертельно ран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C:\Documents and Settings\Admin\Рабочий стол\Пушкин\Duel_of_Pushlin_and_dAnthes_Naumov1850.jpg"/>
          <p:cNvPicPr/>
          <p:nvPr/>
        </p:nvPicPr>
        <p:blipFill>
          <a:blip r:embed="rId2"/>
          <a:stretch/>
        </p:blipFill>
        <p:spPr>
          <a:xfrm>
            <a:off x="4786200" y="3786120"/>
            <a:ext cx="40291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760"/>
                            </p:stCondLst>
                            <p:childTnLst>
                              <p:par>
                                <p:cTn id="4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8760"/>
                            </p:stCondLst>
                            <p:childTnLst>
                              <p:par>
                                <p:cTn id="4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332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4"/>
          <p:cNvSpPr/>
          <p:nvPr/>
        </p:nvSpPr>
        <p:spPr>
          <a:xfrm>
            <a:off x="5357880" y="428760"/>
            <a:ext cx="3429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ожив 2 д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в страшных мучения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ушкин сконча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10 февра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1837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"Солнце русской поэзии закатилось",- напис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В. Жуко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:\Documents and Settings\Admin\Рабочий стол\пушкин1\image001.jpg"/>
          <p:cNvPicPr/>
          <p:nvPr/>
        </p:nvPicPr>
        <p:blipFill>
          <a:blip r:embed="rId1"/>
          <a:stretch/>
        </p:blipFill>
        <p:spPr>
          <a:xfrm>
            <a:off x="214200" y="357120"/>
            <a:ext cx="506736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4" descr="071013144031.jpg"/>
          <p:cNvPicPr/>
          <p:nvPr/>
        </p:nvPicPr>
        <p:blipFill>
          <a:blip r:embed="rId1"/>
          <a:stretch/>
        </p:blipFill>
        <p:spPr>
          <a:xfrm>
            <a:off x="285840" y="714240"/>
            <a:ext cx="4873680" cy="5857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4989600" y="1714680"/>
            <a:ext cx="4011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Алексан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Сергееви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1799-18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4" descr="071013144031.jpg"/>
          <p:cNvPicPr/>
          <p:nvPr/>
        </p:nvPicPr>
        <p:blipFill>
          <a:blip r:embed="rId2"/>
          <a:stretch/>
        </p:blipFill>
        <p:spPr>
          <a:xfrm>
            <a:off x="285840" y="714240"/>
            <a:ext cx="4873680" cy="58579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071013144031.jpg"/>
          <p:cNvPicPr/>
          <p:nvPr/>
        </p:nvPicPr>
        <p:blipFill>
          <a:blip r:embed="rId3"/>
          <a:stretch/>
        </p:blipFill>
        <p:spPr>
          <a:xfrm>
            <a:off x="285840" y="714240"/>
            <a:ext cx="4944960" cy="58579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071013144031.jpg"/>
          <p:cNvPicPr/>
          <p:nvPr/>
        </p:nvPicPr>
        <p:blipFill>
          <a:blip r:embed="rId4"/>
          <a:stretch/>
        </p:blipFill>
        <p:spPr>
          <a:xfrm>
            <a:off x="285840" y="714240"/>
            <a:ext cx="4944960" cy="58579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071013144031.jpg"/>
          <p:cNvPicPr/>
          <p:nvPr/>
        </p:nvPicPr>
        <p:blipFill>
          <a:blip r:embed="rId5"/>
          <a:stretch/>
        </p:blipFill>
        <p:spPr>
          <a:xfrm>
            <a:off x="285840" y="714240"/>
            <a:ext cx="4944960" cy="5857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071013144031.jpg"/>
          <p:cNvPicPr/>
          <p:nvPr/>
        </p:nvPicPr>
        <p:blipFill>
          <a:blip r:embed="rId6"/>
          <a:stretch/>
        </p:blipFill>
        <p:spPr>
          <a:xfrm>
            <a:off x="285840" y="260280"/>
            <a:ext cx="4944960" cy="631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214200" y="285840"/>
            <a:ext cx="442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6 июня 1799 г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в Москве в дворянской помещичьей семье Пушкиных родился мальчик, которому суждено было стать одним из величайших поэтов Ро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pushkin_04.jpg"/>
          <p:cNvPicPr/>
          <p:nvPr/>
        </p:nvPicPr>
        <p:blipFill>
          <a:blip r:embed="rId1"/>
          <a:stretch/>
        </p:blipFill>
        <p:spPr>
          <a:xfrm>
            <a:off x="4770360" y="642960"/>
            <a:ext cx="4183200" cy="545292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4500720" y="6286680"/>
            <a:ext cx="45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ушкин-ребенок. 1800-1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pushkin_s_l.jpg"/>
          <p:cNvPicPr/>
          <p:nvPr/>
        </p:nvPicPr>
        <p:blipFill>
          <a:blip r:embed="rId1"/>
          <a:stretch/>
        </p:blipFill>
        <p:spPr>
          <a:xfrm>
            <a:off x="155520" y="571680"/>
            <a:ext cx="4324320" cy="542916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4357800" y="214200"/>
            <a:ext cx="45720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Отец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 u="sng">
                <a:solidFill>
                  <a:srgbClr val="000000"/>
                </a:solidFill>
                <a:uFillTx/>
                <a:latin typeface="Bookman Old Style"/>
              </a:rPr>
              <a:t>Сергей Львович</a:t>
            </a: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, небогатый помещик, человек образованный, хорошо знал литературу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был знаком со многими русскими писателями и сам немного писал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428760" y="61437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.Л. Пушкин. 18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pushkina_n_o.jpg"/>
          <p:cNvPicPr/>
          <p:nvPr/>
        </p:nvPicPr>
        <p:blipFill>
          <a:blip r:embed="rId1"/>
          <a:stretch/>
        </p:blipFill>
        <p:spPr>
          <a:xfrm>
            <a:off x="214200" y="285840"/>
            <a:ext cx="3452760" cy="387036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3786120" y="142920"/>
            <a:ext cx="52149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Мать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 u="sng">
                <a:solidFill>
                  <a:srgbClr val="000000"/>
                </a:solidFill>
                <a:uFillTx/>
                <a:latin typeface="Bookman Old Style"/>
              </a:rPr>
              <a:t>Надежда Осиповна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приходилась внучкой арапу Петра </a:t>
            </a:r>
            <a:r>
              <a:rPr b="0" i="1" lang="en-US" sz="31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впоследствии русскому генералу Ганнибалу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214200" y="4500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.О. Пушкина. 180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7" descr="gannibal_a_p.jpg"/>
          <p:cNvPicPr/>
          <p:nvPr/>
        </p:nvPicPr>
        <p:blipFill>
          <a:blip r:embed="rId2"/>
          <a:stretch/>
        </p:blipFill>
        <p:spPr>
          <a:xfrm>
            <a:off x="3786120" y="3071880"/>
            <a:ext cx="2571840" cy="321768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6215040" y="3571920"/>
            <a:ext cx="2714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адедуш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Абрам Петрович Ганниба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"Арап Петра Великого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3714840" y="62866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А.П. Ганниб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C:\Documents and Settings\Admin\Рабочий стол\Пушкин\pushkin_l_s.jpg"/>
          <p:cNvPicPr/>
          <p:nvPr/>
        </p:nvPicPr>
        <p:blipFill>
          <a:blip r:embed="rId1"/>
          <a:stretch/>
        </p:blipFill>
        <p:spPr>
          <a:xfrm>
            <a:off x="6000840" y="214200"/>
            <a:ext cx="2871720" cy="3714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Documents and Settings\Admin\Рабочий стол\Пушкин\pavlischeva_o_s.jpg"/>
          <p:cNvPicPr/>
          <p:nvPr/>
        </p:nvPicPr>
        <p:blipFill>
          <a:blip r:embed="rId2"/>
          <a:stretch/>
        </p:blipFill>
        <p:spPr>
          <a:xfrm>
            <a:off x="214200" y="214200"/>
            <a:ext cx="3114720" cy="357192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3214800" y="214200"/>
            <a:ext cx="285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етей в семье Пушкиных было трое. Старшая -Ольга,  второй  - Александр и младший – Лёвушка, любимец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C:\Documents and Settings\Admin\Рабочий стол\Пушкин\pushkin_11.jpg"/>
          <p:cNvPicPr/>
          <p:nvPr/>
        </p:nvPicPr>
        <p:blipFill>
          <a:blip r:embed="rId3"/>
          <a:stretch/>
        </p:blipFill>
        <p:spPr>
          <a:xfrm>
            <a:off x="3643200" y="3500280"/>
            <a:ext cx="1920960" cy="2743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354240" y="385776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льга Серг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6069960" y="4071960"/>
            <a:ext cx="27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е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2357280" y="614376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анд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C:\Documents and Settings\Admin\Рабочий стол\Пушкин\gannibal_m_a.jpg"/>
          <p:cNvPicPr/>
          <p:nvPr/>
        </p:nvPicPr>
        <p:blipFill>
          <a:blip r:embed="rId1"/>
          <a:stretch/>
        </p:blipFill>
        <p:spPr>
          <a:xfrm>
            <a:off x="785880" y="142920"/>
            <a:ext cx="2724120" cy="3808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Documents and Settings\Admin\Рабочий стол\пушкин1\arina.jpg"/>
          <p:cNvPicPr/>
          <p:nvPr/>
        </p:nvPicPr>
        <p:blipFill>
          <a:blip r:embed="rId2"/>
          <a:stretch/>
        </p:blipFill>
        <p:spPr>
          <a:xfrm>
            <a:off x="5500800" y="285840"/>
            <a:ext cx="2519280" cy="371484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142920" y="485784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юбовь к родному языку маленькому Пушкину привили бабушка, Мария Алексеевна Ганнибал, превосходно говорившая и писавшая по-русски, 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няня Арина Родионовн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503280" y="4000680"/>
            <a:ext cx="30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Ганниба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Мар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5424480" y="3929040"/>
            <a:ext cx="30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Яковле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р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одио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C:\Documents and Settings\Admin\Рабочий стол\Пушкин\180px-.jpg"/>
          <p:cNvPicPr/>
          <p:nvPr/>
        </p:nvPicPr>
        <p:blipFill>
          <a:blip r:embed="rId1"/>
          <a:stretch/>
        </p:blipFill>
        <p:spPr>
          <a:xfrm>
            <a:off x="214200" y="785880"/>
            <a:ext cx="3457800" cy="45720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7"/>
          <p:cNvSpPr/>
          <p:nvPr/>
        </p:nvSpPr>
        <p:spPr>
          <a:xfrm>
            <a:off x="3714840" y="214200"/>
            <a:ext cx="5214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В 12 лет Александр был отвезен учиться в новое, только что открывшее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19 октября 1811 г.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учебное заведение -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Царскосельский Лицей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под Петербургом, место, где располагалась летняя резиденция русских импера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slide0018_image066"/>
          <p:cNvPicPr/>
          <p:nvPr/>
        </p:nvPicPr>
        <p:blipFill>
          <a:blip r:embed="rId1"/>
          <a:stretch/>
        </p:blipFill>
        <p:spPr>
          <a:xfrm>
            <a:off x="214200" y="857160"/>
            <a:ext cx="3649680" cy="4572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slide0018_image068"/>
          <p:cNvPicPr/>
          <p:nvPr/>
        </p:nvPicPr>
        <p:blipFill>
          <a:blip r:embed="rId2"/>
          <a:stretch/>
        </p:blipFill>
        <p:spPr>
          <a:xfrm>
            <a:off x="4643280" y="857160"/>
            <a:ext cx="3714840" cy="27892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6"/>
          <p:cNvSpPr/>
          <p:nvPr/>
        </p:nvSpPr>
        <p:spPr>
          <a:xfrm>
            <a:off x="3857760" y="3857760"/>
            <a:ext cx="528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каждой комнате – железная кровать, комод, конторка, зеркало, стул, стол для умывания. На конторке чернильница и подсвечник со щипцами…»       И.И.Пущин. «Записки о Пушкин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1681920" y="214200"/>
            <a:ext cx="57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Комната Александра 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6:26:05Z</dcterms:created>
  <dc:creator>Admin</dc:creator>
  <dc:description/>
  <dc:language>en-US</dc:language>
  <cp:lastModifiedBy>admin</cp:lastModifiedBy>
  <cp:lastPrinted>2014-01-27T15:09:35Z</cp:lastPrinted>
  <dcterms:modified xsi:type="dcterms:W3CDTF">2019-12-14T16:24:33Z</dcterms:modified>
  <cp:revision>92</cp:revision>
  <dc:subject/>
  <dc:title>Слайд 1</dc:title>
</cp:coreProperties>
</file>